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9C7-774F-4921-A57B-19323F96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B36-B522-4514-90C4-19B54191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350-74E6-4C95-A783-3BCAF50E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4F0-1630-4FDE-84EB-E93096AB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BDAD-2F0F-4BBC-AEEF-BE3EF0E1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FAFA-54BA-4ADD-AC46-605D74E4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72AB-3D1B-431E-BA6A-473F402A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0021-E692-454F-BE41-8577A841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DE75-2A9E-4E7C-B4F4-7BD24D38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D0CE-4AE6-4A0D-9959-9C4E1461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EEB9-D022-43B5-8E79-CFB03A71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CDB-8225-4CF6-9B15-3945B5B7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3055-8EC1-4A36-8453-730F7C3C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CA92-B01D-4FBA-865A-23DBD068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497D-6667-4738-8721-7165C179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2602-5D54-47FC-B6A3-87577EC7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CD38-2560-4A48-9ED1-0C565E8C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37BD-2DE5-4285-A7B3-B0CCBE5E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AF3-49C7-411B-8090-39660C53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C07-8FD5-4D6E-8714-912B5A66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646-7C0E-4E61-8CEE-D16A7BCB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43F-24C9-4FFC-9764-3D48AAD6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92FF-B077-4E7C-8911-998E7AF0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2136-37C3-40CB-9453-E7BB8A58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E301-B706-4A83-9C14-C8F162A917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0813-1C0B-4DD1-901A-52DE8121A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b7"/>
                </a:solidFill>
                <a:latin typeface="Arial Black"/>
              </a:rPr>
              <a:t>Interés Compuesto, Capitalización Continu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Contin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 continu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828800" y="2452680"/>
                <a:ext cx="4724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∗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5120" y="4648320"/>
                <a:ext cx="434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é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quivalencia de tasa anual y tasa men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81080" y="4343400"/>
                <a:ext cx="54864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, Capitalización Discre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52480" y="4495680"/>
                <a:ext cx="46483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38080" y="5334120"/>
            <a:ext cx="7405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905120"/>
            <a:ext cx="79246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Discre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ac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2480" y="2422440"/>
                <a:ext cx="5257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Loreto Tamblay</cp:lastModifiedBy>
  <dcterms:modified xsi:type="dcterms:W3CDTF">2004-08-17T05:18:35Z</dcterms:modified>
  <cp:revision>22</cp:revision>
  <dc:subject>Evaluación de Proyectos</dc:subject>
  <dc:title>Auxiliar Nº 2</dc:title>
</cp:coreProperties>
</file>