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69E-B177-4DE3-BAF7-BD7EA5FC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DE2-DE23-47AE-8F44-F14E18E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851-6816-47F9-ADAF-8D7B8B03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86E-9CD8-4440-B07B-25C3B8E7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00C-AD20-4096-ADDF-57BA33B6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B7CB-EA6E-4642-97CF-33B4B44E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5189-4754-4F2D-9519-7FFA71AA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90F-24F4-437C-B320-479B45BB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A752-1F4A-47AB-B090-6382AEC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D93-9ECE-4BD3-BA52-64F30105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C6D5-5A69-4FE9-BD92-B210EB1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A63-8B8E-4C43-9BB8-FA400B1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C4AA-0FF3-47DD-B2AA-69AAF2EB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5B9E-743A-4363-A9E1-FFFDA521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28C6-D687-4B80-98B3-08546D14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8EAE-C669-4ADB-BDCB-F559D61F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B57F-E4A7-4EBF-B370-71E41895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B1E-1196-4B8E-A433-9CA50DC3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B3C-E652-4C08-895B-2D44FCC5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59C-8BB5-4E97-B06B-BEC1290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763-5783-4E01-A6AB-7FC666EB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8CA-D856-4E4A-BFBC-12E3A6A1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C88-04DC-4C73-8E59-BE106EA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E2D-0EEC-411E-B0C1-9806433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73080"/>
            <a:ext cx="496800" cy="1450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15228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066680"/>
            <a:ext cx="1474920" cy="33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21932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700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ddddd"/>
                </a:solidFill>
                <a:latin typeface="Arial Narrow"/>
              </a:rPr>
              <a:t>IN42A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EA14-887A-4507-BB0C-F177BB3E63B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5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5F6-EC2D-457D-B442-94C8D98D91A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1045800"/>
            <a:ext cx="7723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99"/>
                </a:solidFill>
                <a:latin typeface="Arial Narrow"/>
              </a:rPr>
              <a:t>IV. INDICADORES DE EVALUACIÓN DE PROYECTOS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Beneficio Anual Uniforme Equivalente (B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na posibilidad para comparar proyectos repetibles de diferente vida útil, es recurrir al Factor de Recuperación del Capital y distribuir el VAN de cada proyecto con la tasa de costo de oportunidad del dinero en N cuotas iguales, siendo N el número de períodos de vida útil de cada proyec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B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mayor BAUE (siempre que los proyectos tengan el mismo riesgo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57520" y="54165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UE = VAN(N,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21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3800" y="5181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 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680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62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8280" y="54039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* VAN(N,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105520"/>
            <a:ext cx="7924680" cy="121896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Costo Anual Uniforme Equivalente (C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 algunas ocasiones se presentan proyectos repetibles que producen los mismos ingresos y difieren entre sí sólo en los costos de inversión y operación. En este caso conviene distribuir el valor presente de los costos en N cuotas igual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el menor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24920" y="4648320"/>
            <a:ext cx="5350320" cy="1069200"/>
            <a:chOff x="1924920" y="4648320"/>
            <a:chExt cx="5350320" cy="1069200"/>
          </a:xfrm>
        </p:grpSpPr>
        <p:sp>
          <p:nvSpPr>
            <p:cNvPr id="363" name=""/>
            <p:cNvSpPr/>
            <p:nvPr/>
          </p:nvSpPr>
          <p:spPr>
            <a:xfrm>
              <a:off x="1924920" y="5035320"/>
              <a:ext cx="354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UE = VA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COSTO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98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800" y="48006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 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4440" y="525780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520" y="52578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00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Indicadores de Evaluación de Inversion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Presente Neto(VP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Tasa interna de Retorno(T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eríodo de Recuperación de Capital(PR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ntabilidad Contable Media(RCM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Índice de rentabilidad(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Económico Agregado (EVA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Beneficio Anual Uniforme Equivalente(B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Costo Anual Uniforme Equivalente(C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1. Valor Presente Neto (VPN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5920" y="1905120"/>
            <a:ext cx="3612960" cy="1180440"/>
            <a:chOff x="2365920" y="1905120"/>
            <a:chExt cx="3612960" cy="1180440"/>
          </a:xfrm>
        </p:grpSpPr>
        <p:sp>
          <p:nvSpPr>
            <p:cNvPr id="293" name=""/>
            <p:cNvSpPr/>
            <p:nvPr/>
          </p:nvSpPr>
          <p:spPr>
            <a:xfrm>
              <a:off x="2365920" y="227988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VP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80800" y="2249640"/>
              <a:ext cx="209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F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/ (1+ r)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95840" y="26258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680" y="19051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1905120"/>
            <a:ext cx="5257800" cy="1143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1676520"/>
            <a:ext cx="2743200" cy="1371600"/>
          </a:xfrm>
          <a:prstGeom prst="wedgeEllipseCallout">
            <a:avLst>
              <a:gd name="adj1" fmla="val -63194"/>
              <a:gd name="adj2" fmla="val 299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l VPN depende del FC y la tasa de ds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57600"/>
            <a:ext cx="7467840" cy="25146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99"/>
                </a:solidFill>
                <a:uFillTx/>
                <a:latin typeface="Arial Narrow"/>
              </a:rPr>
              <a:t>Criterio de deci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gt; 0: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= 0: In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lt; 0: No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 TIR trata de medir la rentabilidad de un proyecto o activo. Representa la rentabilidad media intrínseca del proyecto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 define la tasa interna de retorno como aquella que hace que el valor presente neto sea igual a cer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724280"/>
            <a:ext cx="77724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La regla de decisión consiste en aceptar proyectos cuya TIR sea mayor que el costo de capital para activos del mismo nivel de riesgo: TIR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80120" y="3048120"/>
            <a:ext cx="4741920" cy="1180440"/>
            <a:chOff x="1680120" y="3048120"/>
            <a:chExt cx="4741920" cy="1180440"/>
          </a:xfrm>
        </p:grpSpPr>
        <p:sp>
          <p:nvSpPr>
            <p:cNvPr id="304" name=""/>
            <p:cNvSpPr/>
            <p:nvPr/>
          </p:nvSpPr>
          <p:spPr>
            <a:xfrm>
              <a:off x="1680120" y="3422880"/>
              <a:ext cx="12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97520" y="3387960"/>
              <a:ext cx="322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TI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705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971800"/>
            <a:ext cx="579132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 TI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últiples TI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estar o endeudar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mutuamente excluyen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de distinta vida úti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mbio del costo del capital en el tiemp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3. Período de recuperación del capital (Payback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iene la ventaja de ser un método muy simple, y tener una consideración básica del riesgo: a menor payback, menor riesg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529000" y="2479680"/>
            <a:ext cx="141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67800" y="2400480"/>
            <a:ext cx="1436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3560" y="29019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800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7720" y="358128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N: 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467480" cy="2286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Indicadores para Proyectos Repetibl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 ocasiones los inversionistas se ven enfrentados a proyectos que se pueden repetir periódica e indefinidamente. Es decir, al cabo de la vida útil del mismo es posible repetir la inversión y obtener los mismos flujos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problema que surge es cómo proceder en la comparación de dos o más proyectos con diferentes vidas útiles, en donde al menos uno de ellos es repetib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mos a analizar tres indicadores, que son derivaciones del VP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pongamos que nos enfrentamos a un proyecto repetible que requiere una inversión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y que genera N flujos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l VAN de efectuar por una vez este proyecto que dura N períodos 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Si queremos comparar este proyecto repetible con otro no repetible, o con uno repetible pero con distinta vida útil, debemos calcular el VAN de los flujos de los sucesivos proyectos, hasta el infini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833480" y="3048120"/>
            <a:ext cx="4478400" cy="1180440"/>
            <a:chOff x="1833480" y="3048120"/>
            <a:chExt cx="4478400" cy="1180440"/>
          </a:xfrm>
        </p:grpSpPr>
        <p:sp>
          <p:nvSpPr>
            <p:cNvPr id="324" name=""/>
            <p:cNvSpPr/>
            <p:nvPr/>
          </p:nvSpPr>
          <p:spPr>
            <a:xfrm>
              <a:off x="1833480" y="342252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(N, 1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6440" y="3387600"/>
              <a:ext cx="230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8016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ueg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mando el límite cuando n tiend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reemplazar U y desarrolla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08360" y="2362320"/>
            <a:ext cx="4437720" cy="916920"/>
            <a:chOff x="1008360" y="2362320"/>
            <a:chExt cx="4437720" cy="916920"/>
          </a:xfrm>
        </p:grpSpPr>
        <p:sp>
          <p:nvSpPr>
            <p:cNvPr id="332" name=""/>
            <p:cNvSpPr/>
            <p:nvPr/>
          </p:nvSpPr>
          <p:spPr>
            <a:xfrm>
              <a:off x="1008360" y="2368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n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5760" y="236232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 [1- U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+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5280" y="281952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34080" y="45450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3080" y="3657600"/>
            <a:ext cx="5548680" cy="916920"/>
            <a:chOff x="1063080" y="3657600"/>
            <a:chExt cx="5548680" cy="916920"/>
          </a:xfrm>
        </p:grpSpPr>
        <p:sp>
          <p:nvSpPr>
            <p:cNvPr id="337" name=""/>
            <p:cNvSpPr/>
            <p:nvPr/>
          </p:nvSpPr>
          <p:spPr>
            <a:xfrm>
              <a:off x="1063080" y="381456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lim VAN(N, n) = 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657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2040" y="411480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16480" y="4119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368720" y="4724280"/>
            <a:ext cx="5136120" cy="1075680"/>
            <a:chOff x="1368720" y="4724280"/>
            <a:chExt cx="5136120" cy="1075680"/>
          </a:xfrm>
        </p:grpSpPr>
        <p:sp>
          <p:nvSpPr>
            <p:cNvPr id="342" name=""/>
            <p:cNvSpPr/>
            <p:nvPr/>
          </p:nvSpPr>
          <p:spPr>
            <a:xfrm>
              <a:off x="1368720" y="5116320"/>
              <a:ext cx="28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 VAN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65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7480" y="488304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19760" y="53402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344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67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43000" y="4800600"/>
            <a:ext cx="609588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3733920"/>
            <a:ext cx="19810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rite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VAN(N,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3:22:38Z</dcterms:created>
  <dc:creator>vdos</dc:creator>
  <dc:description/>
  <dc:language>en-US</dc:language>
  <cp:lastModifiedBy>dii</cp:lastModifiedBy>
  <dcterms:modified xsi:type="dcterms:W3CDTF">2004-08-23T15:00:07Z</dcterms:modified>
  <cp:revision>84</cp:revision>
  <dc:subject/>
  <dc:title>I.FORMULACIÓN DE PROYECTOS</dc:title>
</cp:coreProperties>
</file>