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18E5-EB7D-4E85-AB57-78B21ECF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09640" y="3948480"/>
            <a:ext cx="79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77D4-3B87-47E3-92ED-9AE95C3C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0964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88736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6327-81AD-46D4-969C-57431180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00280" y="160020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90920" y="160020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09640" y="394848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00280" y="394848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90920" y="394848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DF47-30C4-4586-AE0F-7C35B9874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2E7B-870A-45A7-BBD3-B8971A3F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8918-EB5A-4362-9173-D6C84856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E496-6780-44CB-962F-F41027D0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B4E2-9D84-4CC5-937D-A7542CE7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293E-DC2B-4F50-8F3B-08B00FC7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9197-87DE-4970-B5E4-1EF3A652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0964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207B-EA1D-49DF-97FF-2F9C7DAB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72A9-9257-478A-A2E0-E2202C46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88736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09C3-0DCA-45B6-80C2-9A1CD10B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09640" y="3948480"/>
            <a:ext cx="79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7351-033F-4E15-BAAE-B466A4A4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809640" y="3948480"/>
            <a:ext cx="79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82CD-EA50-420E-B155-47612595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0964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88736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CC1B-27D8-49A4-A11E-E29A1376B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00280" y="160020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90920" y="160020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809640" y="394848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500280" y="394848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190920" y="394848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07A1-23CA-400F-85CB-102FEFD5E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57C9-FEA7-4D1F-A54D-82622A22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2F67-1FA1-4255-AEBC-734EE809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8BC3-98DD-4620-97F1-160D5ECA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BDF7-E4B6-42D0-BAAA-8D6604B7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0964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76F5-D66C-4756-A436-DAC4D2EB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88736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C7D8-20EE-4E4E-AD54-5D55F338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9640" y="3948480"/>
            <a:ext cx="79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D54C-4398-43BE-9F74-9D0E64D5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647640" cy="6713280"/>
            <a:chOff x="0" y="68400"/>
            <a:chExt cx="647640" cy="6713280"/>
          </a:xfrm>
        </p:grpSpPr>
        <p:sp>
          <p:nvSpPr>
            <p:cNvPr id="1" name=""/>
            <p:cNvSpPr/>
            <p:nvPr/>
          </p:nvSpPr>
          <p:spPr>
            <a:xfrm>
              <a:off x="0" y="667224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72948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678168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52932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45336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60096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581976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577692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638172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18156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60530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34824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58532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593892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625320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0" y="621972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557208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562932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0" y="568152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0" y="542916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535320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0" y="550080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0" y="471960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0" y="46767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528156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508176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495288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0" y="524844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0" y="475308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0" y="483876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0" y="515304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0" y="511956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449424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436572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42512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0" y="456552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0" y="453240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0" y="405432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0" y="41115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0" y="416412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391176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0" y="38354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8304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376380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356400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73068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63528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360216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38148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4383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49092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3856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31622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30984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52900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861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09096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89080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276228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305748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256212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264780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296244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292896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228132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23385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239076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13840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220968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161280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15699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197496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18464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164628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173196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204624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201312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136512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14223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147492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122220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129384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113976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10256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82872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8859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93816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8580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0948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75708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53820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50472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0968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1124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6840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4436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2300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3207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884160" y="73080"/>
            <a:ext cx="496800" cy="14508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5040" y="152280"/>
            <a:ext cx="5662440" cy="7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00800" y="1066680"/>
            <a:ext cx="1474920" cy="3384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52960" y="1219320"/>
            <a:ext cx="5662440" cy="7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428840" indent="-228600">
              <a:spcBef>
                <a:spcPts val="700"/>
              </a:spcBef>
              <a:buClr>
                <a:srgbClr val="ffff99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1771560" indent="-22860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ddddd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ddddd"/>
                </a:solidFill>
                <a:latin typeface="Arial Narrow"/>
              </a:rPr>
              <a:t>IN42A  Primavera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DCE9-51CA-4E37-B4A0-25D9785B999E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5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7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E4F1-0610-49B9-84FC-1FEC8F1A99B5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49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algn="ctr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200240" algn="ctr">
              <a:spcBef>
                <a:spcPts val="451"/>
              </a:spcBef>
              <a:buClr>
                <a:srgbClr val="ffff99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1542960" algn="ctr">
              <a:spcBef>
                <a:spcPts val="400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5" marL="154296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6" marL="154296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1045800"/>
            <a:ext cx="772308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99"/>
                </a:solidFill>
                <a:latin typeface="Arial Narrow"/>
              </a:rPr>
              <a:t>IV. INDICADORES DE EVALUACIÓN DE PROYECTOS</a:t>
            </a:r>
            <a:endParaRPr b="1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Beneficio Anual Uniforme Equivalente (BAUE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-1472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Una posibilidad para comparar proyectos repetibles de diferente vida útil, es recurrir al Factor de Recuperación del Capital y distribuir el VAN de cada proyecto con la tasa de costo de oportunidad del dinero en N cuotas iguales, siendo N el número de períodos de vida útil de cada proyecto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47240" indent="-1472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La cuota así determinada se denomina BAU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47240" indent="-1472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 Narrow"/>
              </a:rPr>
              <a:t>El criterio es elegir el proyecto con mayor BAUE (siempre que los proyectos tengan el mismo riesgo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2" name=""/>
          <p:cNvSpPr/>
          <p:nvPr/>
        </p:nvSpPr>
        <p:spPr>
          <a:xfrm>
            <a:off x="1757520" y="5416560"/>
            <a:ext cx="28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AUE = VAN(N, 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02160" y="502920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Times New Roman"/>
              </a:rPr>
              <a:t>[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23800" y="518148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 (1+r)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906800" y="563868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1+r)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862520" y="5638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02360" y="502920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398280" y="540396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 r* VAN(N,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14400" y="5105520"/>
            <a:ext cx="7924680" cy="1218960"/>
          </a:xfrm>
          <a:prstGeom prst="rect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Costo Anual Uniforme Equivalente (CAUE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-1677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En algunas ocasiones se presentan proyectos repetibles que producen los mismos ingresos y difieren entre sí sólo en los costos de inversión y operación. En este caso conviene distribuir el valor presente de los costos en N cuotas igual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7760" indent="-1677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La cuota así determinada se denomina CAU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7760" indent="-1677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 Narrow"/>
              </a:rPr>
              <a:t>El criterio es elegir el proyecto con el menor CAU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924920" y="4648320"/>
            <a:ext cx="5350320" cy="1069200"/>
            <a:chOff x="1924920" y="4648320"/>
            <a:chExt cx="5350320" cy="1069200"/>
          </a:xfrm>
        </p:grpSpPr>
        <p:sp>
          <p:nvSpPr>
            <p:cNvPr id="363" name=""/>
            <p:cNvSpPr/>
            <p:nvPr/>
          </p:nvSpPr>
          <p:spPr>
            <a:xfrm>
              <a:off x="1924920" y="5035320"/>
              <a:ext cx="354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CAUE = VAN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COSTOS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N, 1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239800" y="4648320"/>
              <a:ext cx="435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61800" y="4800600"/>
              <a:ext cx="11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 (1+r)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644440" y="5257800"/>
              <a:ext cx="127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1+r)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600520" y="5257800"/>
              <a:ext cx="129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840000" y="4648320"/>
              <a:ext cx="435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99"/>
                </a:solidFill>
                <a:latin typeface="Arial Narrow"/>
              </a:rPr>
              <a:t>Indicadores de Evaluación de Inversiones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Valor Presente Neto(VPN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Tasa interna de Retorno(TIR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Período de Recuperación de Capital(PRC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Rentabilidad Contable Media(RCM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Índice de rentabilidad(IR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Valor Económico Agregado (EVA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Beneficio Anual Uniforme Equivalente(BAUE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Costo Anual Uniforme Equivalente(CAUE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99"/>
                </a:solidFill>
                <a:latin typeface="Arial Narrow"/>
              </a:rPr>
              <a:t>1. Valor Presente Neto (VPN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365920" y="1905120"/>
            <a:ext cx="3612960" cy="1180440"/>
            <a:chOff x="2365920" y="1905120"/>
            <a:chExt cx="3612960" cy="1180440"/>
          </a:xfrm>
        </p:grpSpPr>
        <p:sp>
          <p:nvSpPr>
            <p:cNvPr id="293" name=""/>
            <p:cNvSpPr/>
            <p:nvPr/>
          </p:nvSpPr>
          <p:spPr>
            <a:xfrm>
              <a:off x="2365920" y="2279880"/>
              <a:ext cx="102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VPN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80800" y="2249640"/>
              <a:ext cx="2098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FC</a:t>
              </a:r>
              <a:r>
                <a:rPr b="1" lang="es-ES_tradnl" sz="2800" spc="-1" strike="noStrike" baseline="-25000">
                  <a:solidFill>
                    <a:srgbClr val="000000"/>
                  </a:solidFill>
                  <a:latin typeface="Arial Narrow"/>
                </a:rPr>
                <a:t>t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 / (1+ r)</a:t>
              </a:r>
              <a:r>
                <a:rPr b="1" lang="es-ES_tradnl" sz="2800" spc="-1" strike="noStrike" baseline="30000">
                  <a:solidFill>
                    <a:srgbClr val="000000"/>
                  </a:solidFill>
                  <a:latin typeface="Arial Narrow"/>
                </a:rPr>
                <a:t>t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795840" y="262584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t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56680" y="1905120"/>
              <a:ext cx="3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1523880" y="1905120"/>
            <a:ext cx="5257800" cy="1143000"/>
          </a:xfrm>
          <a:prstGeom prst="rect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00800" y="1676520"/>
            <a:ext cx="2743200" cy="1371600"/>
          </a:xfrm>
          <a:prstGeom prst="wedgeEllipseCallout">
            <a:avLst>
              <a:gd name="adj1" fmla="val -63194"/>
              <a:gd name="adj2" fmla="val 29976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El VPN depende del FC y la tasa de ds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38080" y="3657600"/>
            <a:ext cx="7467840" cy="2514600"/>
          </a:xfrm>
          <a:prstGeom prst="roundRect">
            <a:avLst>
              <a:gd name="adj" fmla="val 16667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99"/>
                </a:solidFill>
                <a:uFillTx/>
                <a:latin typeface="Arial Narrow"/>
              </a:rPr>
              <a:t>Criterio de decis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Arial Narrow"/>
              </a:rPr>
              <a:t>VPN &gt; 0: Conviene hacer el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Arial Narrow"/>
              </a:rPr>
              <a:t>VPN = 0: Indifer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Arial Narrow"/>
              </a:rPr>
              <a:t>VPN &lt; 0: No conviene hacer el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809640" y="1600200"/>
            <a:ext cx="795816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La TIR trata de medir la rentabilidad de un proyecto o activo. Representa la rentabilidad media intrínseca del proyecto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Se define la tasa interna de retorno como aquella que hace que el valor presente neto sea igual a cero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2. Tasa Interna de Retorno (TIR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02" name=""/>
          <p:cNvSpPr/>
          <p:nvPr/>
        </p:nvSpPr>
        <p:spPr>
          <a:xfrm>
            <a:off x="990720" y="4724280"/>
            <a:ext cx="7772400" cy="1219320"/>
          </a:xfrm>
          <a:prstGeom prst="rect">
            <a:avLst/>
          </a:prstGeom>
          <a:solidFill>
            <a:srgbClr val="ffff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 Narrow"/>
              </a:rPr>
              <a:t>La regla de decisión consiste en aceptar proyectos cuya TIR sea mayor que el costo de capital para activos del mismo nivel de riesgo: TIR &gt;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680120" y="3048120"/>
            <a:ext cx="4741920" cy="1180440"/>
            <a:chOff x="1680120" y="3048120"/>
            <a:chExt cx="4741920" cy="1180440"/>
          </a:xfrm>
        </p:grpSpPr>
        <p:sp>
          <p:nvSpPr>
            <p:cNvPr id="304" name=""/>
            <p:cNvSpPr/>
            <p:nvPr/>
          </p:nvSpPr>
          <p:spPr>
            <a:xfrm>
              <a:off x="1680120" y="3422880"/>
              <a:ext cx="123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VAN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97520" y="3387960"/>
              <a:ext cx="3224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FC</a:t>
              </a:r>
              <a:r>
                <a:rPr b="0" lang="es-ES_tradnl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 / (1+ TIR)</a:t>
              </a:r>
              <a:r>
                <a:rPr b="0" lang="es-ES_tradnl" sz="28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108600" y="376884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17052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1295280" y="2971800"/>
            <a:ext cx="5791320" cy="1371600"/>
          </a:xfrm>
          <a:prstGeom prst="rect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809640" y="1600200"/>
            <a:ext cx="795816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marL="889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Problemas de la TIR: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Múltiples TIR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Prestar o endeudars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Proyectos mutuamente excluyent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Proyectos de distinta vida úti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Cambio del costo del capital en el tiempo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2. Tasa Interna de Retorno (TIR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3. Período de recuperación del capital (Payback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iene la ventaja de ser un método muy simple, y tener una consideración básica del riesgo: a menor payback, menor riesgo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3" name=""/>
          <p:cNvSpPr/>
          <p:nvPr/>
        </p:nvSpPr>
        <p:spPr>
          <a:xfrm>
            <a:off x="2529000" y="2479680"/>
            <a:ext cx="1416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 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267800" y="2400480"/>
            <a:ext cx="14367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FC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183560" y="2901960"/>
            <a:ext cx="7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248000" y="2057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97720" y="3581280"/>
            <a:ext cx="657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onde N: período de recuperación del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2133720"/>
            <a:ext cx="7467480" cy="2286000"/>
          </a:xfrm>
          <a:prstGeom prst="rect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Indicadores para Proyectos Repetibles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-13356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En ocasiones los inversionistas se ven enfrentados a proyectos que se pueden repetir periódica e indefinidamente. Es decir, al cabo de la vida útil del mismo es posible repetir la inversión y obtener los mismos flujos.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33560" indent="-13356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El problema que surge es cómo proceder en la comparación de dos o más proyectos con diferentes vidas útiles, en donde al menos uno de ellos es repetible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33560" indent="-13356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Vamos a analizar tres indicadores, que son derivaciones del VPN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VAN compuesto (o al infinito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Supongamos que nos enfrentamos a un proyecto repetible que requiere una inversión F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 Narrow"/>
              </a:rPr>
              <a:t>0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y que genera N flujos F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 Narrow"/>
              </a:rPr>
              <a:t>t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09440" indent="-1094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El VAN de efectuar por una vez este proyecto que dura N períodos es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09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09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09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09440" indent="-1094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 Narrow"/>
              </a:rPr>
              <a:t>Si queremos comparar este proyecto repetible con otro no repetible, o con uno repetible pero con distinta vida útil, debemos calcular el VAN de los flujos de los sucesivos proyectos, hasta el infinito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833480" y="3048120"/>
            <a:ext cx="4478400" cy="1180440"/>
            <a:chOff x="1833480" y="3048120"/>
            <a:chExt cx="4478400" cy="1180440"/>
          </a:xfrm>
        </p:grpSpPr>
        <p:sp>
          <p:nvSpPr>
            <p:cNvPr id="324" name=""/>
            <p:cNvSpPr/>
            <p:nvPr/>
          </p:nvSpPr>
          <p:spPr>
            <a:xfrm>
              <a:off x="1833480" y="3422520"/>
              <a:ext cx="208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VAN(N, 1)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006440" y="3387600"/>
              <a:ext cx="2305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FC</a:t>
              </a:r>
              <a:r>
                <a:rPr b="0" lang="es-ES_tradnl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 / (1+ r)</a:t>
              </a:r>
              <a:r>
                <a:rPr b="0" lang="es-ES_tradnl" sz="28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918600" y="376884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8016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VAN compuesto (o al infinito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8000"/>
          </a:bodyPr>
          <a:p>
            <a:pPr marL="95760" indent="-9576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Luego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9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9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9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95760" indent="-9576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omando el límite cuando n tiende a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9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9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95760" indent="-9576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Al reemplazar U y desarrollar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"/>
          <p:cNvSpPr/>
          <p:nvPr/>
        </p:nvSpPr>
        <p:spPr>
          <a:xfrm>
            <a:off x="4267080" y="28195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008360" y="2362320"/>
            <a:ext cx="4437720" cy="916920"/>
            <a:chOff x="1008360" y="2362320"/>
            <a:chExt cx="4437720" cy="916920"/>
          </a:xfrm>
        </p:grpSpPr>
        <p:sp>
          <p:nvSpPr>
            <p:cNvPr id="332" name=""/>
            <p:cNvSpPr/>
            <p:nvPr/>
          </p:nvSpPr>
          <p:spPr>
            <a:xfrm>
              <a:off x="1008360" y="2368800"/>
              <a:ext cx="156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VAN(N, n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065760" y="2362320"/>
              <a:ext cx="229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VAN(N, 1) [1- U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Arial Narrow"/>
                </a:rPr>
                <a:t>n+1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625280" y="2819520"/>
              <a:ext cx="82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[1- U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234080" y="4545000"/>
            <a:ext cx="6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063080" y="3657600"/>
            <a:ext cx="5548680" cy="916920"/>
            <a:chOff x="1063080" y="3657600"/>
            <a:chExt cx="5548680" cy="916920"/>
          </a:xfrm>
        </p:grpSpPr>
        <p:sp>
          <p:nvSpPr>
            <p:cNvPr id="337" name=""/>
            <p:cNvSpPr/>
            <p:nvPr/>
          </p:nvSpPr>
          <p:spPr>
            <a:xfrm>
              <a:off x="1063080" y="3814560"/>
              <a:ext cx="345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lim VAN(N, n) = VAN(N,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92280" y="3657600"/>
              <a:ext cx="13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VAN(N, 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22040" y="4114800"/>
              <a:ext cx="82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[1- U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316480" y="41194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368720" y="4724280"/>
            <a:ext cx="5136120" cy="1075680"/>
            <a:chOff x="1368720" y="4724280"/>
            <a:chExt cx="5136120" cy="1075680"/>
          </a:xfrm>
        </p:grpSpPr>
        <p:sp>
          <p:nvSpPr>
            <p:cNvPr id="342" name=""/>
            <p:cNvSpPr/>
            <p:nvPr/>
          </p:nvSpPr>
          <p:spPr>
            <a:xfrm>
              <a:off x="1368720" y="5116320"/>
              <a:ext cx="28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VAN(N,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) = VAN(N, 1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16560" y="4724280"/>
              <a:ext cx="388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0" spc="-1" strike="noStrike">
                  <a:solidFill>
                    <a:srgbClr val="000000"/>
                  </a:solidFill>
                  <a:latin typeface="Arial Narrow"/>
                </a:rPr>
                <a:t>[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37480" y="4883040"/>
              <a:ext cx="83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(1+r)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Arial Narrow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919760" y="5340240"/>
              <a:ext cx="109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(1+r)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Arial Narrow"/>
                </a:rPr>
                <a:t>N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920" y="5344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16760" y="4724280"/>
              <a:ext cx="388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0" spc="-1" strike="noStrike">
                  <a:solidFill>
                    <a:srgbClr val="000000"/>
                  </a:solidFill>
                  <a:latin typeface="Arial Narrow"/>
                </a:rPr>
                <a:t>]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1143000" y="4800600"/>
            <a:ext cx="6095880" cy="1371600"/>
          </a:xfrm>
          <a:prstGeom prst="rect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162920" y="3733920"/>
            <a:ext cx="1981080" cy="838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Criter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 Narrow"/>
              </a:rPr>
              <a:t>VAN(N,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</a:t>
            </a:r>
            <a:r>
              <a:rPr b="1" lang="es-ES_tradnl" sz="2400" spc="-1" strike="noStrike">
                <a:solidFill>
                  <a:srgbClr val="ffffcc"/>
                </a:solidFill>
                <a:latin typeface="Arial Narrow"/>
              </a:rPr>
              <a:t>)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3:22:38Z</dcterms:created>
  <dc:creator>vdos</dc:creator>
  <dc:description/>
  <dc:language>en-US</dc:language>
  <cp:lastModifiedBy>dii</cp:lastModifiedBy>
  <dcterms:modified xsi:type="dcterms:W3CDTF">2004-08-23T15:00:07Z</dcterms:modified>
  <cp:revision>84</cp:revision>
  <dc:subject/>
  <dc:title>I.FORMULACIÓN DE PROYECTOS</dc:title>
</cp:coreProperties>
</file>