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08716-C8B0-41DA-B4E3-06A546EC2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AC0BB-2F0F-42D0-AFEA-52227C2F6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F60B9-9E9F-40C6-AF6C-7D1E9A847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5D5A6-964B-4C76-B392-9D8BDFE0E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206D1-B4B9-425E-A452-DF3944CF0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FE4AC-A036-4A80-975A-23BFB6F1B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0E18A-110C-496A-9C8C-E09CFEEFE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623C6-5739-427E-AD1F-84DF6F583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7654A-8CE0-4DD3-BDAD-E1029E1FF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9FBAB-2723-4493-A4B8-F65E2E884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1E2BB-7C00-45BF-8B6A-5BD979F1F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B9470-8E1F-40FE-A435-0F60C9B2E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3A9A-8DD6-468F-AFCB-46FB28805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Andrés Kettlun</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E1E968-027E-490C-9E66-F974D667519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BA31042-D8F7-4D4E-9549-ABE9647D89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31C522DB-60BC-419A-8095-528FC9239D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C39A958-168E-40D0-B0FA-614EB5B649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EA81C64-4931-4A50-AC71-408A7DCEB9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B3058F5-FB7B-410D-95EE-F73D3ECF5E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D34C4F-7AEF-498D-BA0B-7B78DC32FB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E7AC3006-F6C0-44CB-872B-F436621937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71261B5-7FF2-4193-ABB7-872CBFD2EC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5235C0A8-922E-4C19-8478-C662631D93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F240FFF-F6AB-4C37-A90E-2E7E32FB7C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DDF4A8-7B8E-4BE7-8861-244E11C6948E}"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3B31A04-E42C-478C-9F8B-D2C99A652A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82F232-F57F-4500-9302-9FD23189A4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AACE67-A9C7-4DCF-B03C-BC0778F941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77C2DD-2644-4DC4-B1C6-AD11D1FC11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4CDE835-03F1-447B-910B-E72AF7CA20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24E103B6-147F-4D27-9F7D-868F6BBF43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44CACB2F-B654-4509-9C04-68B4D81936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BE4E48-84EE-493D-89CD-F2174AE33D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D4220B8-4738-46C6-8200-4A3488D2A0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457200"/>
            <a:ext cx="7772400" cy="59436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e convendrá cortar los árboles para vender la madera o tal vez le conviene más vender el bosque a otra persona para que ésta lo corte más adelante?</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e cobrará un precio igual al que podría obtener la persona si corta el bosque (VB6=167,69) sería un buen negocio para el comprador, ya que después podría venderlo al final del año 8 en 191,98 (su mejor opción); obteniendo con ello una rentabilidad de 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2209680" y="520704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
        <p:nvSpPr>
          <p:cNvPr id="2" name="PlaceHolder 1"/>
          <p:cNvSpPr>
            <a:spLocks noGrp="1"/>
          </p:cNvSpPr>
          <p:nvPr>
            <p:ph type="sldNum" idx="3"/>
          </p:nvPr>
        </p:nvSpPr>
        <p:spPr/>
        <p:txBody>
          <a:bodyPr/>
          <a:p>
            <a:fld id="{73AE2EA2-E5CB-4559-A921-4E49700F10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B73A89-061B-4F0C-A699-4D8562B032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60199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osto de oportunidad del dinero del comprador es 5%, entonces el precio de venta máximo que puede obtener el dueño del proyecto es igual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este precio de venta el VPN del comprador es igual a cero, y por lo tanto estaría indiferente entre comprar el bosque a ese precio o dejar sus recursos rindiendo un 5% en su mejor alternativa (su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uego, al inversionista maderero le conviene más vender el bosque al final del año 6 en vez de cortar el bosque y vender la madera, ya que 174,13&gt;167,69, por lo que obtiene una ganancia adicional de 6,44 y una TIR de 9,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180" name=""/>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
        <p:nvSpPr>
          <p:cNvPr id="2" name="PlaceHolder 1"/>
          <p:cNvSpPr>
            <a:spLocks noGrp="1"/>
          </p:cNvSpPr>
          <p:nvPr>
            <p:ph type="sldNum" idx="3"/>
          </p:nvPr>
        </p:nvSpPr>
        <p:spPr/>
        <p:txBody>
          <a:bodyPr/>
          <a:p>
            <a:fld id="{701B045C-00C0-4347-A81C-FFF9E23857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83"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84"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5DF7E1-F25C-488C-8DDE-4467B34CFC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7"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A348EC1F-CAB2-46E3-958B-3E1F72CADA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90"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91"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F02156FA-1223-4DA3-B718-0040608916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206D4AE6-6E64-4120-8BBE-EA8F34AEEB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7"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5E6242-88C7-4702-95E7-9408BB8F0C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47E7DA3-142C-4048-8EED-216F4C9863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202"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203"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9AFFE6-8080-46F2-AD48-BE9B67D6C5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868602DC-D1E7-446A-8007-FF5D63BCE7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8D5FF0B-B208-40B6-A72B-2BD01C0F6D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CF92F6-9E09-4335-95BF-5C4F8D7FCE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2D62EC-C079-4684-A7B5-A2AD5DB093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12"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3FA6ECE-90AF-4B28-9B40-DBD9404270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5"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C8FBC962-9C78-4753-ADA3-058227E317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1BF2FE-B4FE-4E87-A3FB-956F0B3299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9"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8012387-78D1-4364-BE19-FACAB6F2E1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A20A96A-6368-4AC6-9797-6750109E75F4}" type="slidenum">
              <a:t>45</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20">
                                            <p:txEl>
                                              <p:pRg st="1" end="1"/>
                                            </p:txEl>
                                          </p:spTgt>
                                        </p:tgtEl>
                                        <p:attrNameLst>
                                          <p:attrName>style.visibility</p:attrName>
                                        </p:attrNameLst>
                                      </p:cBhvr>
                                      <p:to>
                                        <p:strVal val="visible"/>
                                      </p:to>
                                    </p:set>
                                    <p:anim calcmode="lin" valueType="num">
                                      <p:cBhvr additive="base">
                                        <p:cTn id="58"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20">
                                            <p:txEl>
                                              <p:pRg st="4" end="4"/>
                                            </p:txEl>
                                          </p:spTgt>
                                        </p:tgtEl>
                                        <p:attrNameLst>
                                          <p:attrName>style.visibility</p:attrName>
                                        </p:attrNameLst>
                                      </p:cBhvr>
                                      <p:to>
                                        <p:strVal val="visible"/>
                                      </p:to>
                                    </p:set>
                                    <p:anim calcmode="lin" valueType="num">
                                      <p:cBhvr additive="base">
                                        <p:cTn id="64"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20">
                                            <p:txEl>
                                              <p:pRg st="6" end="6"/>
                                            </p:txEl>
                                          </p:spTgt>
                                        </p:tgtEl>
                                        <p:attrNameLst>
                                          <p:attrName>style.visibility</p:attrName>
                                        </p:attrNameLst>
                                      </p:cBhvr>
                                      <p:to>
                                        <p:strVal val="visible"/>
                                      </p:to>
                                    </p:set>
                                    <p:anim calcmode="lin" valueType="num">
                                      <p:cBhvr additive="base">
                                        <p:cTn id="70" dur="5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20">
                                            <p:txEl>
                                              <p:pRg st="8" end="8"/>
                                            </p:txEl>
                                          </p:spTgt>
                                        </p:tgtEl>
                                        <p:attrNameLst>
                                          <p:attrName>style.visibility</p:attrName>
                                        </p:attrNameLst>
                                      </p:cBhvr>
                                      <p:to>
                                        <p:strVal val="visible"/>
                                      </p:to>
                                    </p:set>
                                    <p:anim calcmode="lin" valueType="num">
                                      <p:cBhvr additive="base">
                                        <p:cTn id="76" dur="5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B319F57-8ED0-4728-9A75-C274ABC7F864}" type="slidenum">
              <a:t>46</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21">
                                            <p:txEl>
                                              <p:pRg st="0" end="0"/>
                                            </p:txEl>
                                          </p:spTgt>
                                        </p:tgtEl>
                                        <p:attrNameLst>
                                          <p:attrName>style.visibility</p:attrName>
                                        </p:attrNameLst>
                                      </p:cBhvr>
                                      <p:to>
                                        <p:strVal val="visible"/>
                                      </p:to>
                                    </p:set>
                                    <p:anim calcmode="lin" valueType="num">
                                      <p:cBhvr additive="base">
                                        <p:cTn id="84"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21">
                                            <p:txEl>
                                              <p:pRg st="2" end="2"/>
                                            </p:txEl>
                                          </p:spTgt>
                                        </p:tgtEl>
                                        <p:attrNameLst>
                                          <p:attrName>style.visibility</p:attrName>
                                        </p:attrNameLst>
                                      </p:cBhvr>
                                      <p:to>
                                        <p:strVal val="visible"/>
                                      </p:to>
                                    </p:set>
                                    <p:anim calcmode="lin" valueType="num">
                                      <p:cBhvr additive="base">
                                        <p:cTn id="90"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21">
                                            <p:txEl>
                                              <p:pRg st="4" end="4"/>
                                            </p:txEl>
                                          </p:spTgt>
                                        </p:tgtEl>
                                        <p:attrNameLst>
                                          <p:attrName>style.visibility</p:attrName>
                                        </p:attrNameLst>
                                      </p:cBhvr>
                                      <p:to>
                                        <p:strVal val="visible"/>
                                      </p:to>
                                    </p:set>
                                    <p:anim calcmode="lin" valueType="num">
                                      <p:cBhvr additive="base">
                                        <p:cTn id="9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21">
                                            <p:txEl>
                                              <p:pRg st="6" end="6"/>
                                            </p:txEl>
                                          </p:spTgt>
                                        </p:tgtEl>
                                        <p:attrNameLst>
                                          <p:attrName>style.visibility</p:attrName>
                                        </p:attrNameLst>
                                      </p:cBhvr>
                                      <p:to>
                                        <p:strVal val="visible"/>
                                      </p:to>
                                    </p:set>
                                    <p:anim calcmode="lin" valueType="num">
                                      <p:cBhvr additive="base">
                                        <p:cTn id="102"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21">
                                            <p:txEl>
                                              <p:pRg st="8" end="8"/>
                                            </p:txEl>
                                          </p:spTgt>
                                        </p:tgtEl>
                                        <p:attrNameLst>
                                          <p:attrName>style.visibility</p:attrName>
                                        </p:attrNameLst>
                                      </p:cBhvr>
                                      <p:to>
                                        <p:strVal val="visible"/>
                                      </p:to>
                                    </p:set>
                                    <p:anim calcmode="lin" valueType="num">
                                      <p:cBhvr additive="base">
                                        <p:cTn id="108"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2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C6EB2D8-F4EA-4F71-8103-E40786E149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C1C1CBD-06CE-410D-B52E-F2A50FA264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BEF7654-1041-4B98-AE8D-B5AC2E1E55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C013C99-F1C2-46CF-8F49-BAA85C9910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E28721B-21BB-420E-BDB2-241B44C24D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7" name=""/>
          <p:cNvGraphicFramePr/>
          <p:nvPr/>
        </p:nvGraphicFramePr>
        <p:xfrm>
          <a:off x="762120" y="3429000"/>
          <a:ext cx="7619760" cy="4038480"/>
        </p:xfrm>
        <a:graphic>
          <a:graphicData uri="http://schemas.openxmlformats.org/presentationml/2006/ole">
            <p:oleObj progId="Word.Document.12" r:id="rId1" spid="">
              <p:embed/>
              <p:pic>
                <p:nvPicPr>
                  <p:cNvPr id="228"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9"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0"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1662CE-C6DB-46DB-8F9E-32DBA7AA17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3"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C30FB4-0F18-4775-931D-843C6E0475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6"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34D43D-35B6-4D1A-BC70-F955B82F4A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8"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ABFAF8-0D41-4927-B6B1-BEBAB97731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40"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4ACA7B-5C4E-416A-99CF-6BEA28035002}"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C436AB-1964-4FA2-887E-052F9146F2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DF8280B-6C1E-4CE8-8BD3-FEDB9EC1AD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B093310F-FB89-4EBC-8EEC-F20570D80A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2F292F47-4362-4245-ACB7-3D1A98FA7D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4-10-07T16:55:00Z</dcterms:modified>
  <cp:revision>94</cp:revision>
  <dc:subject/>
  <dc:title>Sin título de diapositiva</dc:title>
</cp:coreProperties>
</file>