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4C0B7-74E7-4D13-9A72-B3A03C17A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77EC8-1AFA-4161-9236-AF1FFB28C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67696-AB78-4F67-8DDE-59254D822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E3D5C-B8E2-4B10-9FCC-542A00278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DFCDB-BCC6-43ED-9BB7-8547342A2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5C0A3-9258-4DA3-A24A-66F74E2F9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66B39-61CC-4B58-B93B-501835548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9DCD4-CB0D-47DF-8D9A-DB4B88F42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45A2F-283B-4CB6-AF9A-F0792AE05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B02A1-22E7-4AF1-8E82-938B70584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931F2-F53A-4488-A16C-7580635F8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36478-C4FD-4443-9F62-96407804A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7CC9F-FBB5-44D8-AA22-ECDEC4B0C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0B825-4A18-4225-95DE-80AB0C9EE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74058-9B4D-4A13-BDDD-90A321E1B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FD5C3-7D83-4A73-AAD4-519ACA08B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806A6-E4FF-4BB7-8E04-4098F7A9D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61D0F-6705-48E5-B54A-F063534FE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3A4A6-1ABC-40FE-9E3D-12DF57BF6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3AD15-1EF9-40F7-8D0C-F7EA88E43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F06AE-5BDE-41D5-A720-DC0D44F9A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97D86-13DB-41FC-8CDD-7CBF6744D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2B451-DF79-4A95-AA33-446F328BA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66EA7-A21C-442A-9B6C-FB26AC712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2A71-B3D4-4DF5-A568-C7F63981E0C5}"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F882-6D9E-4B53-94D1-211F1EC891F5}"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3558240"/>
            <a:chOff x="512280" y="2286000"/>
            <a:chExt cx="4494600" cy="3558240"/>
          </a:xfrm>
        </p:grpSpPr>
        <p:grpSp>
          <p:nvGrpSpPr>
            <p:cNvPr id="881" name=""/>
            <p:cNvGrpSpPr/>
            <p:nvPr/>
          </p:nvGrpSpPr>
          <p:grpSpPr>
            <a:xfrm>
              <a:off x="512280" y="2286000"/>
              <a:ext cx="4494600" cy="3558240"/>
              <a:chOff x="512280" y="2286000"/>
              <a:chExt cx="4494600" cy="3558240"/>
            </a:xfrm>
          </p:grpSpPr>
          <p:grpSp>
            <p:nvGrpSpPr>
              <p:cNvPr id="882" name=""/>
              <p:cNvGrpSpPr/>
              <p:nvPr/>
            </p:nvGrpSpPr>
            <p:grpSpPr>
              <a:xfrm>
                <a:off x="512280" y="2286000"/>
                <a:ext cx="4494600" cy="3558240"/>
                <a:chOff x="512280" y="2286000"/>
                <a:chExt cx="4494600" cy="3558240"/>
              </a:xfrm>
            </p:grpSpPr>
            <p:sp>
              <p:nvSpPr>
                <p:cNvPr id="883" name=""/>
                <p:cNvSpPr/>
                <p:nvPr/>
              </p:nvSpPr>
              <p:spPr>
                <a:xfrm>
                  <a:off x="1882800" y="4267440"/>
                  <a:ext cx="380880" cy="99036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4" name=""/>
                <p:cNvSpPr/>
                <p:nvPr/>
              </p:nvSpPr>
              <p:spPr>
                <a:xfrm>
                  <a:off x="2263680" y="3429000"/>
                  <a:ext cx="38088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5"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7" name=""/>
                <p:cNvSpPr/>
                <p:nvPr/>
              </p:nvSpPr>
              <p:spPr>
                <a:xfrm>
                  <a:off x="2263680" y="3429000"/>
                  <a:ext cx="0" cy="8384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264456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9" name=""/>
                <p:cNvSpPr/>
                <p:nvPr/>
              </p:nvSpPr>
              <p:spPr>
                <a:xfrm>
                  <a:off x="264456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0"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91" name=""/>
                <p:cNvSpPr/>
                <p:nvPr/>
              </p:nvSpPr>
              <p:spPr>
                <a:xfrm>
                  <a:off x="2263680" y="4496040"/>
                  <a:ext cx="25704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2" name=""/>
                <p:cNvGrpSpPr/>
                <p:nvPr/>
              </p:nvGrpSpPr>
              <p:grpSpPr>
                <a:xfrm>
                  <a:off x="907200" y="2286000"/>
                  <a:ext cx="4099680" cy="2971800"/>
                  <a:chOff x="907200" y="2286000"/>
                  <a:chExt cx="4099680" cy="2971800"/>
                </a:xfrm>
              </p:grpSpPr>
              <p:grpSp>
                <p:nvGrpSpPr>
                  <p:cNvPr id="893" name=""/>
                  <p:cNvGrpSpPr/>
                  <p:nvPr/>
                </p:nvGrpSpPr>
                <p:grpSpPr>
                  <a:xfrm>
                    <a:off x="1425600" y="2286000"/>
                    <a:ext cx="3581280" cy="2971800"/>
                    <a:chOff x="1425600" y="2286000"/>
                    <a:chExt cx="3581280" cy="2971800"/>
                  </a:xfrm>
                </p:grpSpPr>
                <p:sp>
                  <p:nvSpPr>
                    <p:cNvPr id="894"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5"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6" name=""/>
                  <p:cNvSpPr/>
                  <p:nvPr/>
                </p:nvSpPr>
                <p:spPr>
                  <a:xfrm>
                    <a:off x="151740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98316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8" name=""/>
                  <p:cNvSpPr/>
                  <p:nvPr/>
                </p:nvSpPr>
                <p:spPr>
                  <a:xfrm>
                    <a:off x="94032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9" name=""/>
                  <p:cNvSpPr/>
                  <p:nvPr/>
                </p:nvSpPr>
                <p:spPr>
                  <a:xfrm>
                    <a:off x="4016160" y="29718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01" name=""/>
                  <p:cNvSpPr/>
                  <p:nvPr/>
                </p:nvSpPr>
                <p:spPr>
                  <a:xfrm flipH="1">
                    <a:off x="1425600" y="426744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4" name=""/>
                  <p:cNvSpPr/>
                  <p:nvPr/>
                </p:nvSpPr>
                <p:spPr>
                  <a:xfrm flipH="1">
                    <a:off x="1425600" y="373392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H="1">
                    <a:off x="1425600" y="457200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7" name=""/>
                  <p:cNvSpPr/>
                  <p:nvPr/>
                </p:nvSpPr>
                <p:spPr>
                  <a:xfrm flipV="1">
                    <a:off x="151740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8" name=""/>
                  <p:cNvSpPr/>
                  <p:nvPr/>
                </p:nvSpPr>
                <p:spPr>
                  <a:xfrm flipV="1">
                    <a:off x="1958760" y="2819520"/>
                    <a:ext cx="304812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09" name=""/>
                <p:cNvSpPr/>
                <p:nvPr/>
              </p:nvSpPr>
              <p:spPr>
                <a:xfrm>
                  <a:off x="892080" y="342900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0"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grpSp>
          <p:sp>
            <p:nvSpPr>
              <p:cNvPr id="911"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12"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13"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4"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1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7"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8"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2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21"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3" name=""/>
          <p:cNvGrpSpPr/>
          <p:nvPr/>
        </p:nvGrpSpPr>
        <p:grpSpPr>
          <a:xfrm>
            <a:off x="512280" y="2286000"/>
            <a:ext cx="4539240" cy="4102920"/>
            <a:chOff x="512280" y="2286000"/>
            <a:chExt cx="4539240" cy="4102920"/>
          </a:xfrm>
        </p:grpSpPr>
        <p:sp>
          <p:nvSpPr>
            <p:cNvPr id="924"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5"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6"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7"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8" name=""/>
            <p:cNvSpPr/>
            <p:nvPr/>
          </p:nvSpPr>
          <p:spPr>
            <a:xfrm flipH="1">
              <a:off x="1441080" y="30481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9"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30" name=""/>
            <p:cNvGrpSpPr/>
            <p:nvPr/>
          </p:nvGrpSpPr>
          <p:grpSpPr>
            <a:xfrm>
              <a:off x="914400" y="2286000"/>
              <a:ext cx="4137120" cy="4102920"/>
              <a:chOff x="914400" y="2286000"/>
              <a:chExt cx="4137120" cy="4102920"/>
            </a:xfrm>
          </p:grpSpPr>
          <p:sp>
            <p:nvSpPr>
              <p:cNvPr id="931"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2"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3"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4"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5"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6"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7"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8"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9" name=""/>
              <p:cNvGrpSpPr/>
              <p:nvPr/>
            </p:nvGrpSpPr>
            <p:grpSpPr>
              <a:xfrm>
                <a:off x="1447920" y="2286000"/>
                <a:ext cx="3581280" cy="2971800"/>
                <a:chOff x="1447920" y="2286000"/>
                <a:chExt cx="3581280" cy="2971800"/>
              </a:xfrm>
            </p:grpSpPr>
            <p:sp>
              <p:nvSpPr>
                <p:cNvPr id="940"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1"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42"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4"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5"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7"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8"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9"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50"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51"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52"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3"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4"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5"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7"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8"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61"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3" name=""/>
          <p:cNvGrpSpPr/>
          <p:nvPr/>
        </p:nvGrpSpPr>
        <p:grpSpPr>
          <a:xfrm>
            <a:off x="392760" y="2437920"/>
            <a:ext cx="4941360" cy="3025080"/>
            <a:chOff x="392760" y="2437920"/>
            <a:chExt cx="4941360" cy="3025080"/>
          </a:xfrm>
        </p:grpSpPr>
        <p:sp>
          <p:nvSpPr>
            <p:cNvPr id="964"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7"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70"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1"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2"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4"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5"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7"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8"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9"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8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82"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3"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4"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7"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8" name=""/>
          <p:cNvGrpSpPr/>
          <p:nvPr/>
        </p:nvGrpSpPr>
        <p:grpSpPr>
          <a:xfrm>
            <a:off x="0" y="2590560"/>
            <a:ext cx="5334120" cy="3745800"/>
            <a:chOff x="0" y="2590560"/>
            <a:chExt cx="5334120" cy="3745800"/>
          </a:xfrm>
        </p:grpSpPr>
        <p:grpSp>
          <p:nvGrpSpPr>
            <p:cNvPr id="989" name=""/>
            <p:cNvGrpSpPr/>
            <p:nvPr/>
          </p:nvGrpSpPr>
          <p:grpSpPr>
            <a:xfrm>
              <a:off x="0" y="2590560"/>
              <a:ext cx="5334120" cy="3745800"/>
              <a:chOff x="0" y="2590560"/>
              <a:chExt cx="5334120" cy="3745800"/>
            </a:xfrm>
          </p:grpSpPr>
          <p:sp>
            <p:nvSpPr>
              <p:cNvPr id="990"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3"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6"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7"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8"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9"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0"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01"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2"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4"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5"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6"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9"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10"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11"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4"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7"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20"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1"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2"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4"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5"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7"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8"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9"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3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32"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3"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4"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9"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4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4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2"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4"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8"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9"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0"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51"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52"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3"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4"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5"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6"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7"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8"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9"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0"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1"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2"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3"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4"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5"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8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8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9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9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1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11"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12"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3"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5"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8"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2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4"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5"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6"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7"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8"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30"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1"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2"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1"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2"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3"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4"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5"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6"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7"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8"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9"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50"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51"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6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6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3"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4"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9"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0"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1"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72"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3"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5"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6"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7"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8"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0"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1"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2"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7"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8"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9"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90"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91"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92"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0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0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20" name=""/>
          <p:cNvGrpSpPr/>
          <p:nvPr/>
        </p:nvGrpSpPr>
        <p:grpSpPr>
          <a:xfrm>
            <a:off x="304920" y="1828800"/>
            <a:ext cx="6553080" cy="3733920"/>
            <a:chOff x="304920" y="1828800"/>
            <a:chExt cx="6553080" cy="3733920"/>
          </a:xfrm>
        </p:grpSpPr>
        <p:grpSp>
          <p:nvGrpSpPr>
            <p:cNvPr id="1221" name=""/>
            <p:cNvGrpSpPr/>
            <p:nvPr/>
          </p:nvGrpSpPr>
          <p:grpSpPr>
            <a:xfrm>
              <a:off x="5790600" y="3581280"/>
              <a:ext cx="1067400" cy="1981440"/>
              <a:chOff x="5790600" y="3581280"/>
              <a:chExt cx="1067400" cy="1981440"/>
            </a:xfrm>
          </p:grpSpPr>
          <p:sp>
            <p:nvSpPr>
              <p:cNvPr id="1222"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3"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4"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9"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0"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40"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5"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6"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5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51" name=""/>
          <p:cNvGrpSpPr/>
          <p:nvPr/>
        </p:nvGrpSpPr>
        <p:grpSpPr>
          <a:xfrm>
            <a:off x="304920" y="2209680"/>
            <a:ext cx="6655320" cy="3353040"/>
            <a:chOff x="304920" y="2209680"/>
            <a:chExt cx="6655320" cy="3353040"/>
          </a:xfrm>
        </p:grpSpPr>
        <p:grpSp>
          <p:nvGrpSpPr>
            <p:cNvPr id="1252" name=""/>
            <p:cNvGrpSpPr/>
            <p:nvPr/>
          </p:nvGrpSpPr>
          <p:grpSpPr>
            <a:xfrm>
              <a:off x="5976720" y="3406680"/>
              <a:ext cx="983520" cy="2156040"/>
              <a:chOff x="5976720" y="3406680"/>
              <a:chExt cx="983520" cy="2156040"/>
            </a:xfrm>
          </p:grpSpPr>
          <p:sp>
            <p:nvSpPr>
              <p:cNvPr id="1253"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4"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5"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6"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7"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7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8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5" name=""/>
          <p:cNvGrpSpPr/>
          <p:nvPr/>
        </p:nvGrpSpPr>
        <p:grpSpPr>
          <a:xfrm>
            <a:off x="914400" y="1905120"/>
            <a:ext cx="6934320" cy="2209680"/>
            <a:chOff x="914400" y="1905120"/>
            <a:chExt cx="6934320" cy="2209680"/>
          </a:xfrm>
        </p:grpSpPr>
        <p:sp>
          <p:nvSpPr>
            <p:cNvPr id="1286"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7"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30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1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5" name=""/>
          <p:cNvGrpSpPr/>
          <p:nvPr/>
        </p:nvGrpSpPr>
        <p:grpSpPr>
          <a:xfrm>
            <a:off x="914400" y="2089080"/>
            <a:ext cx="6324480" cy="3245040"/>
            <a:chOff x="914400" y="2089080"/>
            <a:chExt cx="6324480" cy="3245040"/>
          </a:xfrm>
        </p:grpSpPr>
        <p:sp>
          <p:nvSpPr>
            <p:cNvPr id="1316"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7"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0"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2"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4"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5"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4"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7" name=""/>
          <p:cNvGrpSpPr/>
          <p:nvPr/>
        </p:nvGrpSpPr>
        <p:grpSpPr>
          <a:xfrm>
            <a:off x="1523880" y="2793960"/>
            <a:ext cx="6096240" cy="2006640"/>
            <a:chOff x="1523880" y="2793960"/>
            <a:chExt cx="6096240" cy="2006640"/>
          </a:xfrm>
        </p:grpSpPr>
        <p:sp>
          <p:nvSpPr>
            <p:cNvPr id="1338"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9"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40"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41"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42"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3"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4"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5"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6"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1"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2"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3"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3"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06-23T04:47:27Z</dcterms:modified>
  <cp:revision>261</cp:revision>
  <dc:subject/>
  <dc:title>I.FORMULACIÓN DE PROYECTOS</dc:title>
</cp:coreProperties>
</file>