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DCEEA-6A93-4CF6-BE17-22AB82543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E470A-FC3E-4892-8075-11AF1F15E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72017-EFA2-4335-94A6-00C9FA3FA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366AC-B886-4F7F-948F-1A6FF088E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5A662-A823-4655-87FD-55BD63BF4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509BF-5BEB-4D5F-8A96-A4728B22C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F04D3-15C9-4057-AF5A-A39FED5CC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4E884-8809-4308-8804-A3ABF2537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E0761-87A8-4CE5-9F7E-1E9FD0DDD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FE4DF-31C0-4CDD-8AC6-CBC9FEDB8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99C04-A7AB-4240-A72A-56A965BF7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C0666-DD8F-45AE-9ECD-4236AD61E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35C4D-F649-48BE-A5B0-F781BCAE0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5A176-B61A-486D-82A3-45DEBA091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B9595-ED59-4B6A-B4F9-C32AAF45C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1078F-936B-49EE-9F62-E643D8145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EA70F-B54F-46FF-A654-32B9CC299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EA6AE-471F-4D08-8E41-92423ED17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0DBA3-803F-4798-9FC9-BB1AAB2C6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70715-1E52-4723-B274-5D6E2F981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CF706-3FBD-42A1-8FEA-55C291DFE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CCDC-5409-4D23-8F92-36B5DE0E4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61095-C905-4283-B4D0-1B1AD0E29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3EA72-2ED6-4A4F-A5F7-6BDB2E430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F1F2-46E3-4A9F-AE31-1D5139476804}"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2E7A-A5BD-4CD2-A505-591CD9E5EC6A}"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6"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0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11-15T20:43:24Z</dcterms:modified>
  <cp:revision>269</cp:revision>
  <dc:subject/>
  <dc:title>I.FORMULACIÓN DE PROYECTOS</dc:title>
</cp:coreProperties>
</file>