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3F00E-B339-4B94-9BE4-92D4263FF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16998-95E3-4126-A5CF-57AEEFF7F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9B14C-586D-42BA-8FEA-A0BDDCF05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F06A2-C9A3-4F0E-8B46-286BC1E8F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4D056-C974-4D56-887C-CF40027F4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0715C-D509-4112-848C-7A482E446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B9DBD-0372-40BA-B31F-9752AC66F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428DF-378D-44D8-A744-FA1A720B3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6DA5D-91C5-4269-87E4-C1CE3390B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61E67-8176-4BF2-84C4-9A0FA16BA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CFB10-BDD7-423C-8EC1-21FF959B4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02A8-6D7D-4533-A663-A8F7B7C7F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908D1-4497-47B6-91F8-74B68B1C1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AA047-E128-4CB5-85C4-469A4590F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E8761-64E8-47FC-9611-FD1E46F73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D7942-C76E-4CAE-B2F8-3EC282AA6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4A750-1875-4B5C-9C9F-BB194E62E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CE6C8-3850-4013-B982-4FAC0FEF3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48E66-E740-40EB-B465-1F57C0162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4CC86-C205-49BD-A4E4-67FE729E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16E8-B9E1-4486-9E02-8E114896A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F8753-02DD-44DE-9819-3D3DAFC5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9B1D6-8F66-44DE-B05F-1F1F4932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308B9-B4A2-46B8-B9CF-6B1053B49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91FD-2AB2-4B09-B59A-904C12B51081}"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6305-D2DC-4907-9FD7-9E0077B8FA98}"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6"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0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11-15T20:43:24Z</dcterms:modified>
  <cp:revision>269</cp:revision>
  <dc:subject/>
  <dc:title>I.FORMULACIÓN DE PROYECTOS</dc:title>
</cp:coreProperties>
</file>