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3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554B-65BC-4D97-8C54-CC1DB29F9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7EF1-8118-4782-8694-2E63D33F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6F5F-7FEA-4808-A7B6-A0FF3A74F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8532-C332-4956-B81C-A8D3FF15A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18C1-7B3A-43D2-A72D-C12D79E6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58A1-C0C0-4B76-9FF0-ED19BACB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3FDD-E3C6-406B-9036-CBC2BBF0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BF41-8755-4065-BF10-E58250B0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701B-D7AE-4335-B352-628369F5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E831-D425-4404-8DBE-129F8D26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AD36-A7D8-49A2-BEA5-CB0A3AAD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2C5C-DE0F-41FE-95F7-1424B377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9760-4D66-4AF1-8EB1-A3C8FD328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8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3946-69DE-4545-ACC8-786898633F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han sido clasificados en 5 segment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mujer4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541080" cy="2514600"/>
          </a:xfrm>
          <a:prstGeom prst="rect">
            <a:avLst/>
          </a:prstGeom>
          <a:ln w="0">
            <a:noFill/>
          </a:ln>
        </p:spPr>
      </p:pic>
      <p:pic>
        <p:nvPicPr>
          <p:cNvPr id="207" name="dinero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1706400" cy="1538280"/>
          </a:xfrm>
          <a:prstGeom prst="rect">
            <a:avLst/>
          </a:prstGeom>
          <a:ln w="0">
            <a:noFill/>
          </a:ln>
        </p:spPr>
      </p:pic>
      <p:pic>
        <p:nvPicPr>
          <p:cNvPr id="208" name="GOLF" descr=""/>
          <p:cNvPicPr/>
          <p:nvPr/>
        </p:nvPicPr>
        <p:blipFill>
          <a:blip r:embed="rId3"/>
          <a:stretch/>
        </p:blipFill>
        <p:spPr>
          <a:xfrm>
            <a:off x="3962520" y="3733920"/>
            <a:ext cx="1315800" cy="2133360"/>
          </a:xfrm>
          <a:prstGeom prst="rect">
            <a:avLst/>
          </a:prstGeom>
          <a:ln w="0">
            <a:noFill/>
          </a:ln>
        </p:spPr>
      </p:pic>
      <p:pic>
        <p:nvPicPr>
          <p:cNvPr id="209" name="gente1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2438640" cy="1528920"/>
          </a:xfrm>
          <a:prstGeom prst="rect">
            <a:avLst/>
          </a:prstGeom>
          <a:ln w="0">
            <a:noFill/>
          </a:ln>
        </p:spPr>
      </p:pic>
      <p:pic>
        <p:nvPicPr>
          <p:cNvPr id="210" name="gente2" descr=""/>
          <p:cNvPicPr/>
          <p:nvPr/>
        </p:nvPicPr>
        <p:blipFill>
          <a:blip r:embed="rId5"/>
          <a:stretch/>
        </p:blipFill>
        <p:spPr>
          <a:xfrm>
            <a:off x="6705720" y="2514600"/>
            <a:ext cx="140652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181480" y="3657600"/>
            <a:ext cx="60984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05920" y="563868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21337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23623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548640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4120" y="5562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4360" y="37339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7720" y="571500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2440" y="22096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5160" y="24382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5680" y="1828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9440" y="20574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2920" y="3276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u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640" y="42670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gh 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8560" y="43434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372B-F40F-4B79-92C9-7053A3CB31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mientras que estudios preliminar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indican diferentes esquemas de segmen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603440" y="2079720"/>
          <a:ext cx="658332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2079720"/>
                    <a:ext cx="65833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 flipV="1">
            <a:off x="1752480" y="1980720"/>
            <a:ext cx="0" cy="4038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6019920"/>
            <a:ext cx="5486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8200" y="6019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3400" y="2057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D9A0-654F-46CE-8466-430483D482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onsumidores de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 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eden elegir realizar compras a través de 3 cana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edific5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220760"/>
          </a:xfrm>
          <a:prstGeom prst="rect">
            <a:avLst/>
          </a:prstGeom>
          <a:ln w="0">
            <a:noFill/>
          </a:ln>
        </p:spPr>
      </p:pic>
      <p:pic>
        <p:nvPicPr>
          <p:cNvPr id="239" name="tienda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1295640" cy="1139760"/>
          </a:xfrm>
          <a:prstGeom prst="rect">
            <a:avLst/>
          </a:prstGeom>
          <a:ln w="0">
            <a:noFill/>
          </a:ln>
        </p:spPr>
      </p:pic>
      <p:pic>
        <p:nvPicPr>
          <p:cNvPr id="240" name="edific9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057400" cy="1020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57720" y="1898640"/>
            <a:ext cx="20674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60880" y="1898640"/>
            <a:ext cx="241956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40400" y="1898640"/>
            <a:ext cx="15112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mujer4" descr=""/>
          <p:cNvPicPr/>
          <p:nvPr/>
        </p:nvPicPr>
        <p:blipFill>
          <a:blip r:embed="rId4"/>
          <a:stretch/>
        </p:blipFill>
        <p:spPr>
          <a:xfrm flipH="1">
            <a:off x="3809880" y="4952880"/>
            <a:ext cx="230400" cy="1067040"/>
          </a:xfrm>
          <a:prstGeom prst="rect">
            <a:avLst/>
          </a:prstGeom>
          <a:ln w="0">
            <a:noFill/>
          </a:ln>
        </p:spPr>
      </p:pic>
      <p:pic>
        <p:nvPicPr>
          <p:cNvPr id="245" name="GOLF" descr=""/>
          <p:cNvPicPr/>
          <p:nvPr/>
        </p:nvPicPr>
        <p:blipFill>
          <a:blip r:embed="rId5"/>
          <a:stretch/>
        </p:blipFill>
        <p:spPr>
          <a:xfrm flipH="1">
            <a:off x="3962160" y="5410080"/>
            <a:ext cx="610920" cy="990720"/>
          </a:xfrm>
          <a:prstGeom prst="rect">
            <a:avLst/>
          </a:prstGeom>
          <a:ln w="0">
            <a:noFill/>
          </a:ln>
        </p:spPr>
      </p:pic>
      <p:pic>
        <p:nvPicPr>
          <p:cNvPr id="246" name="gente2" descr=""/>
          <p:cNvPicPr/>
          <p:nvPr/>
        </p:nvPicPr>
        <p:blipFill>
          <a:blip r:embed="rId6"/>
          <a:stretch/>
        </p:blipFill>
        <p:spPr>
          <a:xfrm>
            <a:off x="4648320" y="5029200"/>
            <a:ext cx="669960" cy="762120"/>
          </a:xfrm>
          <a:prstGeom prst="rect">
            <a:avLst/>
          </a:prstGeom>
          <a:ln w="0">
            <a:noFill/>
          </a:ln>
        </p:spPr>
      </p:pic>
      <p:pic>
        <p:nvPicPr>
          <p:cNvPr id="247" name="gente1" descr=""/>
          <p:cNvPicPr/>
          <p:nvPr/>
        </p:nvPicPr>
        <p:blipFill>
          <a:blip r:embed="rId7"/>
          <a:stretch/>
        </p:blipFill>
        <p:spPr>
          <a:xfrm>
            <a:off x="5029200" y="5867280"/>
            <a:ext cx="990720" cy="621000"/>
          </a:xfrm>
          <a:prstGeom prst="rect">
            <a:avLst/>
          </a:prstGeom>
          <a:ln w="0">
            <a:noFill/>
          </a:ln>
        </p:spPr>
      </p:pic>
      <p:pic>
        <p:nvPicPr>
          <p:cNvPr id="248" name="dinero" descr=""/>
          <p:cNvPicPr/>
          <p:nvPr/>
        </p:nvPicPr>
        <p:blipFill>
          <a:blip r:embed="rId8"/>
          <a:stretch/>
        </p:blipFill>
        <p:spPr>
          <a:xfrm>
            <a:off x="2819520" y="5791320"/>
            <a:ext cx="868320" cy="782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5791320" y="4495320"/>
            <a:ext cx="152388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980720" y="4571640"/>
            <a:ext cx="129564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3400" y="43430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E467-230A-44C0-90C2-6BA687EDE0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sumen del mundo de Markstr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2666880"/>
            <a:ext cx="6782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cimiento d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o ambiente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mapa3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2057400" cy="1682640"/>
          </a:xfrm>
          <a:prstGeom prst="rect">
            <a:avLst/>
          </a:prstGeom>
          <a:ln w="0">
            <a:noFill/>
          </a:ln>
        </p:spPr>
      </p:pic>
      <p:pic>
        <p:nvPicPr>
          <p:cNvPr id="257" name="pc1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2209680" cy="1698840"/>
          </a:xfrm>
          <a:prstGeom prst="rect">
            <a:avLst/>
          </a:prstGeom>
          <a:ln w="0">
            <a:noFill/>
          </a:ln>
        </p:spPr>
      </p:pic>
      <p:pic>
        <p:nvPicPr>
          <p:cNvPr id="258" name="Progres2" descr=""/>
          <p:cNvPicPr/>
          <p:nvPr/>
        </p:nvPicPr>
        <p:blipFill>
          <a:blip r:embed="rId3"/>
          <a:stretch/>
        </p:blipFill>
        <p:spPr>
          <a:xfrm>
            <a:off x="6553080" y="2133720"/>
            <a:ext cx="2249640" cy="12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12DF-2450-4A70-8C98-63E5A56931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062B-5C5D-4DE0-BFB0-E49D7BC31E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objetivo en gestionar su compañía es maximizar el precio de sus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2057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 lograr esto, usted debe optim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rogreso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651640" cy="3200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334600" y="2819520"/>
            <a:ext cx="559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ción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cimien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 acumu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rsión en I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vestigación y desarrol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2800" y="5867280"/>
            <a:ext cx="71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pero el objetivo principal 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APREND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champan" descr=""/>
          <p:cNvPicPr/>
          <p:nvPr/>
        </p:nvPicPr>
        <p:blipFill>
          <a:blip r:embed="rId2"/>
          <a:stretch/>
        </p:blipFill>
        <p:spPr>
          <a:xfrm flipH="1">
            <a:off x="228240" y="4038480"/>
            <a:ext cx="198108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EE9C-FD68-457E-A853-89783C66D9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ted necesitará realizar una serie de análisis antes de crear directrices estratégicas para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438280"/>
            <a:ext cx="19814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2438280"/>
            <a:ext cx="19051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2438280"/>
            <a:ext cx="2057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2666880"/>
            <a:ext cx="761760" cy="76212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2590920"/>
            <a:ext cx="761760" cy="76176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7040" y="27957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34040" y="2743200"/>
            <a:ext cx="190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55000" y="2514600"/>
            <a:ext cx="20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5920" y="2971800"/>
            <a:ext cx="304560" cy="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534520" y="2971800"/>
            <a:ext cx="0" cy="114300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447920" y="4114800"/>
            <a:ext cx="716256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523880" y="3428640"/>
            <a:ext cx="0" cy="68580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norte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133360" cy="2062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4038480" y="5257800"/>
            <a:ext cx="990720" cy="129528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029200" y="5257800"/>
            <a:ext cx="304920" cy="7632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334120" y="4571640"/>
            <a:ext cx="304560" cy="685800"/>
          </a:xfrm>
          <a:prstGeom prst="line">
            <a:avLst/>
          </a:prstGeom>
          <a:ln w="152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5334120"/>
            <a:ext cx="60948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24280" y="5943600"/>
            <a:ext cx="60984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8600" y="4800600"/>
          <a:ext cx="2895480" cy="134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28954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2BC0-87A4-49B5-BB08-D7BB73D65C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carroc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1523880" cy="1584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281240" y="1735200"/>
            <a:ext cx="615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s semán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miento Multi-dimensional (M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27CF-B196-42F1-94FA-F005245B23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bincular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200400" cy="1311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20200" y="1971720"/>
            <a:ext cx="4806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Benchmarking de la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dicciones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blicidad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uerza de vent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7158-87B5-4853-857B-6369CD1B2A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balanza2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743200" cy="20174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09480" y="2209680"/>
            <a:ext cx="46641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de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con la fuerza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4E57-422C-46CF-99F2-3233CB5929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arkstrat es una simulación diseñada para enfocar decisiones estratégicas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cesidades de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spectivas de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keting como gestor de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epto del medio com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rategia de marketing basada en segmentación, posicionamiento y asignación de recurs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5979-41DF-405C-B84E-18A7453B44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ando tenga clara su estrategia, debe proceder a realizar numerosas decisiones tácticas cada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1828800"/>
            <a:ext cx="504504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ficación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osición de inv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jar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unicación ma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erza de venta y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estigación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ocupado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85300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23DB-28D3-4428-ACCD-949B01C18F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departamento de producción ajustará automáticamente el nivel de producción hasta en un 20% (+ 0 -) dependiendo de su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1828800"/>
            <a:ext cx="5045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590920"/>
            <a:ext cx="1600200" cy="1167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5029200"/>
            <a:ext cx="167652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7400" y="4267080"/>
            <a:ext cx="6553080" cy="0"/>
          </a:xfrm>
          <a:prstGeom prst="line">
            <a:avLst/>
          </a:prstGeom>
          <a:ln w="190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4120" y="3886200"/>
            <a:ext cx="761760" cy="7621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2666880"/>
            <a:ext cx="0" cy="1524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715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3048120"/>
            <a:ext cx="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0" y="297180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0292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429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70572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429000" y="1904760"/>
            <a:ext cx="0" cy="4647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705720" y="1904760"/>
            <a:ext cx="0" cy="4724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285640" y="3581280"/>
            <a:ext cx="114300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705360" y="3581280"/>
            <a:ext cx="10666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0288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4286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31920" y="2438280"/>
            <a:ext cx="11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1960" y="23623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u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 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72400" y="2438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sumiendo cero nivel de invent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48320" y="5181480"/>
            <a:ext cx="78264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1160" y="5181480"/>
            <a:ext cx="15354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+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42400" y="5181480"/>
            <a:ext cx="14472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-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91120" y="5842080"/>
            <a:ext cx="1676160" cy="82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ivel de producción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3770-2E26-4172-B5A2-FC52481315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comparación entre intención y participación de mercado le puede dar una estimación de las “ventas perdid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2286000"/>
            <a:ext cx="196200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2514600"/>
            <a:ext cx="20588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160" y="2666880"/>
            <a:ext cx="201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Particip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de Mer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41560" y="2514600"/>
            <a:ext cx="19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er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17520" y="22096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2209680"/>
            <a:ext cx="54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34120" y="3429000"/>
            <a:ext cx="14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00400" y="51055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89400" y="3949560"/>
            <a:ext cx="29725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d. Pendie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érdidas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457200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791320" y="41911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541008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791320" y="50292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1320" y="624852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791320" y="5866920"/>
            <a:ext cx="0" cy="381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AFC9-A055-4B2B-8F65-DFF6417DBD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Markstrat, los precios se fijan una vez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1DOLAR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4479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324480" y="380880"/>
            <a:ext cx="2057400" cy="276480"/>
          </a:xfrm>
          <a:prstGeom prst="rect">
            <a:avLst/>
          </a:prstGeom>
          <a:solidFill>
            <a:srgbClr val="a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7b19"/>
                </a:solidFill>
                <a:latin typeface="Tahoma"/>
              </a:rPr>
              <a:t>BANCO DE MARKST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2720" y="1905120"/>
            <a:ext cx="74073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ecio al por menor recomendado = 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71800" y="5410080"/>
            <a:ext cx="1752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24280" y="2895480"/>
            <a:ext cx="1828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53080" y="457200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53080" y="5410080"/>
            <a:ext cx="16765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24280" y="5410080"/>
            <a:ext cx="1828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457200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Marge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ist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53080" y="373392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71800" y="373392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19320" y="37339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ecio R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54100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med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24280" y="4572000"/>
            <a:ext cx="18288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28954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53080" y="2895480"/>
            <a:ext cx="16765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71800" y="457200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824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2100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2100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112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2576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81480" y="5486400"/>
            <a:ext cx="10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25960" y="38098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0228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0228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AE2A-11F2-4F04-8BD0-B9C4F4ED40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recibe un presupuesto para el período entrante, basado en el desempeño del período pre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0800000">
            <a:off x="226800" y="2055960"/>
            <a:ext cx="729000" cy="441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resupue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5486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nvestig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e Merca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3200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Fuerza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Ven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5280" y="4343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2057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ublic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14400" y="236232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3429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4572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5715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2209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81280" y="27432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3352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81280" y="36576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41148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05320" y="4800600"/>
            <a:ext cx="45720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601992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19051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2520" y="2362320"/>
            <a:ext cx="31366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312408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350532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contratar y entre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411480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despe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6483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upuesto de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71500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los estudios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onite y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62920" y="205740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38880" y="426708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0120" y="205740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Mar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48720" y="441972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royec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9759-EED0-449F-A607-B0404512D10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reunir3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752480" cy="868320"/>
          </a:xfrm>
          <a:prstGeom prst="rect">
            <a:avLst/>
          </a:prstGeom>
          <a:ln w="0">
            <a:noFill/>
          </a:ln>
        </p:spPr>
      </p:pic>
      <p:pic>
        <p:nvPicPr>
          <p:cNvPr id="424" name="gente2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406520" cy="1600200"/>
          </a:xfrm>
          <a:prstGeom prst="rect">
            <a:avLst/>
          </a:prstGeom>
          <a:ln w="0">
            <a:noFill/>
          </a:ln>
        </p:spPr>
      </p:pic>
      <p:pic>
        <p:nvPicPr>
          <p:cNvPr id="425" name="pc1" descr=""/>
          <p:cNvPicPr/>
          <p:nvPr/>
        </p:nvPicPr>
        <p:blipFill>
          <a:blip r:embed="rId3"/>
          <a:stretch/>
        </p:blipFill>
        <p:spPr>
          <a:xfrm>
            <a:off x="2895480" y="449568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426" name="pc1" descr=""/>
          <p:cNvPicPr/>
          <p:nvPr/>
        </p:nvPicPr>
        <p:blipFill>
          <a:blip r:embed="rId4"/>
          <a:stretch/>
        </p:blipFill>
        <p:spPr>
          <a:xfrm>
            <a:off x="2438280" y="1905120"/>
            <a:ext cx="2438640" cy="19796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 rot="16200000">
            <a:off x="1371240" y="5181480"/>
            <a:ext cx="1067040" cy="15238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rot="16200000">
            <a:off x="6704280" y="1828800"/>
            <a:ext cx="1371600" cy="15238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113" stAng="10800000" swAng="5400000"/>
                <a:lnTo>
                  <a:pt x="12974" y="2047"/>
                </a:lnTo>
                <a:lnTo>
                  <a:pt x="12974" y="0"/>
                </a:lnTo>
                <a:lnTo>
                  <a:pt x="21600" y="6079"/>
                </a:lnTo>
                <a:lnTo>
                  <a:pt x="12974" y="12158"/>
                </a:lnTo>
                <a:lnTo>
                  <a:pt x="12974" y="10111"/>
                </a:lnTo>
                <a:lnTo>
                  <a:pt x="12427" y="10111"/>
                </a:lnTo>
                <a:arcTo wR="4363" hR="2049" stAng="16200000" swAng="-5400000"/>
                <a:lnTo>
                  <a:pt x="806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76520" y="190512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5715000" y="5334120"/>
            <a:ext cx="1295280" cy="1218960"/>
          </a:xfrm>
          <a:custGeom>
            <a:avLst/>
            <a:gdLst>
              <a:gd name="textAreaLeft" fmla="*/ 360 w 1295280"/>
              <a:gd name="textAreaRight" fmla="*/ 1296000 w 12952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53080" y="3352680"/>
            <a:ext cx="129564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553080" y="388584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34320" y="388620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086600" y="38098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3809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7467480" y="3505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7543800" y="342900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 rot="10800000">
            <a:off x="304920" y="2894400"/>
            <a:ext cx="129528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304920" y="297144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609480" y="31240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761760" y="31237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990360" y="3351960"/>
            <a:ext cx="152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1143000" y="3352320"/>
            <a:ext cx="76320" cy="30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1219320" y="3657600"/>
            <a:ext cx="304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7040" y="3130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726080" y="15238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41080" y="2133720"/>
            <a:ext cx="8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23200" y="4724280"/>
            <a:ext cx="7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17560" y="198108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5600" y="566640"/>
            <a:ext cx="85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simulación comienza al final del  primer  período. 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evo gerente (Usted!) debe tomar las decisiones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DCFB-83D7-42A4-AFB3-6DF0491F00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que su equipo pueda familiarizarse mejor con Markstrat, se han limitado algunas decisiones del primer perío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2084400"/>
            <a:ext cx="807732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coge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realizar grandes cambios en las operaciones de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 modificar,  retirar o introducir nuevas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iniciar proyectos de 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dar objetivos perceptuales para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AF77-1C2A-464D-A829-F2702956252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ganícense y gestionen el trabajo gru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flechas3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916000" cy="3048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983480" y="2362320"/>
            <a:ext cx="32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imitación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6840" y="5257800"/>
            <a:ext cx="28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pin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flic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7440" y="2514600"/>
            <a:ext cx="301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xceso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228B-91E6-4A19-8487-BAEC8CFECBE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DECC-2231-49F2-B69F-E6A57BB954A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ingresar al sitio de su equipo, el menú principal estará en la pantalla de su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523880" y="2887560"/>
            <a:ext cx="5867640" cy="37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523880" y="2209680"/>
            <a:ext cx="586764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523880" y="2286000"/>
            <a:ext cx="6019920" cy="533520"/>
          </a:xfrm>
          <a:prstGeom prst="wedgeRoundRectCallout">
            <a:avLst>
              <a:gd name="adj1" fmla="val 40824"/>
              <a:gd name="adj2" fmla="val -95537"/>
              <a:gd name="adj3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50880" y="1752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arra de Mód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981080"/>
            <a:ext cx="1447920" cy="762120"/>
          </a:xfrm>
          <a:prstGeom prst="wedgeRoundRectCallout">
            <a:avLst>
              <a:gd name="adj1" fmla="val 74125"/>
              <a:gd name="adj2" fmla="val 31458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20574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acceder el módulo de dec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68C0-8805-4A5E-B11A-A598DFD9018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8AFC-8D53-4437-A656-7F7C3DB60A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uego de haber ingresado a la ventana principal del Módulo de Decisiones, Usted comenzará a realizar decisiones para 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45878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981080" y="1981080"/>
            <a:ext cx="2286000" cy="914400"/>
          </a:xfrm>
          <a:prstGeom prst="wedgeRoundRectCallout">
            <a:avLst>
              <a:gd name="adj1" fmla="val 49097"/>
              <a:gd name="adj2" fmla="val 84375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213372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ingresar al módulo de producción. precio y 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EA3C-B7BA-40F5-AF0D-CB2CDB51711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es de producción, precio y publicidad deben ser tomadas para cad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553080" cy="46814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7162920" y="2590920"/>
            <a:ext cx="1752480" cy="1066680"/>
          </a:xfrm>
          <a:prstGeom prst="wedgeRoundRectCallout">
            <a:avLst>
              <a:gd name="adj1" fmla="val -42662"/>
              <a:gd name="adj2" fmla="val -77527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59436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a marc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2133720"/>
            <a:ext cx="228600" cy="2286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2133720"/>
            <a:ext cx="228600" cy="228600"/>
          </a:xfrm>
          <a:prstGeom prst="rect">
            <a:avLst/>
          </a:prstGeom>
          <a:solidFill>
            <a:srgbClr val="d5d5d5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18288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onites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15200" y="26668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ted está actualmente decidiendo sobre la marca S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A996-62D9-4B10-971E-DCDCC7E2459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fuerza de venta está organizada por tipo de canal de distribución, para poder así conocer sus necesidades especí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715000" y="3581280"/>
          <a:ext cx="28954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895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5619960" cy="28576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590920" y="4876920"/>
            <a:ext cx="3124080" cy="838080"/>
          </a:xfrm>
          <a:prstGeom prst="wedgeRoundRectCallout">
            <a:avLst>
              <a:gd name="adj1" fmla="val 509"/>
              <a:gd name="adj2" fmla="val -80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14600" y="5029200"/>
            <a:ext cx="33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para normalizar la fuerza de venta a un 100% en cada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14600" y="4648320"/>
            <a:ext cx="0" cy="152388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9A95-B94D-425D-A37E-F18A7BA7B78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comprar estudios de investigación de mercado, éstos le ayudarán a hacer buenas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6705720" cy="47005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457200" y="2133720"/>
            <a:ext cx="6553080" cy="30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3429000"/>
            <a:ext cx="1905120" cy="838080"/>
          </a:xfrm>
          <a:prstGeom prst="wedgeRoundRectCallout">
            <a:avLst>
              <a:gd name="adj1" fmla="val -64166"/>
              <a:gd name="adj2" fmla="val 11079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0" y="35053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costos son actualizados de acuerdo a su se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ACCE-A5EB-46CD-8F55-24FC1E25890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monitorear el estado de sus decisiones cuando de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6095880" cy="3863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aphicFrame>
        <p:nvGraphicFramePr>
          <p:cNvPr id="508" name=""/>
          <p:cNvGraphicFramePr/>
          <p:nvPr/>
        </p:nvGraphicFramePr>
        <p:xfrm>
          <a:off x="4572000" y="1905120"/>
          <a:ext cx="411480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14800" cy="16509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 flipV="1">
            <a:off x="3886200" y="3504960"/>
            <a:ext cx="2666880" cy="2057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3657600" y="6095880"/>
            <a:ext cx="45720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838080" y="6095880"/>
            <a:ext cx="53352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71D8-21AE-4957-AAD4-3124419EE15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olvide transferir sus deci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172200" cy="3873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6172200" cy="763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17" name=""/>
          <p:cNvSpPr/>
          <p:nvPr/>
        </p:nvSpPr>
        <p:spPr>
          <a:xfrm>
            <a:off x="7086600" y="2819520"/>
            <a:ext cx="1676520" cy="838080"/>
          </a:xfrm>
          <a:prstGeom prst="wedgeRoundRectCallout">
            <a:avLst>
              <a:gd name="adj1" fmla="val -72157"/>
              <a:gd name="adj2" fmla="val -11155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86600" y="2819520"/>
            <a:ext cx="180324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ra acceder al Módulo Interf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2666880"/>
            <a:ext cx="1600200" cy="990720"/>
          </a:xfrm>
          <a:prstGeom prst="wedgeRoundRectCallout">
            <a:avLst>
              <a:gd name="adj1" fmla="val 60217"/>
              <a:gd name="adj2" fmla="val 74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2666880"/>
            <a:ext cx="16002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iera sus decisiones y entregue su disco al i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074B-40BC-42D9-8E6F-091EAABBBA9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 sus marcas... Listos... YA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23080" y="2590920"/>
            <a:ext cx="67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gne un nombre a su compañ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77160" y="3505320"/>
            <a:ext cx="56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te el plazo de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RELOJCRO" descr=""/>
          <p:cNvPicPr/>
          <p:nvPr/>
        </p:nvPicPr>
        <p:blipFill>
          <a:blip r:embed="rId1"/>
          <a:stretch/>
        </p:blipFill>
        <p:spPr>
          <a:xfrm>
            <a:off x="7102440" y="228600"/>
            <a:ext cx="1606680" cy="21859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043440" y="4724280"/>
            <a:ext cx="6096960" cy="109944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Buena Suerte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258912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5B86-FE82-470B-B6AA-A33E7EBAC1D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Mundo Markstrat”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gran territorio con una economía altamente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AMERICS2" descr=""/>
          <p:cNvPicPr/>
          <p:nvPr/>
        </p:nvPicPr>
        <p:blipFill>
          <a:blip r:embed="rId1"/>
          <a:stretch/>
        </p:blipFill>
        <p:spPr>
          <a:xfrm flipH="1">
            <a:off x="4495320" y="4038480"/>
            <a:ext cx="167652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AMERICN2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2579400" cy="229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2362320"/>
            <a:ext cx="5867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5053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Población: 250 mill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Moneda: Dólar Markstrat ($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8CAA-3249-4D9F-8668-535879AFFE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s firmas en competencia se inician en posiciones disti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APIDO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900440" cy="2362320"/>
          </a:xfrm>
          <a:prstGeom prst="rect">
            <a:avLst/>
          </a:prstGeom>
          <a:ln w="0">
            <a:noFill/>
          </a:ln>
        </p:spPr>
      </p:pic>
      <p:pic>
        <p:nvPicPr>
          <p:cNvPr id="65" name="RAPIDO" descr=""/>
          <p:cNvPicPr/>
          <p:nvPr/>
        </p:nvPicPr>
        <p:blipFill>
          <a:blip r:embed="rId2"/>
          <a:stretch/>
        </p:blipFill>
        <p:spPr>
          <a:xfrm>
            <a:off x="3429000" y="2362320"/>
            <a:ext cx="14716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RAPIDO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128736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RAPIDO" descr=""/>
          <p:cNvPicPr/>
          <p:nvPr/>
        </p:nvPicPr>
        <p:blipFill>
          <a:blip r:embed="rId4"/>
          <a:stretch/>
        </p:blipFill>
        <p:spPr>
          <a:xfrm>
            <a:off x="3962520" y="3809880"/>
            <a:ext cx="2146320" cy="2667240"/>
          </a:xfrm>
          <a:prstGeom prst="rect">
            <a:avLst/>
          </a:prstGeom>
          <a:ln w="0">
            <a:noFill/>
          </a:ln>
        </p:spPr>
      </p:pic>
      <p:pic>
        <p:nvPicPr>
          <p:cNvPr id="68" name="RAPIDO" descr=""/>
          <p:cNvPicPr/>
          <p:nvPr/>
        </p:nvPicPr>
        <p:blipFill>
          <a:blip r:embed="rId5"/>
          <a:stretch/>
        </p:blipFill>
        <p:spPr>
          <a:xfrm>
            <a:off x="1219320" y="3048120"/>
            <a:ext cx="1827000" cy="2270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2971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505320"/>
            <a:ext cx="868680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114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8006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63868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477120"/>
            <a:ext cx="27432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CA9F-1B51-4616-8352-C36DF7A212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puede competir en DOS producto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2362320"/>
            <a:ext cx="1676520" cy="213336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362320"/>
            <a:ext cx="2057400" cy="20574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81952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usti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724280"/>
            <a:ext cx="2438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N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4724280"/>
            <a:ext cx="24382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áximo: 5 marcas/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2FF4-2043-4BA8-B48A-3CE753B9D4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mercado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es altamente desarrollado y cada producto tiene 6 característica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819520"/>
            <a:ext cx="920520" cy="676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6576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90920" y="33526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19320" y="33526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905120" y="2514240"/>
            <a:ext cx="144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590920"/>
            <a:ext cx="46044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743200"/>
            <a:ext cx="920520" cy="338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743200"/>
            <a:ext cx="7452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3200400"/>
            <a:ext cx="395280" cy="406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2666880"/>
            <a:ext cx="8380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5105520"/>
            <a:ext cx="920880" cy="744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371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8288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2860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5105520"/>
            <a:ext cx="525240" cy="101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5105520"/>
            <a:ext cx="263520" cy="1015920"/>
          </a:xfrm>
          <a:custGeom>
            <a:avLst/>
            <a:gdLst>
              <a:gd name="textAreaLeft" fmla="*/ 0 w 263520"/>
              <a:gd name="textAreaRight" fmla="*/ 185040 w 263520"/>
              <a:gd name="textAreaTop" fmla="*/ 253800 h 1015920"/>
              <a:gd name="textAreaBottom" fmla="*/ 762120 h 10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5181480"/>
            <a:ext cx="263520" cy="812880"/>
          </a:xfrm>
          <a:custGeom>
            <a:avLst/>
            <a:gdLst>
              <a:gd name="textAreaLeft" fmla="*/ 0 w 263520"/>
              <a:gd name="textAreaRight" fmla="*/ 185040 w 263520"/>
              <a:gd name="textAreaTop" fmla="*/ 203040 h 812880"/>
              <a:gd name="textAreaBottom" fmla="*/ 609840 h 81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410080"/>
            <a:ext cx="131760" cy="474840"/>
          </a:xfrm>
          <a:custGeom>
            <a:avLst/>
            <a:gdLst>
              <a:gd name="textAreaLeft" fmla="*/ 0 w 131760"/>
              <a:gd name="textAreaRight" fmla="*/ 92520 w 131760"/>
              <a:gd name="textAreaTop" fmla="*/ 118800 h 474840"/>
              <a:gd name="textAreaBottom" fmla="*/ 35640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419720"/>
            <a:ext cx="2590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44197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6248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6248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19051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1905120"/>
            <a:ext cx="12952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3733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2743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4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029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4876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23623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9240" y="2590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11BC-2BCE-48B2-96B6-8F02CC3218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también posee 6 características propias, pero el mercado está aún en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61722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6400" y="58672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114800" y="58672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05120"/>
            <a:ext cx="25905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44197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419720"/>
            <a:ext cx="12956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á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6248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248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3581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48769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666880"/>
            <a:ext cx="1523880" cy="838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105520"/>
            <a:ext cx="457200" cy="10666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5029200"/>
            <a:ext cx="914400" cy="5335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5029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5638680"/>
            <a:ext cx="609480" cy="609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5410080"/>
            <a:ext cx="1218960" cy="6858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800600" y="502884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514600"/>
            <a:ext cx="1143000" cy="838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447920" y="2895480"/>
            <a:ext cx="14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051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3623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3581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9920" y="1905120"/>
            <a:ext cx="1771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t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590920"/>
            <a:ext cx="121932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2895480"/>
            <a:ext cx="457200" cy="4572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952880" y="289512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3581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F256-BC76-4FAF-85F5-9165F960D7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 fácil reconocer el origen de las marcas a partir de sus n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438280"/>
            <a:ext cx="7772400" cy="1676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5146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25146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4038480"/>
            <a:ext cx="4572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858000" y="4038480"/>
            <a:ext cx="53352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800600"/>
            <a:ext cx="1828800" cy="179100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po de Produ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=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=Vo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4800600"/>
            <a:ext cx="1828800" cy="174744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ñía dueña de la mar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,E,I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4800600"/>
            <a:ext cx="3352680" cy="101592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ras o númer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e 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8719-4BC3-4D12-A9A3-CCD8A3A03B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9:02:46Z</dcterms:created>
  <dc:creator>Marcelo y Tomás Münzenmayer S</dc:creator>
  <dc:description/>
  <dc:language>en-US</dc:language>
  <cp:lastModifiedBy>Universidad De Chile</cp:lastModifiedBy>
  <cp:lastPrinted>1999-12-21T19:58:19Z</cp:lastPrinted>
  <dcterms:modified xsi:type="dcterms:W3CDTF">2001-10-05T15:44:58Z</dcterms:modified>
  <cp:revision>22</cp:revision>
  <dc:subject/>
  <dc:title>The Markstrat Challenge I</dc:title>
</cp:coreProperties>
</file>