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882D-EE79-49B4-B53D-1D103C87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BD05-D173-4AB1-9813-4EB242C7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2857-B1BE-4439-86DD-4BFECBB5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C4FE-E03C-4766-9017-DD248B98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EFD-AEA9-4441-8250-0C22DA8D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EC4-B24C-4BC9-AB76-51226C11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00B-64FC-47F2-829E-E758C349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9AF-AD18-402A-8F07-CFA52A85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587-C359-4B75-8706-CC79D617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A21-CDAD-4E20-BF60-5B3CBF54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9CA3-B18F-4496-A784-3EE1DA69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9C5-DB68-4227-8BCA-94BCC41C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80D1-22D2-46A0-A400-CEF1D7BAA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oficina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LUZ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cerdo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flechas3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dinero4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DINERO4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opera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dardos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xaminar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interrog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gente1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gente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Universidad De Chile</cp:lastModifiedBy>
  <cp:lastPrinted>2000-03-10T16:13:12Z</cp:lastPrinted>
  <dcterms:modified xsi:type="dcterms:W3CDTF">2001-10-18T15:16:40Z</dcterms:modified>
  <cp:revision>21</cp:revision>
  <dc:subject/>
  <dc:title>Sin título de diapositiva</dc:title>
</cp:coreProperties>
</file>