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A75-E610-450F-B86D-8FF9EBF8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73F-7D59-4DC6-9A03-87B3D6A7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C6F-2F2B-4573-B496-6BF84125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FD2-0741-462A-B52A-40FC34AC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DED0-ED8B-4323-AC0D-5C74DB41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18F-14DC-4E9E-ACE6-85FCE557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62A6-8493-4CF6-B247-0A8D86AC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47A0-0664-4737-B22D-25F1CCD8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594A-A03D-4224-AF6C-D03EE06C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CFEB-2DC5-43F6-B0A1-32C90767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7B0B-1CFA-407A-A76E-8FBE3F61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719-2261-41B6-946C-A0E425AF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11DD-9433-4B8F-B1F3-A5A268B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3E5D-039F-467D-899F-BB4B7C7F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3363-F26A-4F9F-9C3C-1F8EFFDF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0B28-94ED-4900-9E2D-D51CB4DB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FEE6-3F18-4C14-8EB3-141A0DAF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1AD-D376-4D36-9B0D-C92E724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C1C-D09F-4835-9286-5C381064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424-453E-4265-B20C-D46E07E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F82-4106-455B-8280-92DBDF57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C3A-30ED-4E26-8518-788E2301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D43-3720-4DF7-8CC2-CE91374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19F-EC33-4B6B-905D-FD81925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752-0FC3-4011-8631-68544ECBDB7A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338120"/>
            <a:ext cx="76788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D5EB-4EE1-44C3-8103-C5F67DE2D752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17722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Los Desafíos del Mercado </a:t>
            </a:r>
            <a:br>
              <a:rPr sz="3600"/>
            </a:b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Verdana"/>
              </a:rPr>
              <a:t>27 de Agosto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Verdana"/>
              </a:rPr>
              <a:t>Germán Acevedo 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egió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633680"/>
            <a:ext cx="74167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4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ramo de Rent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6292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8163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Análisis de las Características y Dinámicas del Mercado 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59056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Rama de Actividad Económic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3357720"/>
            <a:ext cx="720720" cy="259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492280"/>
            <a:ext cx="2087640" cy="3241800"/>
            <a:chOff x="1476360" y="2492280"/>
            <a:chExt cx="2087640" cy="3241800"/>
          </a:xfrm>
        </p:grpSpPr>
        <p:sp>
          <p:nvSpPr>
            <p:cNvPr id="257" name=""/>
            <p:cNvSpPr/>
            <p:nvPr/>
          </p:nvSpPr>
          <p:spPr>
            <a:xfrm>
              <a:off x="2843280" y="2492280"/>
              <a:ext cx="720720" cy="316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141720"/>
              <a:ext cx="72072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26920" y="1835280"/>
            <a:ext cx="7274160" cy="3949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Rama de Actividad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26920" y="2421000"/>
            <a:ext cx="5832720" cy="863640"/>
            <a:chOff x="826920" y="2421000"/>
            <a:chExt cx="5832720" cy="863640"/>
          </a:xfrm>
        </p:grpSpPr>
        <p:sp>
          <p:nvSpPr>
            <p:cNvPr id="262" name=""/>
            <p:cNvSpPr/>
            <p:nvPr/>
          </p:nvSpPr>
          <p:spPr>
            <a:xfrm>
              <a:off x="826920" y="242100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6920" y="299736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826920" y="3500280"/>
            <a:ext cx="5832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19640" y="1844640"/>
            <a:ext cx="1511280" cy="3960720"/>
          </a:xfrm>
          <a:prstGeom prst="rect">
            <a:avLst/>
          </a:prstGeom>
          <a:noFill/>
          <a:ln w="38160">
            <a:solidFill>
              <a:srgbClr val="26f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70040" y="4653000"/>
            <a:ext cx="5423040" cy="1609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Tamaño de Empresa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3640" y="1758960"/>
            <a:ext cx="844236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26920" y="364500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/ El Seguro de Cesantía define el tamaño de empresas en términos del número de trabajadores “pequeña” = de 1 a 49 t , “mediana” = de 50 a 199 t y "grande" = más de 200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348000" y="2133720"/>
            <a:ext cx="719280" cy="3309840"/>
            <a:chOff x="3348000" y="2133720"/>
            <a:chExt cx="719280" cy="3309840"/>
          </a:xfrm>
        </p:grpSpPr>
        <p:sp>
          <p:nvSpPr>
            <p:cNvPr id="271" name=""/>
            <p:cNvSpPr/>
            <p:nvPr/>
          </p:nvSpPr>
          <p:spPr>
            <a:xfrm>
              <a:off x="3348000" y="213372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157720"/>
              <a:ext cx="71928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5080" y="2637000"/>
            <a:ext cx="1798560" cy="3384360"/>
            <a:chOff x="4645080" y="2637000"/>
            <a:chExt cx="1798560" cy="3384360"/>
          </a:xfrm>
        </p:grpSpPr>
        <p:sp>
          <p:nvSpPr>
            <p:cNvPr id="274" name=""/>
            <p:cNvSpPr/>
            <p:nvPr/>
          </p:nvSpPr>
          <p:spPr>
            <a:xfrm>
              <a:off x="5724360" y="263700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5735520"/>
              <a:ext cx="71892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Tamaño de Empres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55840" y="6345360"/>
            <a:ext cx="65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amaño de empresa según número de trabajadores: Micro = de 1 a 9 trabajadores, Pequeña = de 10 a 49, Mediana = 50 a 199 y Grande = más de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91560" cy="478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92720" y="4292640"/>
            <a:ext cx="358920" cy="151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79640" y="4797360"/>
            <a:ext cx="5616720" cy="1152720"/>
            <a:chOff x="1979640" y="4797360"/>
            <a:chExt cx="5616720" cy="1152720"/>
          </a:xfrm>
        </p:grpSpPr>
        <p:sp>
          <p:nvSpPr>
            <p:cNvPr id="283" name=""/>
            <p:cNvSpPr/>
            <p:nvPr/>
          </p:nvSpPr>
          <p:spPr>
            <a:xfrm>
              <a:off x="1979640" y="4797360"/>
              <a:ext cx="5616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6000" y="4797360"/>
              <a:ext cx="360360" cy="1152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Géner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87280" y="1677960"/>
            <a:ext cx="684072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oblación Objetivo del seguro de Des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3124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3357720"/>
            <a:ext cx="165600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ramos de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57080" y="1549440"/>
            <a:ext cx="756000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ensidad de Cotizaciones de Relaciones Labor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9310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7020000" y="1839960"/>
            <a:ext cx="201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56% de las relaciones laborales dura la mitad del tiempo o me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24% ha cotizado todos los meses desde la afil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6078600"/>
            <a:ext cx="561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nsidad =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Verdana"/>
              </a:rPr>
              <a:t>número de meses co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úmero de meses des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Relación Salario Promedio y Antigüedad en 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811160"/>
            <a:ext cx="7480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7280" cy="3657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60840" y="6237360"/>
            <a:ext cx="60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l 52% de los Afiliados no reporta las horas trabajadas segú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3924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935000"/>
            <a:ext cx="181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54120" y="2440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s salarios ($1 a $200 mil mensuales) = $109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1 a 6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.091.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5560" y="3879720"/>
            <a:ext cx="66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arios promedio ($200 mil a $400 mil mensuales) = $ 2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7 a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26.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25400" y="539280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s salarios (más de $400 mil mensuales) = $75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más de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78.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625840" cy="82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728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bertura del Seguro de Desempleo Junio/04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714680"/>
            <a:ext cx="63882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5520" y="6381720"/>
            <a:ext cx="31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 INE Mar-May 2004, SAFP Jun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26920" y="3284640"/>
            <a:ext cx="7250400" cy="3379320"/>
            <a:chOff x="826920" y="3284640"/>
            <a:chExt cx="7250400" cy="3379320"/>
          </a:xfrm>
        </p:grpSpPr>
        <p:sp>
          <p:nvSpPr>
            <p:cNvPr id="222" name=""/>
            <p:cNvSpPr/>
            <p:nvPr/>
          </p:nvSpPr>
          <p:spPr>
            <a:xfrm>
              <a:off x="7769160" y="3463920"/>
              <a:ext cx="308160" cy="1946160"/>
            </a:xfrm>
            <a:custGeom>
              <a:avLst/>
              <a:gdLst/>
              <a:ahLst/>
              <a:rect l="l" t="t" r="r" b="b"/>
              <a:pathLst>
                <a:path w="194" h="1226">
                  <a:moveTo>
                    <a:pt x="46" y="1226"/>
                  </a:moveTo>
                  <a:lnTo>
                    <a:pt x="194" y="1017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1200" y="5356080"/>
              <a:ext cx="4608000" cy="520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tizantes al Seguro de Cesantía a Jun ’04 = 1.3513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filiados al Seguro de Cesantía a Jun ’04    = 2.735.7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8160" y="6021360"/>
              <a:ext cx="2855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Cotizantes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Afiliados  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7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284640"/>
              <a:ext cx="6769440" cy="28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00000" y="3348000"/>
            <a:ext cx="653760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Evolución Afiliados y Cotizant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665360"/>
            <a:ext cx="69278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SEN 2000 – Cobertur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68680" cy="3870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031840" y="5823000"/>
            <a:ext cx="51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42% de los asalariados privados dura 24 meses o menos en el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00360" y="1773360"/>
            <a:ext cx="0" cy="324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5319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Caracterización de los Afiliado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Género y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1120" y="1341360"/>
            <a:ext cx="3819600" cy="284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27640" y="3911760"/>
            <a:ext cx="43178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Nivel Educativ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5840" y="1765440"/>
            <a:ext cx="740124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ama de Activi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44640" y="1660680"/>
            <a:ext cx="72993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6:21:58Z</dcterms:created>
  <dc:creator>Patricio Cerda - SAFP</dc:creator>
  <dc:description/>
  <dc:language>en-US</dc:language>
  <cp:lastModifiedBy>José Inostroza</cp:lastModifiedBy>
  <dcterms:modified xsi:type="dcterms:W3CDTF">2004-08-30T14:28:12Z</dcterms:modified>
  <cp:revision>257</cp:revision>
  <dc:subject/>
  <dc:title>Seguro de Cesantí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960B44930DC4541A1861A716A8D7F0384342E00</vt:lpwstr>
  </property>
  <property fmtid="{D5CDD505-2E9C-101B-9397-08002B2CF9AE}" pid="3" name="_ReviewCycleID">
    <vt:r8>-461839552</vt:r8>
  </property>
  <property fmtid="{D5CDD505-2E9C-101B-9397-08002B2CF9AE}" pid="4" name="_ReviewingToolsShownOnce">
    <vt:lpwstr/>
  </property>
</Properties>
</file>