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9118-3959-43A7-8BF8-465DBD19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22F-5275-4651-B031-87828574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2C2A-68B6-4FBB-9062-11786CF4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FA0-6735-4A4F-B953-E354F5C4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356F-A992-4CE9-86F3-7CD82D3E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33BB-C265-48B5-B89A-6C8C789F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542B-22AF-46D4-9885-8151DC06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9AF3-A668-4B18-8C9B-FB28AD50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EFF4-8C7B-4C9B-9FB5-90E90755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4DB7-FCCC-47DD-8E6E-280EB4D9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F955-5182-42BB-89C6-583B3CE0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CB3-762A-4C11-B263-0C04E0CB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9115-ED48-47D6-9397-3DE55128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A7C2-3CB9-42FD-8901-EDF8C537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DA03-AA60-4553-A204-392DB917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BA33-25D2-4514-879B-61A046AF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4555-7C4C-43C6-B46B-A57FCB00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539F-CF20-4F03-B6F8-0E339DCC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FFF-7EDC-409C-BCB1-9225A908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827-BFAA-43E7-A26A-A207D457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F48-92E6-46A8-9EDE-CC46D732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3E14-4023-4424-A188-F7F818C3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1BF1-FC33-4A89-9B17-BA1F8AC0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DD0-0144-4ADB-92C9-9D958E50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E79F-D15B-4B7B-8F56-2FFF9DDA70C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EE5D-A2B2-4057-998A-436ED691C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468E-873C-4989-B0BB-DA21764EED4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9196-3609-457C-9F2D-0470B1C9F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epal.cl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ffff"/>
                </a:solidFill>
                <a:latin typeface="Times New Roman"/>
              </a:rPr>
              <a:t>Descentralización en América Latina: Cómo Viabilizar el Desarrollo Local y Regional</a:t>
            </a: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599840" y="5257800"/>
            <a:ext cx="6248520" cy="1371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Iván Finot, NN.UU./CEPAL/IL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Universidad de Chile, Magíster en Gestión y Políticas Públ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10 de septiembre,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2819520"/>
            <a:ext cx="5257800" cy="22201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os procesos: el desafí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Revisión de la teor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valuación de los proc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puesta de reorie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Balan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uces y sombras pero escasa autonomía lo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plic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descentralización se orientó a la gestión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 desequilibrios fiscales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mayor control, reducción de la autonom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eyes de responsabilidad fiscal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ímites al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ímites al gasto corri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Modificaciones a los sistemas de transferencias: Colomb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El Desafí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97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Cómo (re)orientar los procesos par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talecer las autonomías locales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para viabilizar el desarrollo local a fin de hacer más competitiva a la economía nacion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Y a la vez avanzar 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quidad: territorial y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mocratización, ciudadan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ficiencia: económica y fiscal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2. Revisión de la Teor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doble sombrero de los gobiernos loca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autonomía en las asignaciones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abezas de autonomí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Descentralización</a:t>
            </a: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Polí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ólo operan decisiones de gobiernos centrales, su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gent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Descentralización Ope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mbas convenientes, según características geográficas de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teoría se refiere a la descentralización política (para descentralización operativa, sólo la del Principal – Agen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escentralización Polític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ransferencia de decisiones sobre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signa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en la provisión de bienes públicos a procesos democráticos loc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veniente cuando la demanda está geográficamente diferenciada según aspec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ís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ultu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se cumplen condiciones de eficienc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 adecuación a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eneficios superiores a economías de escala por centr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66"/>
                </a:solidFill>
                <a:latin typeface="Times New Roman"/>
              </a:rPr>
              <a:t>Mejor Adecuación a la Deman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8229600" cy="5867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rrespondencia entre diferenciación geográfica de la demanda y circunscripciones de los respectivos procesos de provisión (a partir de Oate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</a:t>
            </a:r>
            <a:r>
              <a:rPr b="1" lang="es-ES" sz="2600" spc="-1" strike="noStrike">
                <a:solidFill>
                  <a:srgbClr val="ffff66"/>
                </a:solidFill>
                <a:latin typeface="Times New Roman"/>
              </a:rPr>
              <a:t>acercamiento al ciudadano y asociación territor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velación efectiva de preferenci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Transferencia del proceso completo: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decisiones colectivas sobre qué, cuánto y con qué parte de su ingreso</a:t>
            </a:r>
            <a:r>
              <a:rPr b="1" lang="es-ES_tradnl" sz="2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roveer (a partir de Musgrave). </a:t>
            </a:r>
            <a:r>
              <a:rPr b="1" lang="es-ES_tradnl" sz="2600" spc="-1" strike="noStrike" u="sng">
                <a:solidFill>
                  <a:srgbClr val="ffffff"/>
                </a:solidFill>
                <a:uFillTx/>
                <a:latin typeface="Times New Roman"/>
              </a:rPr>
              <a:t>Inequidad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transferencias de libre disponibilidad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proporcionales a aportes locales relativ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Procesos al menos tan democráticos y participativos como los centr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sistema electoral territorial + participación popul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Transferencias Territoriales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a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Transferencias no condicionadas: “block grants”, para compensar diferencias en ingresos públicos por habita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Transferencias condicionadas: “matched grants”, para igualar nivel de provisión de algunos servicios (generalmente se requiere aporte loca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embargo, las transferencias más adecuadas sería una combin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 libre disponibilida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Condicionadas a aportes loc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Subsidiarias respecto a decisiones locales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mportancia de las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76520" y="2265480"/>
          <a:ext cx="6476760" cy="4363920"/>
        </p:xfrm>
        <a:graphic>
          <a:graphicData uri="http://schemas.openxmlformats.org/drawingml/2006/table">
            <a:tbl>
              <a:tblPr/>
              <a:tblGrid>
                <a:gridCol w="1218960"/>
                <a:gridCol w="990720"/>
                <a:gridCol w="2209680"/>
                <a:gridCol w="2057400"/>
              </a:tblGrid>
              <a:tr h="520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ciona-miento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uso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Política del Gast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entralización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Política </a:t>
                      </a: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perativ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Operativa &gt;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143000" y="12193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os tipos de condicionamientos: al aporte local (con qué parte del ingreso proveer) y a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Evaluación de los Procesos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cercamiento al Ciudadano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3920" y="654516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6477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62120" y="1476360"/>
          <a:ext cx="807696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76360"/>
                    <a:ext cx="8076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inculación de gastos con ingresos fiscales?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los Ingres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6477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476360"/>
          <a:ext cx="8686800" cy="50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76360"/>
                    <a:ext cx="868680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66680" y="3429000"/>
            <a:ext cx="3353040" cy="26668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905120"/>
            <a:ext cx="3353040" cy="190476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1905120"/>
            <a:ext cx="2971800" cy="1904760"/>
          </a:xfrm>
          <a:prstGeom prst="rect">
            <a:avLst/>
          </a:prstGeom>
          <a:solidFill>
            <a:srgbClr val="99ff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1981080"/>
            <a:ext cx="990720" cy="398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19720" y="1676520"/>
            <a:ext cx="0" cy="5029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2590920"/>
            <a:ext cx="990720" cy="398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380988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3809880"/>
            <a:ext cx="6781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Autonomía de Ingre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1295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Autonomía deGa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2590920"/>
            <a:ext cx="1524240" cy="581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Ramo 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5229360"/>
            <a:ext cx="2209680" cy="7038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ondos de Cofinanci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3476520"/>
            <a:ext cx="9907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528624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6019920"/>
            <a:ext cx="5335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5029200"/>
            <a:ext cx="1218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istemas Bás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48720" y="5715000"/>
            <a:ext cx="14475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Sistemas Complemen-t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4952880"/>
            <a:ext cx="1905120" cy="1905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5229360"/>
            <a:ext cx="1371600" cy="3988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3657600"/>
            <a:ext cx="114300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327840" y="5061960"/>
            <a:ext cx="789840" cy="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5838840"/>
            <a:ext cx="3200400" cy="1008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inanciamiento Directo de Servicios Sociales: Colombia, Chile, (México.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1981080"/>
            <a:ext cx="1447920" cy="398880"/>
          </a:xfrm>
          <a:prstGeom prst="rect">
            <a:avLst/>
          </a:prstGeom>
          <a:solidFill>
            <a:srgbClr val="ff3300"/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2257560"/>
            <a:ext cx="14479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088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536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596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3588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3962520"/>
            <a:ext cx="1143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3747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6172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3048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755800" y="5509080"/>
            <a:ext cx="279000" cy="25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autonomía?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Sistemas de Trans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1981080"/>
            <a:ext cx="762120" cy="36828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1982880"/>
            <a:ext cx="99036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24382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21337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518148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1. Los procesos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Evolución Históric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. Antecedente: 60’s - 70’s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lanificación Region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acro regiones, Corporaciones de Desarro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1) Desconcentración de la producción y de la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2) Eficiencia administ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20040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. Desde los 80’s: </a:t>
            </a: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Descentr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. 80’s - 90’s: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Democratización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cia circunscripciones antes con gobiernos electos: estados, municipio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3) Participación ciudad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4) Equidad: territorial, social! (deuda soci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5) Eficiencia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56386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. 2000 - ...: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lobalización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mpiten terri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6)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Autonomía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Mejor Expresión de Preferencia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caso acercamiento a niveles más próximos al ciudadano (submunicipales), ausencia de estímulos a la asociación terri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asto vinculado con ingresos sólo en (pocos) municipios con capacidad de generación de ingresos tribut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sistema electoral proporcional no propicia una representación adecu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0769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Bajos niveles de autonomía local. Excepción relativa: Brasil, pero no se incentiva la eficiencia fiscal (vínculo con ingreso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os sistemas de transferencias básicas no propician la eficienci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excepto en transferencias a los estados en México, pero en este caso: los municipios dependen del  nivel estatal y además riesgo de  inequi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stos sistemas determinan, para cada municipio, distintas combinanciones de descentralización política y operativa, la autonomía depende de la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capacidad de generación de ingresos fiscales propios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desigualdad en derecho ciudadano a proveerse de bienes locales 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(en función de sus ingresos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Times New Roman"/>
              </a:rPr>
              <a:t>4. Propuesta  (Modelo normativo)</a:t>
            </a:r>
            <a:br>
              <a:rPr sz="3600"/>
            </a:br>
            <a:r>
              <a:rPr b="0" lang="es-ES_tradnl" sz="4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iferenciaciones Básic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la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escentralización polí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diferenciar funcionalmente la demanda respecto a 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, cuánto y con 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recursos prove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raestructura básica y servicios públic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: nivele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rvicios de educación y salu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 = niveles)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igua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ferenciación establecida en México y ahora en Colom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Sistemas de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066680"/>
            <a:ext cx="8458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Reunir todas las transferencias existentes y conformar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dos sistemas subsidiarios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*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1) Sistema de redistribución social: para canasta social, respecto a ingresos familiares, integrado y operado por gobiernos subnacionales (Chile, Colomb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2) Sistema de redistribución territorial,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para desarrollo local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(a partir de infraestructura básica,  </a:t>
            </a:r>
            <a:r>
              <a:rPr b="1" i="1" lang="es-ES_tradnl" sz="2600" spc="-1" strike="noStrike">
                <a:solidFill>
                  <a:srgbClr val="ffffff"/>
                </a:solidFill>
                <a:latin typeface="Times New Roman"/>
              </a:rPr>
              <a:t>sobre experiencia de México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ansferencias proporcionales a los aport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lativos</a:t>
            </a:r>
            <a:r>
              <a:rPr b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en principio: respecto a ingresos geográfic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siderar incluir “cuasi-impuestos”: aportes en “tiempo”, trabajo, materiales, dinero (cuantificados por Fondos de Desarroll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estra propuesta desde 19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Profundización y Regionaliza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unitarios y feder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formar procesos de decisión autónoma en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 niveles submuncip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: elección de asambleas, transferencia de potestades y recursos (Ej. Brasil, Ecuad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centivar -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 través de transferencias de tipo 1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mancomunidades municip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regionales, de derecho público 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 función de regionalizació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; la base: cuencas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ansferir potestades a estas mancomunidades region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oncertación intra e inter del desarrollo region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Uso del suelo y organización de servicios de utilidad pública, incluido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ovisión de infraestructura básica  y servicios públ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Mayor Participación Ciudadan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política y mayor autonomía fisc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lección de representantes: </a:t>
            </a:r>
            <a:r>
              <a:rPr b="1" lang="es-ES" sz="2600" spc="-1" strike="noStrike">
                <a:solidFill>
                  <a:srgbClr val="ffff66"/>
                </a:solidFill>
                <a:latin typeface="Times New Roman"/>
              </a:rPr>
              <a:t>sistema territorial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, con obligación de informarse e informar, en los tres niveles loc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otestades de autoimposició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a modificar alícuotas (+ externalización de avalúo de bienes inmuebles, Ej. Españ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egalización de cuasi-impue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onsulta obligatoria para compromisos de mediano y largo plazo: por ejemplo,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social. Incentiv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ticipación directa: en organizacione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ticipación indirecta: a través de organizacion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stemas de información asequible: de base y de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22280" y="1828800"/>
            <a:ext cx="75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abilización del desarrollo local/regional: competi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equidad social y territorial: igualdad de oportun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arrollo de ciudadan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eficiencia fiscal y glob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abilidad política? - Debate y consenso para reforma estruct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ates, Wallace (1972) “Fiscal federalism”. Trad.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Federalismo fiscal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 IEAL (Madrid), 1977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usgrave, Richard A.; Peggy Musgrave (1984) “Public finance in theory and practice”. Trad.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Hacienda pública, trótica y aplicada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 McGraw (Madrid), 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inot, Iván (2001)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Descentralización en América Latina: teoría y práctica.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EPAL (LC./L. 1521-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Síntesis en  “Descentralización en América Latina: una mirada desde la economía”</a:t>
            </a:r>
            <a:r>
              <a:rPr b="0" i="1" lang="es-ES" sz="2200" spc="-1" strike="noStrike">
                <a:solidFill>
                  <a:srgbClr val="ffff00"/>
                </a:solidFill>
                <a:latin typeface="Times New Roman"/>
              </a:rPr>
              <a:t> Revista de la CEPAL, 78, 2002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Resumen y aplicación: 2003: “Descentralización en América Latina: cómo hacer viable el desarrollo local”. CEPAL (LC/L. 1986-P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tio web CEPAL: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epal.cl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, Publicaciones, Series de la CEPAL, Gestión Pú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spectos Comunes y Di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Qué se descentralizó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rincipalment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vicios de educación y salu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Infraestructura v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vicios públicos (en menor medid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cia qué niv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Federales (menos Brasil): nivel intermedio y grandes ciuda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Unitarios: nivel municip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Brasil: énfasis </a:t>
            </a:r>
            <a:r>
              <a:rPr b="0" lang="es-ES_tradnl" sz="2600" spc="-1" strike="noStrike">
                <a:solidFill>
                  <a:srgbClr val="ffff99"/>
                </a:solidFill>
                <a:latin typeface="Times New Roman"/>
              </a:rPr>
              <a:t>en el municipal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Times New Roman"/>
              </a:rPr>
              <a:t>Descentralización jerárquica y descentralización democrática (Brasi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15920" y="304560"/>
            <a:ext cx="7594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Luces y sombras:</a:t>
            </a:r>
            <a:br>
              <a:rPr sz="4000"/>
            </a:b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1) Desconcentra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1752480"/>
          <a:ext cx="76964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696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3657600" y="60199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Times New Roman"/>
              </a:rPr>
              <a:t>Elaborado en base a datos oficiales de cada paí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2) Eficiencia administrativ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jor adecuación a características territo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hay evidencias de mejoras en relación beneficio/c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imes New Roman"/>
              </a:rPr>
              <a:t>Corrup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liente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obre-co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3) Particip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olítica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Avance en derecho al vo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er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riesgo de nuevos centralismos si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Orientada a niveles intermed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Megamunicip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roblemas de representación: Concej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66"/>
                </a:solidFill>
                <a:latin typeface="Times New Roman"/>
              </a:rPr>
              <a:t>Social?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- Aún escas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Except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lanificación participativa”: consulta para gasto y control a través de OTB’s (Boliv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Y casos puntuales: Ej. presupuesto participativo en Brasil (Porto Alegre: reducción de la evasión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4) Equ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00"/>
                </a:solidFill>
                <a:latin typeface="Times New Roman"/>
              </a:rPr>
              <a:t>Territorial</a:t>
            </a: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icial, muy importante, pero limit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concentración del gasto púb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centración del produ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00"/>
                </a:solidFill>
                <a:latin typeface="Times New Roman"/>
              </a:rPr>
              <a:t>Social</a:t>
            </a: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: avance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rivada de redistribución terri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umento de cobertura soc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o diferenciación en calida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5) Eficiencia Fisc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casi todos los paí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mento gastos &gt; aumento ingreso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sistemas de transferencias como % de impuestos son procíclicos: inducen desequilibrios macroeconómicos (CEPAL, 199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mento del endeudamiento sub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=&gt;</a:t>
            </a:r>
            <a:r>
              <a:rPr b="0" lang="es-ES_tradnl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déficit fisc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xcepción: Chi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ólo transferencias intermunicip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ohibición de endeud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muy escasa descentralizació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6) Autonomía para Desarrollo Loc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centralización “política”: ¿“transferencia de competencias a autoridades electas”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basta, en la mayoría de los municipios las decisiones no son autónom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casa generación de ingresos prop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gasto depende de transferencias condicionadas:  operan decisiones cent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Y si no están condicionadas, no están vinculadas con el esfuerzo local: origen de desequilib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0:04:26Z</dcterms:created>
  <dc:creator>Iván Finot</dc:creator>
  <dc:description/>
  <dc:language>en-US</dc:language>
  <cp:lastModifiedBy>IFINOT</cp:lastModifiedBy>
  <cp:lastPrinted>2002-10-21T16:43:52Z</cp:lastPrinted>
  <dcterms:modified xsi:type="dcterms:W3CDTF">2004-09-10T15:13:57Z</dcterms:modified>
  <cp:revision>130</cp:revision>
  <dc:subject/>
  <dc:title>Descentralización a Comunidades y a Mercados: un Nuevo Enfoque para América Latina </dc:title>
</cp:coreProperties>
</file>