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DB6-786E-41D5-A35C-9C866540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012-68A3-458E-B862-E8D17739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8F9-F14D-4FC1-AB5A-FE61C201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EE25-077B-4509-8C92-6603973C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EFA8-81B0-4E05-B977-56C1B88A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9EF-1493-488E-BE26-B494D6C2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EC3-A9CC-4858-8180-0C91F494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058-7DC0-4024-BAE2-8CA51477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E40-FA8A-4A96-9F80-F5821D03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101-1C13-4026-BB0A-3B70B2E6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51B-3731-409E-B755-0193D1AE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FD0-39EB-4BEE-A6FD-F601A609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31C2-CF11-41EA-B497-136D751248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2560" y="1628640"/>
            <a:ext cx="6121440" cy="28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AMBIO CULTU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43498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LGUNAS TENDENCIA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1989000"/>
            <a:ext cx="6408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516640"/>
            <a:ext cx="5331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403560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ransitamos de los colectivos a los individuos y de la historia a la biograf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0200" y="148428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ÁL ES EL EJE Y MOTOR DE LA SOCIE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28464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148428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ES VERDAD, QUÉ ILUSIÓN O FALSA PROME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3440" y="4137120"/>
            <a:ext cx="71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asamos de la palabra a la experiencia y de la adhesión a la evalu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357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34136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AL ES EL TAMAÑO DE MI MUNDO Y EL LARGO DE MI VI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4920" y="3645000"/>
            <a:ext cx="727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5840" y="430704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l tiempo y el espacio significativo se nos contra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6720" y="3213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48428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ÁL ES NUESTRA HUELLA EN EL MU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86064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articipamos cada vez más para incidir cada vez me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5080" y="3213000"/>
            <a:ext cx="71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48428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PASA CON LAS IDENTIDADES PERSONA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386064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l cuerpo de mujer, el camino propio de los jóvenes y el desconcierto masculi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1628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NOS MANTIENE JUN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213000"/>
            <a:ext cx="57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4076640"/>
            <a:ext cx="60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La reducción del miedo a las diferenci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177336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L DESAFÍO CULTUR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299736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93372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Buscar nuevas formas de acoplar persona y socied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3:14:25Z</dcterms:created>
  <dc:creator>MSIERRA</dc:creator>
  <dc:description/>
  <dc:language>en-US</dc:language>
  <cp:lastModifiedBy>Dii</cp:lastModifiedBy>
  <dcterms:modified xsi:type="dcterms:W3CDTF">2004-09-24T15:56:56Z</dcterms:modified>
  <cp:revision>10</cp:revision>
  <dc:subject/>
  <dc:title>Diapositiva 1</dc:title>
</cp:coreProperties>
</file>