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F8C-1DA4-4E57-B6FD-4BFB72B2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840-2DF0-489C-807C-13BB86B7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41E-6C05-4340-A548-3AF8D315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D8E-6322-47A3-91E8-F41F3E28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70B-1BE5-4D45-968E-21DADE67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FD7-D0EE-4AB6-81C4-13B879E3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2D5-29D4-4DF5-ADA4-39B4055D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7BB-C271-4E00-BB70-BD1F8D71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B9B-A3DB-4CAD-B8D2-83F4BC8E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0D0-E05E-4090-998D-EE3BFD1B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42A-D85E-4B95-B94D-47D859B1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DEC-846C-47AB-B5B2-05FA6B64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C84-F01F-4F15-A568-D324DDD18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ntiago, 12 de noviembre d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esora: Alejandra Miz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tor: Alejandro Ferr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de 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undamentos de la intervención del Estado en la Economí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políticas redistribu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cción de desequilib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de subsidi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g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La regulación del Estado: su justificación y sus lí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mer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 im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de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lanteamientos de la escuela positiva o el cuestionamiento a los méritos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iesgo de cap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asimetrías de información en contr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en controla o gobierna al regulador? ¿A qué señales respo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nomía o dependencia polític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¿Cómo medir la calidad de la regul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tin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osto efectividad de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decuación a los estándar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ficiencia del mercado regulado y la satisfacción de los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La autor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s posibles de la autor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diciones para su aplicación exitosa y ef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udas acerca de la autorregulación y su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9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5. La regulación de la libr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96720" indent="-453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Porqué propiciar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institucionalidad de la libre competencia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Tribunal de Defensa de la Libre 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El DL. 211de 19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ate de actualidad (pasado y futuro): ¿Cómo discernir si una fusión es contraria a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álisis de mercados relev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arreras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asticidad de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ienes sustit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 de monitoreo y sanción ex post de abusos de posición domin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6200" y="1628640"/>
            <a:ext cx="8497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6.- Los desafíos futuros de la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iliar la seguridad jurídica con la adaptabilidad oportuna y riguro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monizar la regulación administrativa y la resolución oportuna de conflictos regulatorios mediante resoluciones judiciales especializadas y oportu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autonomía de los reguladores ... Y una contrapartida necesaria, más accountability y procesos de selección con alta preeminencia téc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lobalización de la regulación: ¿Cuánta soberanía pierde (y debe perder) el regulador local frente a los estándares internacion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7.- Algunas 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La regulación y el fin de la guerra fría: una buena síntesis para el armisticio final entre el Estado y el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- Es mejor regular ex ante... después es casi im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- No subestimar el lobby:.. y por tanto refuerce su capacidad y autonomía para hacer vale el bien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- Si las decisiones del regulador son cuestionadas judicialmente, y los tribunales fallan tarde y mal, la regulación previa será inú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- OJO con la costo efectividad: El regulador suele ver los beneficios, y los regulados el costo. La importancia del diálogo y comprensión recípr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- La desconfianza público-privado aún nos pena... Y afecta fuertemente la tarea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7.- ¿Y dónde está el indicador de desempeño del regula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.- El mercado no siempre tiene la razón. Para muestra, un par de casos de seguridad social: seguro catastrófico y rentas vital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20:08:06Z</dcterms:created>
  <dc:creator>Alejandro Ferreiro Y</dc:creator>
  <dc:description/>
  <dc:language>en-US</dc:language>
  <cp:lastModifiedBy>José Inostroza</cp:lastModifiedBy>
  <dcterms:modified xsi:type="dcterms:W3CDTF">2004-11-11T20:08:15Z</dcterms:modified>
  <cp:revision>41</cp:revision>
  <dc:subject/>
  <dc:title>La regulación de las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3833229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clase de mañana</vt:lpwstr>
  </property>
  <property fmtid="{D5CDD505-2E9C-101B-9397-08002B2CF9AE}" pid="6" name="_ReviewingToolsShownOnce">
    <vt:lpwstr/>
  </property>
</Properties>
</file>