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c0c0"/>
                </a:solidFill>
                <a:latin typeface="Bookman Old Style"/>
              </a:rPr>
              <a:t>Loreto Tamblay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74" name="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75" name="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No hay compras en grande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existencia de bastante compradores (puntos de comercialización de helados)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63700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01080" y="213372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400536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s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364500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393372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436572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240336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4005360"/>
            <a:ext cx="2314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13000"/>
            <a:ext cx="231840" cy="233640"/>
          </a:xfrm>
          <a:prstGeom prst="upArrow">
            <a:avLst>
              <a:gd name="adj1" fmla="val 50000"/>
              <a:gd name="adj2" fmla="val 25194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4724280"/>
            <a:ext cx="216000" cy="217440"/>
          </a:xfrm>
          <a:prstGeom prst="downArrow">
            <a:avLst>
              <a:gd name="adj1" fmla="val 50000"/>
              <a:gd name="adj2" fmla="val 25167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4365720"/>
            <a:ext cx="233280" cy="231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5084640"/>
            <a:ext cx="2174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1080" y="3645000"/>
            <a:ext cx="23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924280"/>
            <a:ext cx="432000" cy="144360"/>
          </a:xfrm>
          <a:prstGeom prst="rect">
            <a:avLst/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Baja cantidad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400" spc="-1" strike="noStrike">
                <a:solidFill>
                  <a:srgbClr val="c0c0c0"/>
                </a:solidFill>
                <a:latin typeface="Bookman Old Style"/>
              </a:rPr>
              <a:t>Median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5" name=""/>
          <p:cNvSpPr/>
          <p:nvPr/>
        </p:nvSpPr>
        <p:spPr>
          <a:xfrm>
            <a:off x="7236000" y="3716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0360" y="32130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96360" y="263700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4365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9800" y="2133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ción: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enfocados a segmentos específicos 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Nestle y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Potencial aumento de competencia o competitividad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79898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“ </a:t>
            </a:r>
            <a:r>
              <a:rPr b="0" lang="en-US" sz="2900" spc="-1" strike="noStrike">
                <a:solidFill>
                  <a:srgbClr val="c0c0c0"/>
                </a:solidFill>
                <a:latin typeface="Bookman Old Style"/>
              </a:rPr>
              <a:t>Nestle se dedica a la producción de helados de calidad a bajo costo, accesible a toda persona y en todo lugar, principalmente en verano”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45" name="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sustito amenaza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roveedor con muchos clientes </a:t>
            </a:r>
            <a:r>
              <a:rPr b="0" lang="en-US" sz="26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Existencia de regulaciones en la Industria que favorezcan la entra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o crecimiento de la industria </a:t>
            </a:r>
            <a:r>
              <a:rPr b="0" lang="en-US" sz="2200" spc="-1" strike="noStrike">
                <a:solidFill>
                  <a:srgbClr val="c0c0c0"/>
                </a:solidFill>
                <a:latin typeface="Bookman Old Style"/>
              </a:rPr>
              <a:t>(productores)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Misión de la empres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Que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 quien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onde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14600"/>
            <a:ext cx="34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ua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Loreto Tamblay</cp:lastModifiedBy>
  <dcterms:modified xsi:type="dcterms:W3CDTF">2004-10-05T15:38:21Z</dcterms:modified>
  <cp:revision>38</cp:revision>
  <dc:subject/>
  <dc:title>AUXILIAR Nº1  ANALISIS ESTRATEG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47186381</vt:r8>
  </property>
  <property fmtid="{D5CDD505-2E9C-101B-9397-08002B2CF9AE}" pid="3" name="_AuthorEmail">
    <vt:lpwstr>igac@cec.uchile.cl</vt:lpwstr>
  </property>
  <property fmtid="{D5CDD505-2E9C-101B-9397-08002B2CF9AE}" pid="4" name="_AuthorEmailDisplayName">
    <vt:lpwstr>Isa</vt:lpwstr>
  </property>
  <property fmtid="{D5CDD505-2E9C-101B-9397-08002B2CF9AE}" pid="5" name="_EmailSubject">
    <vt:lpwstr>Clase auxiliar miércoles</vt:lpwstr>
  </property>
  <property fmtid="{D5CDD505-2E9C-101B-9397-08002B2CF9AE}" pid="6" name="_ReviewingToolsShownOnce">
    <vt:lpwstr/>
  </property>
</Properties>
</file>