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09C-43DD-4414-BE1F-E632DD5C89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3560" cy="3408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creates substantial value through increased potential for one-to-one and one-to-many interactions/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the networks adds no value to existing “broadcasts.  It only provide a larger audience to receive non-interactiv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and creating host venues for communities creates increasing returns to the network by multi-party, simultaneous or near simultaneous communication, transactions and content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9B56-1EBE-4D36-95A6-CA69A02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1D455-E781-4A94-B456-5C7BC675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FCD71-6DE4-46A2-9938-E8A8F4D8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130A0-CBB1-4F19-9BEC-ACE723B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C1E1D-9DE5-4E1F-A3EC-7058798B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B3DD3-7623-495D-811A-C7CA4DF9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22A5-A743-4B20-90BB-AD5E2F2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1CEDF-FF53-451A-A3DE-B9C1E47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E84C4-F9BC-4608-972A-3C47446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E4E65-BD75-413D-B5E8-1C96DFA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0AB57-3E5A-464D-B60B-15D17E45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D5AD-0075-44B4-BDEC-F0CE55B1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0J, Economía de la Información                     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62C7-5828-4705-A086-C7E95C5870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xternalidades y Diversida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3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pocos individuos, la disposición marginal a pagar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muchos individuos, la disposición a pagar marginal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el tamaño de la red es medio, la disposición a pagar es al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4276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4149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onemos que un bien pude ser provisto a un costo marginal consta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curva de oferta es una línea recta a dicho costo marg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 es el equilibrio de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s posible casos: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0,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24360" y="2206800"/>
            <a:ext cx="3924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1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ie está consumiendo el bien, luego nadie está dispuesto a pagar por consumir el bi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e es un equilibrio pesimista de esta situ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68720" y="3500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2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57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ando hay un grupo pequeño en este equilibri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 este equilibrio no se piensa que la red sea muy amplia, con lo cual, no se está muy dispuesto a pagar por incorporars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645000"/>
            <a:ext cx="72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3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92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y un grupo grande consumiendo el bi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e caso, la persona marginal que adquiere el bien no tiene una disposición muy alta, aún cuando el mercado es ampl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3716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s est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es de los equilibrios son posibles en el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las personas están dispuestos a pagar más que el precio del bien, entonces el mercado se expan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proceso de ajuste se muestra en la figura con las flechas en los puntos de equilibr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2209680"/>
            <a:ext cx="3924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número de usuarios conectados a la red es inicialmente pequeño, y se incrementa sólo gradualmente mientras los costos ca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ando la masa crítica es alcanzada, la red crece en forma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jemplo: Mercado de Fax en EE.UU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5327640" cy="362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556416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Nicholas Economides and Charles Himmelberg, “Critical Mass and Network Size with Applications to the US Fax Market, Discussion Paper no. EC-95-11, Stern School of Business, N.Y.U., 199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redes pasan por períodos de bajo crecimiento y bajo interés para los que se incorporan (Ley de Disrup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baja de precios (o percepción del valor) permite su creci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vez alcanzada la masa crítica, el mercado o red se incrementa de manera muy rápida, produciendo cambios sociales y económ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Redes de Formación de Grup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usuario adicional entrega una posibilidad adicional de tener información relev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un usuario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robabilidad que u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de N usuarios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1–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osibilidad de algú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entera de N usuarios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N –N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es de Inform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Redes de Formación de Grupos (David Ree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rresponden a redes donde es fácil formar subgrupos (no triviales) entre los integra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s redes permiten organizar comunicaciones de interés especializado en forma dinámica en el tiempo con todos o parte de los usuarios de la 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jemplos: mailing list definidas por usuarios, grupos de discusión, salas de entrenamiento y grupos, remates especiale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uál es el valor aportado por este tipo de red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la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que existen N usuarios en la r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úmero de subconjuntos no triviales que se puede formar es 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+N-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valor crece exponencialmente con el número de usuarios, y es mayor que el crecimiento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l modelo Reed captura mayor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793880"/>
            <a:ext cx="6335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Int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una primera etapa Internet se uso como servidores y terminales (Sarnoff red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uego se incrementa la conectividad (mails, archivos, etc.) – Metcalf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los 90´s se hace popular con los newsgroup, sitios de interés especial - Re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99520"/>
            <a:ext cx="7908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pos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765440"/>
            <a:ext cx="196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Sar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08400" y="17654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Metcal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7440" y="1765440"/>
            <a:ext cx="165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0880" y="213372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004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46000" y="2768760"/>
            <a:ext cx="1366920" cy="1623600"/>
            <a:chOff x="846000" y="2768760"/>
            <a:chExt cx="1366920" cy="1623600"/>
          </a:xfrm>
        </p:grpSpPr>
        <p:sp>
          <p:nvSpPr>
            <p:cNvPr id="172" name=""/>
            <p:cNvSpPr/>
            <p:nvPr/>
          </p:nvSpPr>
          <p:spPr>
            <a:xfrm>
              <a:off x="846000" y="3772800"/>
              <a:ext cx="136692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3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>
              <a:stCxn id="173" idx="0"/>
              <a:endCxn id="175" idx="4"/>
            </p:cNvCxnSpPr>
            <p:nvPr/>
          </p:nvCxnSpPr>
          <p:spPr>
            <a:xfrm flipH="1" flipV="1">
              <a:off x="1192320" y="3067200"/>
              <a:ext cx="1116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8" name=""/>
            <p:cNvCxnSpPr>
              <a:stCxn id="173" idx="0"/>
              <a:endCxn id="176" idx="3"/>
            </p:cNvCxnSpPr>
            <p:nvPr/>
          </p:nvCxnSpPr>
          <p:spPr>
            <a:xfrm flipV="1">
              <a:off x="1203120" y="3023280"/>
              <a:ext cx="50652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9" name=""/>
            <p:cNvCxnSpPr>
              <a:stCxn id="174" idx="0"/>
              <a:endCxn id="175" idx="5"/>
            </p:cNvCxnSpPr>
            <p:nvPr/>
          </p:nvCxnSpPr>
          <p:spPr>
            <a:xfrm flipH="1" flipV="1">
              <a:off x="1306080" y="3023280"/>
              <a:ext cx="52776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80" name=""/>
            <p:cNvCxnSpPr>
              <a:stCxn id="174" idx="0"/>
              <a:endCxn id="176" idx="4"/>
            </p:cNvCxnSpPr>
            <p:nvPr/>
          </p:nvCxnSpPr>
          <p:spPr>
            <a:xfrm flipH="1" flipV="1">
              <a:off x="1822680" y="3067200"/>
              <a:ext cx="1152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408480" y="2413080"/>
            <a:ext cx="1881000" cy="2158920"/>
            <a:chOff x="3408480" y="2413080"/>
            <a:chExt cx="1881000" cy="2158920"/>
          </a:xfrm>
        </p:grpSpPr>
        <p:sp>
          <p:nvSpPr>
            <p:cNvPr id="182" name=""/>
            <p:cNvSpPr/>
            <p:nvPr/>
          </p:nvSpPr>
          <p:spPr>
            <a:xfrm>
              <a:off x="3408480" y="2413080"/>
              <a:ext cx="188100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373824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4360" y="256248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740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198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740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198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4800" y="252000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4800" y="413388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5" idx="6"/>
              <a:endCxn id="186" idx="2"/>
            </p:cNvCxnSpPr>
            <p:nvPr/>
          </p:nvCxnSpPr>
          <p:spPr>
            <a:xfrm>
              <a:off x="417780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2" name=""/>
            <p:cNvCxnSpPr>
              <a:stCxn id="187" idx="6"/>
              <a:endCxn id="188" idx="2"/>
            </p:cNvCxnSpPr>
            <p:nvPr/>
          </p:nvCxnSpPr>
          <p:spPr>
            <a:xfrm>
              <a:off x="417780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3" name=""/>
            <p:cNvCxnSpPr>
              <a:stCxn id="185" idx="4"/>
              <a:endCxn id="187" idx="0"/>
            </p:cNvCxnSpPr>
            <p:nvPr/>
          </p:nvCxnSpPr>
          <p:spPr>
            <a:xfrm>
              <a:off x="40172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4" name=""/>
            <p:cNvCxnSpPr>
              <a:stCxn id="186" idx="4"/>
              <a:endCxn id="188" idx="0"/>
            </p:cNvCxnSpPr>
            <p:nvPr/>
          </p:nvCxnSpPr>
          <p:spPr>
            <a:xfrm>
              <a:off x="46796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5" name=""/>
            <p:cNvCxnSpPr>
              <a:stCxn id="187" idx="7"/>
              <a:endCxn id="186" idx="3"/>
            </p:cNvCxnSpPr>
            <p:nvPr/>
          </p:nvCxnSpPr>
          <p:spPr>
            <a:xfrm flipV="1">
              <a:off x="413100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6" name=""/>
            <p:cNvCxnSpPr>
              <a:stCxn id="185" idx="5"/>
              <a:endCxn id="188" idx="1"/>
            </p:cNvCxnSpPr>
            <p:nvPr/>
          </p:nvCxnSpPr>
          <p:spPr>
            <a:xfrm>
              <a:off x="413100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197" name=""/>
          <p:cNvSpPr/>
          <p:nvPr/>
        </p:nvSpPr>
        <p:spPr>
          <a:xfrm>
            <a:off x="6372360" y="58770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Fuente:  Adaptado de David 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00640" y="2413080"/>
            <a:ext cx="1924200" cy="2158920"/>
            <a:chOff x="6200640" y="2413080"/>
            <a:chExt cx="1924200" cy="2158920"/>
          </a:xfrm>
        </p:grpSpPr>
        <p:sp>
          <p:nvSpPr>
            <p:cNvPr id="199" name=""/>
            <p:cNvSpPr/>
            <p:nvPr/>
          </p:nvSpPr>
          <p:spPr>
            <a:xfrm>
              <a:off x="6200640" y="2413080"/>
              <a:ext cx="188136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6160" y="373824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6160" y="256248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85480" y="2658960"/>
              <a:ext cx="1539360" cy="1902240"/>
            </a:xfrm>
            <a:prstGeom prst="rtTriangl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92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232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92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232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56960" y="252000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6960" y="413388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3" idx="6"/>
              <a:endCxn id="204" idx="2"/>
            </p:cNvCxnSpPr>
            <p:nvPr/>
          </p:nvCxnSpPr>
          <p:spPr>
            <a:xfrm>
              <a:off x="697032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0" name=""/>
            <p:cNvCxnSpPr>
              <a:stCxn id="205" idx="6"/>
              <a:endCxn id="206" idx="2"/>
            </p:cNvCxnSpPr>
            <p:nvPr/>
          </p:nvCxnSpPr>
          <p:spPr>
            <a:xfrm>
              <a:off x="697032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1" name=""/>
            <p:cNvCxnSpPr>
              <a:stCxn id="203" idx="4"/>
              <a:endCxn id="205" idx="0"/>
            </p:cNvCxnSpPr>
            <p:nvPr/>
          </p:nvCxnSpPr>
          <p:spPr>
            <a:xfrm>
              <a:off x="680940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2" name=""/>
            <p:cNvCxnSpPr>
              <a:stCxn id="204" idx="4"/>
              <a:endCxn id="206" idx="0"/>
            </p:cNvCxnSpPr>
            <p:nvPr/>
          </p:nvCxnSpPr>
          <p:spPr>
            <a:xfrm>
              <a:off x="747216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3" name=""/>
            <p:cNvCxnSpPr>
              <a:stCxn id="205" idx="7"/>
              <a:endCxn id="204" idx="3"/>
            </p:cNvCxnSpPr>
            <p:nvPr/>
          </p:nvCxnSpPr>
          <p:spPr>
            <a:xfrm flipV="1">
              <a:off x="692316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4" name=""/>
            <p:cNvCxnSpPr>
              <a:stCxn id="203" idx="5"/>
              <a:endCxn id="206" idx="1"/>
            </p:cNvCxnSpPr>
            <p:nvPr/>
          </p:nvCxnSpPr>
          <p:spPr>
            <a:xfrm>
              <a:off x="692316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215" name=""/>
            <p:cNvSpPr/>
            <p:nvPr/>
          </p:nvSpPr>
          <p:spPr>
            <a:xfrm>
              <a:off x="6521040" y="31719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RotisSansSerif"/>
                </a:rPr>
                <a:t>Comunidad diná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1680" y="4791240"/>
            <a:ext cx="1915920" cy="4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57640" y="4780080"/>
            <a:ext cx="2184480" cy="490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37372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Emisión’, alta calidad de con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5373720"/>
            <a:ext cx="218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Interacciones y 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5373720"/>
            <a:ext cx="26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Colaboración y creación de contenido nue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75880" y="592308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David Sarnoff 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unión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uponga que existen dos redes con N y M usuarios respectiva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de unir dichas redes está dado p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rnoff: N + 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tcalfe: (N + M)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N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2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ed: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(N+M)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se incrementa exponencialmente, aún cuando los tamaños de redes no sean equivalentes (red pequeña y grand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 de Valor en las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a red de N usu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cliente en conexión a un host es a, luego el valor es 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de conexiones potenciales entre usuarios es b, luego el valor de la red es aN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la formación de grupos es c, y así el valor final es aN 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+ c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116000" y="1700280"/>
          <a:ext cx="57150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828840" y="27082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77720" y="4365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4160" y="47242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438880"/>
            <a:ext cx="72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or total de la red = a N + b 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lmente a &gt;&gt; b &gt;&gt;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ción dominante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ateg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883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Evolucionaria (por fases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1. Adquisición de Contenido mientras N es pequ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2. Transacciones a medida que N cr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3. Facilitar grupos cuando N es muy gran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Revolucionaria (first mover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ruir una plataforma escalable para la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rar escalabilidad, la sobrevivencia depende de 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cordar que los esfuerzos deben ser orientados de la manera más eficiente a la creación de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72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7356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2140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RE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tisSansSerif"/>
              </a:rPr>
              <a:t>(Venue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584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METCALF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95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52800" y="1933560"/>
            <a:ext cx="195552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SARNOFF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81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" y="2530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elivery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0400" y="2911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 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0400" y="3292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400" y="3673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400" y="4435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0400" y="5197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0400" y="4054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14640" y="2530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14640" y="2911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way media, phys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r vir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14640" y="3292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14640" y="3673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14640" y="4435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nver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14640" y="52354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roadcast television, radi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14640" y="4054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to-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99120" y="2556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; some p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99120" y="2936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pany-customer relationship via interactiv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99120" y="3317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99120" y="3699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99120" y="4460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Lifetim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99120" y="51595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elephone,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99120" y="4079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imarily pair-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160" y="2543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ll; with push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2160" y="2924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Hosted venues via onlin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72160" y="3305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olution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72160" y="3686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munity-like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72160" y="4448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ize and share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58040" y="5172120"/>
            <a:ext cx="231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2B: VerticalNet, Consumer: ivillage, AOL, e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2160" y="4067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llaborat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0400" y="48290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river of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76480" y="4829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ach and frequency with bes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48290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Growth at any cost’- total connections on th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3240" y="4829040"/>
            <a:ext cx="233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Value of facilitate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s de 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183320" y="5870520"/>
            <a:ext cx="64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ayoría de los modelos actuales del B2B están en los primeros mode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ducción Redes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de encontrar en el primero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segundo y no en el primero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 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último, y no en los n-2 anteriores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" sz="1500" spc="-1" strike="noStrike" baseline="30000">
                <a:solidFill>
                  <a:srgbClr val="000000"/>
                </a:solidFill>
                <a:latin typeface="Verdana"/>
              </a:rPr>
              <a:t>N-2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43280" y="2924280"/>
                <a:ext cx="3924360" cy="25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í como han sido las economías de escala y red, el desafío futuro va por las economías d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scala cambia el foco de valor desde el contenido a transacciones, y finalmente a formación de grupos o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interfaces entre comunidades de valor serán una de las herramientas importantes en la nueva formación de valor en re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 Fi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estructuras de mercados y procesos de las organizaciones están cada vez orientadas a estructuras de re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entender el aporte de valor y las decisiones relacionadas al diseño son de vital importa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y hay modelos simples que permiten modelar el valor que aporta la estructura e informació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afectan los efectos de redes en la realid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Icons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con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tikos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hilecompras.c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c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Revisar el material del curso (obligatorio y adicional) y escribir un position paper sobre el tema ¿Cómo es posible integrar los conceptos del curso en el rediseño de proceso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Discusión bibliográfica (referente al tem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ormulación del tema específic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ltados obteni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aper debe ser entregado el día 10 de Octubre vía email al auxiliar (savargas@dcc.uchile.c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ey de Disrup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ó 2 usuarios son de dudosa ut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io 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 mercado con M potenciales clientes, donde su disposición a pagar es igual al índice que ocup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liente 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tá dispuesto a pagar $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por 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tonces, ¿cuál es la curva de demanda por este bi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464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curva de demanda es una línea recta desde M hasta 0 en términos de disposición a pag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ra un precio determinado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, existen M –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 personas que compran el bie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Qué ocurre si la disposición a pagar depende del número de personas que estén consumiendo el bie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91796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651640" y="232524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2764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8880" y="491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2901960"/>
            <a:ext cx="26636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3360" y="270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6080" y="4933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37670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42040" y="333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2560" y="376704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2080" y="3597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fecto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sume que el valor del bien para la persona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donde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el número de personas consumiendo el bien (conectados en la re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entras más gente esta consumiendo el bien, cada persona esta dispuesta a pagar más por dicho bien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la función de demanda en este cas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2644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el precio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xistirá alguien quien es indiferente entre comprar o no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a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el índice de dicha persona, entonces la disposición a pagar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alquier persona con disposición a pagar mayor que dicho precio, desea comprar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ego, el número de personas que desean comprar el bien es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M –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, 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gualando ambas partes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M –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, que indica la relación entre el precio del bien y el número de usuari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Samuel</cp:lastModifiedBy>
  <dcterms:modified xsi:type="dcterms:W3CDTF">2003-10-03T21:48:39Z</dcterms:modified>
  <cp:revision>202</cp:revision>
  <dc:subject/>
  <dc:title>Diapositiva 1</dc:title>
</cp:coreProperties>
</file>