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1D9A-3D3A-4E9A-8289-E7324D4D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0A42-E5FF-4662-A860-84CAA630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45E3-30C0-4A60-858F-B362C473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4365-B0E1-49A7-A194-E5B7B06A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D874-25C7-4593-82DA-577FBBB0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3830-E16C-47B3-BF43-7616DF58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40EC-5795-45D4-B13B-4AB2D890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D7E6-AAB1-4850-A54C-A478A014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3CF8-8D33-418C-8514-E181E0CC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75B2-4F16-47CB-96DD-B761FD10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AD7B-CAE8-44FA-900F-64CD193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C3D2-4593-4D5F-BAD8-F0E19550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9B71-C3FB-4325-A522-ACB632EE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B3FD-1BA5-44E9-A737-42A6F888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C862-3B92-4FCB-BC22-0F24E77E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144D-E879-4E96-AF5B-52CCF38D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38BD-E29C-4D4B-9E2B-51407CB6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9ECF-1085-49DE-A723-E7149A5D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A1FD-063C-4590-83C2-C713CD7A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9896-D0E5-4E6C-B20A-AB1B601F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5501-0E4A-460A-9257-C290CF2B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FF7B-3B20-4AF2-8D5F-7616C315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3206-0040-4F00-B502-391A9B78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A86E-1242-43F4-8351-48CB2B48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3281-635D-4804-B864-095689E8B3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2744-6C39-4B27-999F-E2FAE951FA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gpp.cl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42920" y="1699920"/>
            <a:ext cx="58388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ffffff"/>
                </a:solidFill>
                <a:latin typeface="Verdana"/>
              </a:rPr>
              <a:t>PAUTA de TRABAJO DEL </a:t>
            </a:r>
            <a:br>
              <a:rPr sz="3300"/>
            </a:br>
            <a:r>
              <a:rPr b="1" lang="es-CL" sz="3300" spc="-1" strike="noStrike">
                <a:solidFill>
                  <a:srgbClr val="ffffff"/>
                </a:solidFill>
                <a:latin typeface="Verdana"/>
              </a:rPr>
              <a:t>CURSO DE GESTIÓN PÚBLICA 2004</a:t>
            </a:r>
            <a:br>
              <a:rPr sz="3300"/>
            </a:br>
            <a:r>
              <a:rPr b="1" lang="es-CL" sz="3300" spc="-1" strike="noStrike">
                <a:solidFill>
                  <a:srgbClr val="ff3300"/>
                </a:solidFill>
                <a:latin typeface="Verdana"/>
              </a:rPr>
              <a:t>(sujeta a  las modificaciones del documento que se enviará)</a:t>
            </a:r>
            <a:br>
              <a:rPr sz="3300"/>
            </a:br>
            <a:r>
              <a:rPr b="1" i="1" lang="es-CL" sz="1800" spc="-1" strike="noStrike">
                <a:solidFill>
                  <a:srgbClr val="ffffff"/>
                </a:solidFill>
                <a:latin typeface="Verdana"/>
              </a:rPr>
              <a:t>MGGP</a:t>
            </a:r>
            <a:br>
              <a:rPr sz="1800"/>
            </a:br>
            <a:r>
              <a:rPr b="1" i="1" lang="es-CL" sz="1800" spc="-1" strike="noStrike">
                <a:solidFill>
                  <a:srgbClr val="ffffff"/>
                </a:solidFill>
                <a:latin typeface="Verdana"/>
              </a:rPr>
              <a:t>julio de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4. Contenido de los informes: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Primer Inform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berá contener una revisión sobre el propósito, entorno y capacidades, según se explica en esta pauta. Desde esta revisión, se debe formular un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diagnóstico general y preliminar de la organizació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Este diagnóstico tiene que estar inclinado a ir trazando los desafíos de la institu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egundo Inform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: Deberá contener los contenidos del primer informe mejorados, más un desarrollo completo de las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comendaciones y líneas de acción y el desarrollo de un cuadro de mando integral para la organización (mapa estratégico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5. Fuentes de Informació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59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trevista con Directivos Superiores, intermedios, funcionario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visar prensa (Ej. Internet-Googl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trevistar a algunos actores del entorn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Leer documentos oficiales (Ej. Balance de Gestión Integral, Presupuestos </a:t>
            </a:r>
            <a:r>
              <a:rPr b="0" lang="es-CL" sz="1600" spc="-1" strike="noStrike" u="sng">
                <a:solidFill>
                  <a:srgbClr val="3399ff"/>
                </a:solidFill>
                <a:uFillTx/>
                <a:latin typeface="Verdana"/>
                <a:hlinkClick r:id="rId1"/>
              </a:rPr>
              <a:t>www.dipres.c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ocumentos legales (Ley orgánica, reglamentos, instructivos presidenciales, etc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uscar antecedentes en organismos que controlan (www.dipres.cl, www.segpres.cl, www.contraloría.cl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Conseguir informes de gestió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s de caso(</a:t>
            </a:r>
            <a:r>
              <a:rPr b="0" lang="es-CL" sz="1600" spc="-1" strike="noStrike" u="sng">
                <a:solidFill>
                  <a:srgbClr val="3399ff"/>
                </a:solidFill>
                <a:uFillTx/>
                <a:latin typeface="Verdana"/>
                <a:hlinkClick r:id="rId2"/>
              </a:rPr>
              <a:t>www.mgpp.c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ferencias teóricas claves: Clases de Cátedra, exposiciones de invitados, bibliografía del Curso, especialmente Mark Moore , “Ventaja competitiva, Michael Porter” y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“Cómo utilizar el Cuadro de Mando Integral”,  Kaplan y Nort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640" y="69228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6. Formato, entrega y fechas: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Número de Págin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20 máximo tamaño  carta (no se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cuentan anex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Tipo de letr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Arial o Times New Roman, número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12. Interlineado sencill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Ortografía y Redacción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Cuidar la redacción y ortografí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porque será considerada en l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valua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Fech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Pendien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Forma de Entreg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Se deberá entregar dos ejemplares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 secretaria de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  del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MGPP  de cada informe, más un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versión  en archivo Word (disquete)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640" y="1700280"/>
            <a:ext cx="70106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lacionar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teoría con aplicación práctica en el análisis de casos específico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 de caso sobre alguna organización pública chilena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Se espera que de esta manera se aclare la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pertinencia y relevanci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 los planteamientos teóricos de clas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perspectiva genera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e se deberá asumir de manera obligada por los alumnos es la de un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consultor  estratégico de gestión pública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l cual se requiere sus servicios por un Consejo de Ministros que solicita un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informe analítico,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asado en información seleccionada y relevan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l informe deberá realizar recomendaciones que apunten a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mejorar la producción de valor público de la institución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 otras palabras, se debe desarrollar un documento bien escrito, rico en análisis y en antecedentes significativos que permitan finalmente entregar una consejería estratégica respecto de los problemas o desafíos fundamentales de la Organización y  cómo enfrentarlos.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estándar general de calidad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del trabajo deberá ser equivalente a un </a:t>
            </a:r>
            <a:r>
              <a:rPr b="0" i="1" lang="es-CL" sz="1600" spc="-1" strike="noStrike">
                <a:solidFill>
                  <a:srgbClr val="ffffff"/>
                </a:solidFill>
                <a:latin typeface="Verdana"/>
              </a:rPr>
              <a:t>trabajo profesiona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de un consultor estratégico en Gestión Pública contratado para entregar su asesorí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ffffff"/>
                </a:solidFill>
                <a:latin typeface="Verdana"/>
              </a:rPr>
              <a:t>2.  Elección de la Organización:</a:t>
            </a:r>
            <a:r>
              <a:rPr b="0" lang="es-CL" sz="3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Puede ser un </a:t>
            </a:r>
            <a:r>
              <a:rPr b="1" i="1" lang="es-CL" sz="1600" spc="-1" strike="noStrike">
                <a:solidFill>
                  <a:srgbClr val="ffffff"/>
                </a:solidFill>
                <a:latin typeface="Verdana"/>
              </a:rPr>
              <a:t>servicio público centralizado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1" i="1" lang="es-CL" sz="1600" spc="-1" strike="noStrike">
                <a:solidFill>
                  <a:srgbClr val="ffffff"/>
                </a:solidFill>
                <a:latin typeface="Verdana"/>
              </a:rPr>
              <a:t>descentralizado chileno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, eventualmente alguna organización no gubernamenta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No debe ser una institución donde el alumno trabaje o lo haya hecho recientement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as condiciones deben ser aprobadas por el equipo docen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 preferencia no se debe elegir un Ministerio debido a la multiplicidad de objetivos y la complejidad de obtener información. De todos modos puede hacerse alguna excep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92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78f0"/>
              </a:buClr>
              <a:buSzPct val="8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Descripción de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Propósito de la Institució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el </a:t>
            </a:r>
            <a:r>
              <a:rPr b="0" i="1" lang="es-CL" sz="1600" spc="-1" strike="noStrike">
                <a:solidFill>
                  <a:srgbClr val="ffffff"/>
                </a:solidFill>
                <a:latin typeface="Verdana"/>
              </a:rPr>
              <a:t>valor público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e debe generar la organización según ella misma?(revisar definiciones estratégicas, hacer entrevistas. Un método propuesto es cancelar el propósito e imaginar qué ocurriría en la sociedad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el conjunto de servicios que la institución produc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es son los lineamientos estratégicos declarado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la consistencia con relación a otras declaracion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ómo es la consistencia de lo declarado con los hecho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Está bien formulado el propósito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2001600"/>
            <a:ext cx="87487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b.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Análisis de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Entorno Relevante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para la organización: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nalizar situación con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actores que deciden y/o controlan la política o program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. Analizar la situación con el parlamento, partidos político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Identificar a los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Clientes / Usuarios: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iénes son, cómo son, caracterizar demanda, identificar tendencias de largo plazo, expectativas no satisfecha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Se deberá identificar otros actores externos relevantes, características y propósitos de éstos;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scribir tipos de relaciones con y entre los actores, describir expectativas de estos actores respecto de la organización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nalizar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coyuntura económica y tecnológic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Qué ocurre y cómo afecta y analizar la tecnología.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7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c.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Análisis de las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Capacidades de la Organización: Recursos y Sistemas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¿Cuáles son los servicios prestados o bienes que produce la institución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¿Quiénes son los clientes de la institución? ¿Existen servicios distintos para distintos cliente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adena del Valor”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procesos productivos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de apoy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)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uáles son los procesos productivos  principales para lograr la prestación del servicio o producción del bien? ¿Cómo se llevan a cabo estos proceso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uáles son los procesos o funciones de apoyo para ello? ¿Cómo se llevan a cabo estos procesos? (describir los procesos de apoyo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Qué recursos se utilizan? RRHH, $, informa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ómo es el </a:t>
            </a:r>
            <a:r>
              <a:rPr b="0" i="1" lang="es-ES" sz="1400" spc="-1" strike="noStrike">
                <a:solidFill>
                  <a:srgbClr val="ffffff"/>
                </a:solidFill>
                <a:latin typeface="Verdana"/>
              </a:rPr>
              <a:t>proceso de toma de decisiones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respecto a la asignación de los recurso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ómo se organiza la institución? (relaciones de autoridad, distribución de responsabilidades y comunicación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765000"/>
            <a:ext cx="7524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675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. Cuadro de Mando Integral, Recomendaciones y Nuevas Líneas de Acción (se debe fundamenta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pecto a las nuevas líneas de acción, lo primero es definir una orientación del cambio y establecer una visión futura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 los objetivos definidos establecer los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ámbitos prioritarios en los cuales interveni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Ámbitos que eventualmente se deben intervenir (recomendaciones específicas)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sión, Visión, Productos, Proyectos estratégic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ianzas estratégicas, Recursos Estratégico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rketing Público, Cambios en la interacción con el client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cesos de toma de decisiones, mejora de los procesos principales y de apoyo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tación y características de los RHH, $ y de información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diseño institucional (legal o no legal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odo lo anterior deberá ser traducido en una aplicación del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uadro de Mando Integr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1:20:06Z</dcterms:created>
  <dc:creator>Administrador</dc:creator>
  <dc:description/>
  <dc:language>en-US</dc:language>
  <cp:lastModifiedBy>José Inostroza</cp:lastModifiedBy>
  <dcterms:modified xsi:type="dcterms:W3CDTF">2004-07-27T17:26:45Z</dcterms:modified>
  <cp:revision>3</cp:revision>
  <dc:subject/>
  <dc:title>PAUTA de TRABAJO DEL  CURSO DE GESTIÓN PÚBLICA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85075619</vt:r8>
  </property>
  <property fmtid="{D5CDD505-2E9C-101B-9397-08002B2CF9AE}" pid="3" name="_AuthorEmail">
    <vt:lpwstr>jose.inostroza@ine.cl</vt:lpwstr>
  </property>
  <property fmtid="{D5CDD505-2E9C-101B-9397-08002B2CF9AE}" pid="4" name="_AuthorEmailDisplayName">
    <vt:lpwstr>José Inostroza</vt:lpwstr>
  </property>
  <property fmtid="{D5CDD505-2E9C-101B-9397-08002B2CF9AE}" pid="5" name="_EmailSubject">
    <vt:lpwstr>Listado de organizaciones públicas/Pauta preliminar Trabajo(IN74a)</vt:lpwstr>
  </property>
  <property fmtid="{D5CDD505-2E9C-101B-9397-08002B2CF9AE}" pid="6" name="_PreviousAdHocReviewCycleID">
    <vt:r8>-345294462</vt:r8>
  </property>
</Properties>
</file>