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8B512-97BF-4E98-B14A-6BBE676D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69A38-4C4C-470A-9D8E-160C6DB2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0183E-8F4E-447B-82A9-1A19E00B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7DA54-B073-48C0-808B-C11EB2B0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3863-C753-4BA9-956E-52B565A0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B222-92DB-42C3-98C8-0288743D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F051-8F22-4273-AB63-DBA855B1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7479-2C75-46D0-A0EF-E0AECBA6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8CD0-0848-409D-8EBB-7344BB14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3639-2C89-4747-A72E-261C1134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F4CE-0282-4290-ADA7-C1B5FC1D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5441C-5E3B-4054-A761-ACA1DC3A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D137-7C46-4C09-BEE9-3975D0EF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7AB1-9F08-4D03-968E-B32FE303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F84F-41C1-4B11-9D24-6B718F07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24DF-25B4-4CA6-8A4F-CECB601F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406D-A56F-478A-B574-9DD2A189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C5790-8083-4B28-A3E0-A529F605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94C88-9062-47B1-9CDB-ECA7BBBD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62C50-F787-49F1-856F-B66B55C3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DF54E-614F-4EC6-BD93-9035B9D0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A1032-8BF8-499C-A13B-15449FE7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CB97D-5C10-452E-A520-6960883A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1F447-869D-4620-A7F5-9A408292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D76F-4078-414D-B497-2229422489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FC5E-059C-406C-863E-9674AB39EC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mgpp.cl/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42920" y="1699920"/>
            <a:ext cx="58388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ffffff"/>
                </a:solidFill>
                <a:latin typeface="Verdana"/>
              </a:rPr>
              <a:t>PAUTA de TRABAJO DEL </a:t>
            </a:r>
            <a:br>
              <a:rPr sz="3300"/>
            </a:br>
            <a:r>
              <a:rPr b="1" lang="es-CL" sz="3300" spc="-1" strike="noStrike">
                <a:solidFill>
                  <a:srgbClr val="ffffff"/>
                </a:solidFill>
                <a:latin typeface="Verdana"/>
              </a:rPr>
              <a:t>CURSO DE GESTIÓN PÚBLICA 2004</a:t>
            </a:r>
            <a:br>
              <a:rPr sz="3300"/>
            </a:br>
            <a:r>
              <a:rPr b="1" lang="es-CL" sz="3300" spc="-1" strike="noStrike">
                <a:solidFill>
                  <a:srgbClr val="ff3300"/>
                </a:solidFill>
                <a:latin typeface="Verdana"/>
              </a:rPr>
              <a:t>(sujeta a  las modificaciones del documento que se enviará)</a:t>
            </a:r>
            <a:br>
              <a:rPr sz="3300"/>
            </a:br>
            <a:r>
              <a:rPr b="1" i="1" lang="es-CL" sz="1800" spc="-1" strike="noStrike">
                <a:solidFill>
                  <a:srgbClr val="ffffff"/>
                </a:solidFill>
                <a:latin typeface="Verdana"/>
              </a:rPr>
              <a:t>MGGP</a:t>
            </a:r>
            <a:br>
              <a:rPr sz="1800"/>
            </a:br>
            <a:r>
              <a:rPr b="1" i="1" lang="es-CL" sz="1800" spc="-1" strike="noStrike">
                <a:solidFill>
                  <a:srgbClr val="ffffff"/>
                </a:solidFill>
                <a:latin typeface="Verdana"/>
              </a:rPr>
              <a:t>julio de 20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701028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4. Contenido de los informes:</a:t>
            </a:r>
            <a:r>
              <a:rPr b="1" lang="en-US" sz="35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8920" y="1557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Primer Informe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eberá contener una revisión sobre el propósito, entorno y capacidades, según se explica en esta pauta. Desde esta revisión, se debe formular un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diagnóstico general y preliminar de la organizació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 Este diagnóstico tiene que estar inclinado a ir trazando los desafíos de la institució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Segundo Inform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: Deberá contener los contenidos del primer informe mejorados, más un desarrollo completo de las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comendaciones y líneas de acción y el desarrollo de un cuadro de mando integral para la organización (mapa estratégico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5. Fuentes de Informació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759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ntrevista con Directivos Superiores, intermedios, funcionario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Revisar prensa (Ej. Internet-Googl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ntrevistar a algunos actores del entorn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Leer documentos oficiales (Ej. Balance de Gestión Integral, Presupuestos </a:t>
            </a:r>
            <a:r>
              <a:rPr b="0" lang="es-CL" sz="1600" spc="-1" strike="noStrike" u="sng">
                <a:solidFill>
                  <a:srgbClr val="3399ff"/>
                </a:solidFill>
                <a:uFillTx/>
                <a:latin typeface="Verdana"/>
                <a:hlinkClick r:id="rId1"/>
              </a:rPr>
              <a:t>www.dipres.cl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ocumentos legales (Ley orgánica, reglamentos, instructivos presidenciales, etc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Buscar antecedentes en organismos que controlan (www.dipres.cl, www.segpres.cl, www.contraloría.cl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Conseguir informes de gestió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studios de caso(</a:t>
            </a:r>
            <a:r>
              <a:rPr b="0" lang="es-CL" sz="1600" spc="-1" strike="noStrike" u="sng">
                <a:solidFill>
                  <a:srgbClr val="3399ff"/>
                </a:solidFill>
                <a:uFillTx/>
                <a:latin typeface="Verdana"/>
                <a:hlinkClick r:id="rId2"/>
              </a:rPr>
              <a:t>www.mgpp.cl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Referencias teóricas claves: Clases de Cátedra, exposiciones de invitados, bibliografía del Curso, especialmente Mark Moore , “Ventaja competitiva, Michael Porter” y 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“Cómo utilizar el Cuadro de Mando Integral”,  Kaplan y Nort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63640" y="69228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6. Formato, entrega y fechas: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Número de Páginas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20 máximo tamaño  carta (no se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cuentan anex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Tipo de letra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Arial o Times New Roman, número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12. Interlineado sencill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Ortografía y Redacción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Cuidar la redacción y ortografía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porque será considerada en la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valuació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Fechas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Pendien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Forma de Entrega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Se deberá entregar dos ejemplares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n secretaria de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studio  del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MGPP  de cada informe, más una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versión  en archivo Word (disquete)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1. Objetivos y Características Generales del Trabajo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640" y="1700280"/>
            <a:ext cx="70106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Relacionar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teoría con aplicación práctica en el análisis de casos específicos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studio de caso sobre alguna organización pública chilena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Se espera que de esta manera se aclare la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pertinencia y relevancia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e los planteamientos teóricos de clas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1. Objetivos y Características Generales del Trabajo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La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perspectiva general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que se deberá asumir de manera obligada por los alumnos es la de un </a:t>
            </a: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consultor  estratégico de gestión pública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el cual se requiere sus servicios por un Consejo de Ministros que solicita un </a:t>
            </a: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informe analítico,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basado en información seleccionada y relevan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l informe deberá realizar recomendaciones que apunten a </a:t>
            </a: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mejorar la producción de valor público de la institución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n otras palabras, se debe desarrollar un documento bien escrito, rico en análisis y en antecedentes significativos que permitan finalmente entregar una consejería estratégica respecto de los problemas o desafíos fundamentales de la Organización y  cómo enfrentarlos.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1. Objetivos y Características Generales del Trabajo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estándar general de calidad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del trabajo deberá ser equivalente a un </a:t>
            </a:r>
            <a:r>
              <a:rPr b="0" i="1" lang="es-CL" sz="1600" spc="-1" strike="noStrike">
                <a:solidFill>
                  <a:srgbClr val="ffffff"/>
                </a:solidFill>
                <a:latin typeface="Verdana"/>
              </a:rPr>
              <a:t>trabajo profesional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de un consultor estratégico en Gestión Pública contratado para entregar su asesorí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ffffff"/>
                </a:solidFill>
                <a:latin typeface="Verdana"/>
              </a:rPr>
              <a:t>2.  Elección de la Organización:</a:t>
            </a:r>
            <a:r>
              <a:rPr b="0" lang="es-CL" sz="3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Puede ser un </a:t>
            </a:r>
            <a:r>
              <a:rPr b="1" i="1" lang="es-CL" sz="1600" spc="-1" strike="noStrike">
                <a:solidFill>
                  <a:srgbClr val="ffffff"/>
                </a:solidFill>
                <a:latin typeface="Verdana"/>
              </a:rPr>
              <a:t>servicio público centralizado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 o </a:t>
            </a:r>
            <a:r>
              <a:rPr b="1" i="1" lang="es-CL" sz="1600" spc="-1" strike="noStrike">
                <a:solidFill>
                  <a:srgbClr val="ffffff"/>
                </a:solidFill>
                <a:latin typeface="Verdana"/>
              </a:rPr>
              <a:t>descentralizado chileno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, eventualmente alguna organización no gubernamental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No debe ser una institución donde el alumno trabaje o lo haya hecho recientement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stas condiciones deben ser aprobadas por el equipo docent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e preferencia no se debe elegir un Ministerio debido a la multiplicidad de objetivos y la complejidad de obtener información. De todos modos puede hacerse alguna excepció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3.  Estructura y contenidos mínimos del Trabaj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92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0078f0"/>
              </a:buClr>
              <a:buSzPct val="8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Descripción del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Verdana"/>
              </a:rPr>
              <a:t>Propósito de la Institució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uál es el </a:t>
            </a:r>
            <a:r>
              <a:rPr b="0" i="1" lang="es-CL" sz="1600" spc="-1" strike="noStrike">
                <a:solidFill>
                  <a:srgbClr val="ffffff"/>
                </a:solidFill>
                <a:latin typeface="Verdana"/>
              </a:rPr>
              <a:t>valor público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que debe generar la organización según ella misma?(revisar definiciones estratégicas, hacer entrevistas. Un método propuesto es cancelar el propósito e imaginar qué ocurriría en la sociedad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uál es el conjunto de servicios que la institución produc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uáles son los lineamientos estratégicos declarados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uál es la consistencia con relación a otras declaracione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ómo es la consistencia de lo declarado con los hechos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Está bien formulado el propósito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3.  Estructura y contenidos mínimos del Trabaj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2001600"/>
            <a:ext cx="87487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b. </a:t>
            </a: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Análisis del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Verdana"/>
              </a:rPr>
              <a:t>Entorno Relevante</a:t>
            </a: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para la organización:</a:t>
            </a: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Analizar situación con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actores que deciden y/o controlan la política o programas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. Analizar la situación con el parlamento, partidos político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Identificar a los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Clientes / Usuarios: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Quiénes son, cómo son, caracterizar demanda, identificar tendencias de largo plazo, expectativas no satisfecha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Se deberá identificar otros actores externos relevantes, características y propósitos de éstos;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escribir tipos de relaciones con y entre los actores, describir expectativas de estos actores respecto de la organización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Analizar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coyuntura económica y tecnológica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Qué ocurre y cómo afecta y analizar la tecnología.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3.  Estructura y contenidos mínimos del Trabaj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7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c. </a:t>
            </a: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Análisis de las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Verdana"/>
              </a:rPr>
              <a:t>Capacidades de la Organización: Recursos y Sistemas</a:t>
            </a: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¿Cuáles son los servicios prestados o bienes que produce la institución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¿Quiénes son los clientes de la institución? ¿Existen servicios distintos para distintos clientes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adena del Valor”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1600" spc="-1" strike="noStrike">
                <a:solidFill>
                  <a:srgbClr val="ffffff"/>
                </a:solidFill>
                <a:latin typeface="Verdana"/>
              </a:rPr>
              <a:t>procesos productivos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i="1" lang="es-ES" sz="1600" spc="-1" strike="noStrike">
                <a:solidFill>
                  <a:srgbClr val="ffffff"/>
                </a:solidFill>
                <a:latin typeface="Verdana"/>
              </a:rPr>
              <a:t>de apoyo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)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Cuáles son los procesos productivos  principales para lograr la prestación del servicio o producción del bien? ¿Cómo se llevan a cabo estos procesos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Cuáles son los procesos o funciones de apoyo para ello? ¿Cómo se llevan a cabo estos procesos? (describir los procesos de apoyo)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Qué recursos se utilizan? RRHH, $, informació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Cómo es el </a:t>
            </a:r>
            <a:r>
              <a:rPr b="0" i="1" lang="es-ES" sz="1400" spc="-1" strike="noStrike">
                <a:solidFill>
                  <a:srgbClr val="ffffff"/>
                </a:solidFill>
                <a:latin typeface="Verdana"/>
              </a:rPr>
              <a:t>proceso de toma de decisiones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respecto a la asignación de los recursos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Cómo se organiza la institución? (relaciones de autoridad, distribución de responsabilidades y comunicación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765000"/>
            <a:ext cx="75247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3.  Estructura y contenidos mínimos del Trabaj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67564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. Cuadro de Mando Integral, Recomendaciones y Nuevas Líneas de Acción (se debe fundamenta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pecto a las nuevas líneas de acción, lo primero es definir una orientación del cambio y establecer una visión futura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 los objetivos definidos establecer los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ámbitos prioritarios en los cuales intervenir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Ámbitos que eventualmente se deben intervenir (recomendaciones específicas)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isión, Visión, Productos, Proyectos estratégico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lianzas estratégicas, Recursos Estratégico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arketing Público, Cambios en la interacción con el cliente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cesos de toma de decisiones, mejora de los procesos principales y de apoyo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otación y características de los RHH, $ y de información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diseño institucional (legal o no legal)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odo lo anterior deberá ser traducido en una aplicación del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uadro de Mando Integr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1:20:06Z</dcterms:created>
  <dc:creator>Administrador</dc:creator>
  <dc:description/>
  <dc:language>en-US</dc:language>
  <cp:lastModifiedBy>José Inostroza</cp:lastModifiedBy>
  <dcterms:modified xsi:type="dcterms:W3CDTF">2004-07-27T17:26:45Z</dcterms:modified>
  <cp:revision>3</cp:revision>
  <dc:subject/>
  <dc:title>PAUTA de TRABAJO DEL  CURSO DE GESTIÓN PÚBLICA 200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85075619</vt:r8>
  </property>
  <property fmtid="{D5CDD505-2E9C-101B-9397-08002B2CF9AE}" pid="3" name="_AuthorEmail">
    <vt:lpwstr>jose.inostroza@ine.cl</vt:lpwstr>
  </property>
  <property fmtid="{D5CDD505-2E9C-101B-9397-08002B2CF9AE}" pid="4" name="_AuthorEmailDisplayName">
    <vt:lpwstr>José Inostroza</vt:lpwstr>
  </property>
  <property fmtid="{D5CDD505-2E9C-101B-9397-08002B2CF9AE}" pid="5" name="_EmailSubject">
    <vt:lpwstr>Listado de organizaciones públicas/Pauta preliminar Trabajo(IN74a)</vt:lpwstr>
  </property>
  <property fmtid="{D5CDD505-2E9C-101B-9397-08002B2CF9AE}" pid="6" name="_PreviousAdHocReviewCycleID">
    <vt:r8>-345294462</vt:r8>
  </property>
</Properties>
</file>