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E7C-5563-4DC4-AC94-BB93CDF2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B68-432B-4469-90F1-EED3B972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42A-F1A7-421E-87CE-B525AAB7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592-9EA1-4CEE-8366-548E117A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728-829E-44C8-8C2B-62EBDE66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CA0-A795-472D-8DC2-D3D90765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938-233E-42B9-9B1E-871D4E6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84C-EC3C-4FD5-B2C1-2F500001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B5D-0353-41C1-9C12-61762CB3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2A3-4F7D-4AFF-9E07-339BBDD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F25-55D3-468C-A774-0CB6F1B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DAA-793C-499B-8AEC-4773074E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5695-E94A-47C2-AE79-B9BCAA3598C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7080" y="1430280"/>
            <a:ext cx="511164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d6fc7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Gestión Estratégica en el </a:t>
            </a:r>
            <a:endParaRPr b="0" lang="en-US" sz="2400" spc="1" strike="noStrike">
              <a:ln w="19080">
                <a:solidFill>
                  <a:srgbClr val="6d6fc7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d6fc7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ector Público</a:t>
            </a:r>
            <a:endParaRPr b="0" lang="en-US" sz="2400" spc="1" strike="noStrike">
              <a:ln w="19080">
                <a:solidFill>
                  <a:srgbClr val="6d6fc7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52280"/>
            <a:ext cx="7620120" cy="838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La Organización Focalizada en la Estrate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81400" y="990720"/>
            <a:ext cx="2819520" cy="3047760"/>
          </a:xfrm>
          <a:prstGeom prst="pentagon">
            <a:avLst/>
          </a:prstGeom>
          <a:solidFill>
            <a:srgbClr val="0033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62440" y="1752480"/>
            <a:ext cx="1676520" cy="1403640"/>
          </a:xfrm>
          <a:prstGeom prst="pentagon">
            <a:avLst/>
          </a:prstGeom>
          <a:solidFill>
            <a:srgbClr val="0033cc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67200" y="3200400"/>
            <a:ext cx="1466640" cy="652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 Gestión</a:t>
            </a: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120" y="1230480"/>
            <a:ext cx="2530800" cy="3070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1. LIDERAZGO EJECU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34080" y="1067040"/>
            <a:ext cx="1752840" cy="52020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5. PROCESO  CONTINU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25000" y="3954600"/>
            <a:ext cx="2167920" cy="30708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4. TRABAJO DE TO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59120" y="4217760"/>
            <a:ext cx="1855800" cy="73332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3. ALINEAMIENTO DE LA ORGANIZ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520" y="3776040"/>
            <a:ext cx="1651320" cy="631440"/>
          </a:xfrm>
          <a:prstGeom prst="rect">
            <a:avLst/>
          </a:prstGeom>
          <a:solidFill>
            <a:srgbClr val="0033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2. TRADUCIR 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Times New Roman"/>
              </a:rPr>
              <a:t>ESTRATEG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8480" y="1751400"/>
            <a:ext cx="292392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atrocinio de la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quipo Ejecutivo comprometi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Nueva forma de administración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Responsable por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Cultura del 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00720" y="1757520"/>
            <a:ext cx="259092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Vinculo con presupues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Vinculo con inici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Reuniones de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Sistema retroali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Proceso de aprendiza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50040" y="4402800"/>
            <a:ext cx="2490840" cy="85896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Conciencia Estraté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Alineación de Me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Incentivos vincul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68720" y="5150160"/>
            <a:ext cx="3029040" cy="12294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strategia de unidades de nego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Estrategia unidades de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Socios exter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4160" y="4530960"/>
            <a:ext cx="2417760" cy="14536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isión / 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apas Estratég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Balanced Scorec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Me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cc"/>
                </a:solidFill>
                <a:latin typeface="Times New Roman"/>
              </a:rPr>
              <a:t>Inicia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043520" y="1447920"/>
            <a:ext cx="146664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ceso </a:t>
            </a: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388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68240" y="2749680"/>
            <a:ext cx="2273400" cy="243180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11440" y="996840"/>
            <a:ext cx="2273400" cy="1517760"/>
          </a:xfrm>
          <a:prstGeom prst="rect">
            <a:avLst/>
          </a:prstGeom>
          <a:solidFill>
            <a:srgbClr val="fcfeb9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11440" y="4730760"/>
            <a:ext cx="2273400" cy="143496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8680" y="2749680"/>
            <a:ext cx="2273040" cy="2508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8320" y="2133720"/>
            <a:ext cx="0" cy="250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4572000"/>
            <a:ext cx="1365120" cy="98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936760" y="4495680"/>
            <a:ext cx="1530360" cy="113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60760" y="1066680"/>
            <a:ext cx="223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La visión de la Empre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pósitos y valores esen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7560" y="2836800"/>
            <a:ext cx="22366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rtalezas y debi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80280" y="2913120"/>
            <a:ext cx="19317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Análisis 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portunidades y amenaz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13040" y="4800600"/>
            <a:ext cx="1932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Capacidad de implantación de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152280"/>
            <a:ext cx="7620120" cy="838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La importancia de la 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7800" y="2368440"/>
            <a:ext cx="8026560" cy="3492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457200"/>
            <a:ext cx="6553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Estableciendo todo en conjunto: Sony en los años 1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1808280"/>
            <a:ext cx="844560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Arial"/>
              </a:rPr>
              <a:t>Ideología de la es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Arial"/>
              </a:rPr>
              <a:t>Valores Esenc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Elevar la Cultura Japonesa y el Estatus 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Ser un Pionero-no seguir a otros; haciendo lo im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d6fc7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Innovadora creatividad y habilidad indivi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Experimentar la completa alegría de la innovación y la aplicación de la tecnología para el beneficio y placer de los de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3960" y="2476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Estableciendo todo en conjunto: Sony en los años 1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" y="1238400"/>
            <a:ext cx="826956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cc"/>
                </a:solidFill>
                <a:latin typeface="Arial"/>
              </a:rPr>
              <a:t>Visionar el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M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Llegar a ser la Compañía más conocida por cambiar la imagen mundial de la pobre calidad de los productos japon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cc"/>
                </a:solidFill>
                <a:latin typeface="Arial"/>
              </a:rPr>
              <a:t>Descripción v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Arial"/>
              </a:rPr>
              <a:t>Nosotros crearemos  productos que penetrarán en todo el mundo... Nosotros llegaremos a ser la primera compañía japonesa en introducirse en el mercado norteamericano y distribuirles directamente... Nosotros tendremos éxito con innovaciones que compañías norteamericanas han fallado- tales como radiotransistores... y significará  innovación y calidad que competirá con las más innovadoras compañías de cualquier parte... “Hecho en Japón” significará algo fino, no algo de pacot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opósito esencial es la razón de ser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una Compañí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81120" y="1295280"/>
            <a:ext cx="8234280" cy="52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3M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Solucionar innovadoramente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blemas no resuel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rgil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Mejorar el nivel de vida alrededor d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ewlett-Packard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Hacer contribuciones técnicas para e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greso y bienestar de la 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t Arrow Corporatio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Ser un rol modelo y una herramient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cial para el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cific Theatr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Proveer un lugar para las persona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florecer y realzar la 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ary Kay Cosmetic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Dar ilimitadas oportunidades a la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uj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opósito esencial es la razón de ser 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 una Compañí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9280" y="1143000"/>
            <a:ext cx="806760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c Kinsey &amp; Compan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Ayudar a las corporaciones líderes y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obiernos a ser más exit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k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ervar y mejorar la vida hum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n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Experimentar la alegría de aventajar y aplicar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tecnología  para el beneficio de las perso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lecare Corporation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yudar a las personas con deficiencia mental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 darse cuenta de sus máximos poten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al-Mart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arle a la gente común las mismas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hances de compra que la gente ri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Walt Disney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acer personas fel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290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7010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1fa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5a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1947600"/>
            <a:ext cx="12193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Potenciar la marca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1487520"/>
            <a:ext cx="15242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strategia productiv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65240" y="1468440"/>
            <a:ext cx="18446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strategia crecimiento ingres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1116000"/>
            <a:ext cx="51055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Valor para Agentes Clav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50160" y="1954080"/>
            <a:ext cx="15080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utilización activ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1955880"/>
            <a:ext cx="175248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anchorCtr="1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Mejorar estructura de cost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1947600"/>
            <a:ext cx="18968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013f61"/>
            </a:solidFill>
            <a:miter/>
          </a:ln>
          <a:effectLst>
            <a:outerShdw dist="17819" dir="2700000" blurRad="0" rotWithShape="0">
              <a:srgbClr val="013f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6000" bIns="3600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crementar valor para 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405160"/>
            <a:ext cx="7772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5680" y="1490760"/>
            <a:ext cx="12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Valor para accionis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OC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83120" y="2152800"/>
            <a:ext cx="144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Nuevas fuentes de ingres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28520" y="2162160"/>
            <a:ext cx="1340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ntabilidad d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3760" y="2209680"/>
            <a:ext cx="88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osto unit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4520" y="2179800"/>
            <a:ext cx="107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Utilización activ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33560" y="1371600"/>
            <a:ext cx="1805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05000" y="2576520"/>
            <a:ext cx="5186520" cy="93492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22800" y="2576520"/>
            <a:ext cx="135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Liderazgo de produc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35080" y="2724120"/>
            <a:ext cx="5186520" cy="93492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53240" y="2733840"/>
            <a:ext cx="135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Intimidad con clien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28800" y="2895480"/>
            <a:ext cx="5186520" cy="93528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Proposición de valor al cli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3146400"/>
            <a:ext cx="2881440" cy="66348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Atributos Producto/Servic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3120" y="3147840"/>
            <a:ext cx="1503360" cy="655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Rel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16480" y="3147840"/>
            <a:ext cx="798840" cy="655920"/>
          </a:xfrm>
          <a:prstGeom prst="rect">
            <a:avLst/>
          </a:prstGeom>
          <a:solidFill>
            <a:srgbClr val="ffffcc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Times New Roman"/>
              </a:rPr>
              <a:t>Ima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646600" y="2898720"/>
            <a:ext cx="135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Excelencia Operac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33880" y="2382840"/>
            <a:ext cx="130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Adquisición de client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57360" y="2373480"/>
            <a:ext cx="120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tención de client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4081320"/>
            <a:ext cx="7772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3440" y="3852720"/>
            <a:ext cx="128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Satisfacción del cl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840" y="2963880"/>
            <a:ext cx="1769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CLIEN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095560" y="4395960"/>
            <a:ext cx="6435720" cy="517320"/>
          </a:xfrm>
          <a:custGeom>
            <a:avLst/>
            <a:gdLst>
              <a:gd name="textAreaLeft" fmla="*/ 0 w 6435720"/>
              <a:gd name="textAreaRight" fmla="*/ 6436080 w 64357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88" y="0"/>
                </a:lnTo>
                <a:lnTo>
                  <a:pt x="21600" y="10800"/>
                </a:lnTo>
                <a:lnTo>
                  <a:pt x="205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81360" y="5310360"/>
            <a:ext cx="4800600" cy="48096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Una fuerza de trabajo preparada y motiv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81360" y="5691240"/>
            <a:ext cx="4800600" cy="557280"/>
          </a:xfrm>
          <a:prstGeom prst="rect">
            <a:avLst/>
          </a:prstGeom>
          <a:solidFill>
            <a:srgbClr val="008080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06640" y="5845320"/>
            <a:ext cx="146700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ompetencias estratégi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67400" y="5845320"/>
            <a:ext cx="136188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Tecnologías estratégi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6680" y="5845320"/>
            <a:ext cx="1080000" cy="231120"/>
          </a:xfrm>
          <a:prstGeom prst="rect">
            <a:avLst/>
          </a:pr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lima para ac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5181480"/>
            <a:ext cx="7086600" cy="144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8120" y="424008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ROCES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INTER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5480" y="5410080"/>
            <a:ext cx="2130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Perspecti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CRECI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33"/>
                </a:solidFill>
                <a:latin typeface="Arial"/>
              </a:rPr>
              <a:t>Y APRENDIZAJ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42900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472428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095880" y="507168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91520" y="5071680"/>
            <a:ext cx="15228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600520" y="3852360"/>
            <a:ext cx="7596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347720" y="3852360"/>
            <a:ext cx="10980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2457000" y="3852360"/>
            <a:ext cx="95400" cy="38124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5000" y="2481120"/>
            <a:ext cx="2247840" cy="1752840"/>
          </a:xfrm>
          <a:custGeom>
            <a:avLst/>
            <a:gdLst/>
            <a:ahLst/>
            <a:rect l="l" t="t" r="r" b="b"/>
            <a:pathLst>
              <a:path w="1416" h="1104">
                <a:moveTo>
                  <a:pt x="0" y="1104"/>
                </a:moveTo>
                <a:cubicBezTo>
                  <a:pt x="492" y="1052"/>
                  <a:pt x="984" y="1000"/>
                  <a:pt x="1200" y="816"/>
                </a:cubicBezTo>
                <a:cubicBezTo>
                  <a:pt x="1416" y="632"/>
                  <a:pt x="1356" y="316"/>
                  <a:pt x="1296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81680" y="1224000"/>
            <a:ext cx="2324160" cy="2990880"/>
          </a:xfrm>
          <a:custGeom>
            <a:avLst/>
            <a:gdLst/>
            <a:ahLst/>
            <a:rect l="l" t="t" r="r" b="b"/>
            <a:pathLst>
              <a:path w="1080" h="1728">
                <a:moveTo>
                  <a:pt x="0" y="1728"/>
                </a:moveTo>
                <a:cubicBezTo>
                  <a:pt x="300" y="1592"/>
                  <a:pt x="600" y="1456"/>
                  <a:pt x="768" y="1248"/>
                </a:cubicBezTo>
                <a:cubicBezTo>
                  <a:pt x="936" y="1040"/>
                  <a:pt x="1080" y="688"/>
                  <a:pt x="1008" y="480"/>
                </a:cubicBezTo>
                <a:cubicBezTo>
                  <a:pt x="936" y="272"/>
                  <a:pt x="448" y="80"/>
                  <a:pt x="336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933960" y="1709280"/>
            <a:ext cx="15228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19920" y="171900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3733920" y="1690560"/>
            <a:ext cx="185760" cy="23832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184480" y="168876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60480" y="1185840"/>
            <a:ext cx="165240" cy="380880"/>
          </a:xfrm>
          <a:custGeom>
            <a:avLst/>
            <a:gdLst/>
            <a:ahLst/>
            <a:rect l="l" t="t" r="r" b="b"/>
            <a:pathLst>
              <a:path w="104" h="240">
                <a:moveTo>
                  <a:pt x="56" y="240"/>
                </a:moveTo>
                <a:cubicBezTo>
                  <a:pt x="28" y="188"/>
                  <a:pt x="0" y="136"/>
                  <a:pt x="8" y="96"/>
                </a:cubicBezTo>
                <a:cubicBezTo>
                  <a:pt x="16" y="56"/>
                  <a:pt x="88" y="16"/>
                  <a:pt x="104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1230480"/>
            <a:ext cx="164880" cy="304560"/>
          </a:xfrm>
          <a:custGeom>
            <a:avLst/>
            <a:gdLst/>
            <a:ahLst/>
            <a:rect l="l" t="t" r="r" b="b"/>
            <a:pathLst>
              <a:path w="104" h="192">
                <a:moveTo>
                  <a:pt x="0" y="192"/>
                </a:moveTo>
                <a:cubicBezTo>
                  <a:pt x="44" y="160"/>
                  <a:pt x="88" y="128"/>
                  <a:pt x="96" y="96"/>
                </a:cubicBezTo>
                <a:cubicBezTo>
                  <a:pt x="104" y="64"/>
                  <a:pt x="56" y="16"/>
                  <a:pt x="48" y="0"/>
                </a:cubicBezTo>
              </a:path>
            </a:pathLst>
          </a:custGeom>
          <a:noFill/>
          <a:ln w="19080">
            <a:solidFill>
              <a:srgbClr val="f8140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3733560" y="2352240"/>
            <a:ext cx="7596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286000" y="2347560"/>
            <a:ext cx="76320" cy="228600"/>
          </a:xfrm>
          <a:prstGeom prst="line">
            <a:avLst/>
          </a:prstGeom>
          <a:ln w="19080">
            <a:solidFill>
              <a:srgbClr val="f814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76320"/>
            <a:ext cx="7413840" cy="7808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s-ES_tradnl" sz="1600" spc="-1" strike="noStrike">
                <a:solidFill>
                  <a:srgbClr val="008080"/>
                </a:solidFill>
                <a:latin typeface="Arial"/>
              </a:rPr>
              <a:t>LOS MAPAS DE ESTRATEGIA PROMUEVEN EL ALINEAMIENTO Y EFICIENCIA DEL EQUIPO GEREN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47840" y="4175280"/>
            <a:ext cx="1465200" cy="9284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13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9040" y="4348440"/>
            <a:ext cx="889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Potenciarr la marca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novación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19440" y="4175280"/>
            <a:ext cx="1673280" cy="9284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81600" y="4219560"/>
            <a:ext cx="8982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Incrementar val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al cliente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Administ. d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Client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67360" y="4175280"/>
            <a:ext cx="1557360" cy="9284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80200" y="4284720"/>
            <a:ext cx="873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Logr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Excelencia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Operacional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Operacional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515280" y="4176720"/>
            <a:ext cx="1725480" cy="909720"/>
          </a:xfrm>
          <a:custGeom>
            <a:avLst/>
            <a:gdLst>
              <a:gd name="textAreaLeft" fmla="*/ 0 w 1725480"/>
              <a:gd name="textAreaRight" fmla="*/ 1725840 w 172548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7eca83"/>
          </a:solidFill>
          <a:ln w="12600">
            <a:solidFill>
              <a:srgbClr val="0a57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50000" y="4172040"/>
            <a:ext cx="1168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Ser buen ciudadan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corporativo”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(Procesos Regulatorios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Arial"/>
              </a:rPr>
              <a:t>y ambientales)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41480" y="3454560"/>
            <a:ext cx="48276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Prec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2280" y="3454560"/>
            <a:ext cx="5461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Cal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2920" y="3454560"/>
            <a:ext cx="54468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Tiemp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30680" y="3454560"/>
            <a:ext cx="8413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Funcionalid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791240" y="3454560"/>
            <a:ext cx="53316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Servic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18000" y="3454560"/>
            <a:ext cx="74484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Rela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38880" y="3454560"/>
            <a:ext cx="531720" cy="209520"/>
          </a:xfrm>
          <a:prstGeom prst="rect">
            <a:avLst/>
          </a:prstGeom>
          <a:solidFill>
            <a:srgbClr val="7eca83"/>
          </a:solidFill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Marc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9320" y="4740120"/>
            <a:ext cx="619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990720"/>
            <a:ext cx="18954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1050840"/>
            <a:ext cx="17622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00600" y="990720"/>
            <a:ext cx="18288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990720"/>
            <a:ext cx="1828800" cy="97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1050840"/>
            <a:ext cx="169416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143000"/>
            <a:ext cx="162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ACTIVITY BASED COS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76920" y="1066680"/>
            <a:ext cx="16938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1066680"/>
            <a:ext cx="162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BENCHMAR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ECONOMIC VALUE AD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16240" y="1295280"/>
            <a:ext cx="196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CALIDAD DE SERVIC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11120" y="1981080"/>
            <a:ext cx="4724280" cy="1752480"/>
            <a:chOff x="411120" y="1981080"/>
            <a:chExt cx="4724280" cy="1752480"/>
          </a:xfrm>
        </p:grpSpPr>
        <p:sp>
          <p:nvSpPr>
            <p:cNvPr id="405" name=""/>
            <p:cNvSpPr/>
            <p:nvPr/>
          </p:nvSpPr>
          <p:spPr>
            <a:xfrm>
              <a:off x="41112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4940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35400" y="1981080"/>
              <a:ext cx="0" cy="17524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411120" y="3733920"/>
            <a:ext cx="52275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67080" y="1600200"/>
            <a:ext cx="53352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05120" y="1219320"/>
            <a:ext cx="289548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560" y="52560"/>
            <a:ext cx="68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  <a:ea typeface="Arial"/>
              </a:rPr>
              <a:t>Integración de Objetivos y Herramientas de Gest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000" y="61246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  <a:ea typeface="Arial"/>
              </a:rPr>
              <a:t>OPINIONES DE REFERENTES: BALANCED SCORECARD COLLABORATIVE, STERN &amp; STEWARD, INDUSTRIA DE SOFTWARE Y DESARROLLO DE “SUITES SEM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4360" y="4437000"/>
            <a:ext cx="4679640" cy="1618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Cultura y capacidad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Definición y desarrollo de estrategi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l  valor agrega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 calidad y  client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es-CL" sz="2000" spc="-1" strike="noStrike">
                <a:solidFill>
                  <a:srgbClr val="ffffcc"/>
                </a:solidFill>
                <a:latin typeface="Arial Narrow"/>
                <a:ea typeface="Arial"/>
              </a:rPr>
              <a:t>Gestión de excelencia en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575320" y="2077920"/>
            <a:ext cx="3492360" cy="3863880"/>
            <a:chOff x="5575320" y="2077920"/>
            <a:chExt cx="3492360" cy="3863880"/>
          </a:xfrm>
        </p:grpSpPr>
        <p:sp>
          <p:nvSpPr>
            <p:cNvPr id="415" name=""/>
            <p:cNvSpPr/>
            <p:nvPr/>
          </p:nvSpPr>
          <p:spPr>
            <a:xfrm>
              <a:off x="6870600" y="2077920"/>
              <a:ext cx="92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ueñ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776640" y="2408400"/>
              <a:ext cx="1006200" cy="1395720"/>
              <a:chOff x="6776640" y="2408400"/>
              <a:chExt cx="1006200" cy="139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6776640" y="2408400"/>
                <a:ext cx="1006200" cy="139572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00760" y="2419920"/>
                <a:ext cx="968040" cy="137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9" name=""/>
            <p:cNvSpPr/>
            <p:nvPr/>
          </p:nvSpPr>
          <p:spPr>
            <a:xfrm>
              <a:off x="5575320" y="3058560"/>
              <a:ext cx="1009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630760" y="3399120"/>
              <a:ext cx="1234440" cy="1097280"/>
              <a:chOff x="5630760" y="3399120"/>
              <a:chExt cx="1234440" cy="1097280"/>
            </a:xfrm>
          </p:grpSpPr>
          <p:sp>
            <p:nvSpPr>
              <p:cNvPr id="421" name=""/>
              <p:cNvSpPr/>
              <p:nvPr/>
            </p:nvSpPr>
            <p:spPr>
              <a:xfrm>
                <a:off x="5630760" y="3399120"/>
                <a:ext cx="1234440" cy="109728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2720" y="3416760"/>
                <a:ext cx="1208520" cy="1073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6865200" y="3943800"/>
              <a:ext cx="1006200" cy="1410480"/>
              <a:chOff x="6865200" y="3943800"/>
              <a:chExt cx="1006200" cy="1410480"/>
            </a:xfrm>
          </p:grpSpPr>
          <p:sp>
            <p:nvSpPr>
              <p:cNvPr id="424" name=""/>
              <p:cNvSpPr/>
              <p:nvPr/>
            </p:nvSpPr>
            <p:spPr>
              <a:xfrm>
                <a:off x="6865200" y="3943800"/>
                <a:ext cx="1006200" cy="141048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89320" y="3966840"/>
                <a:ext cx="969480" cy="137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6" name=""/>
            <p:cNvSpPr/>
            <p:nvPr/>
          </p:nvSpPr>
          <p:spPr>
            <a:xfrm>
              <a:off x="6600240" y="5362560"/>
              <a:ext cx="1589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rendizaje 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recimien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7871760" y="2995920"/>
              <a:ext cx="1147680" cy="1420200"/>
              <a:chOff x="7871760" y="2995920"/>
              <a:chExt cx="1147680" cy="1420200"/>
            </a:xfrm>
          </p:grpSpPr>
          <p:sp>
            <p:nvSpPr>
              <p:cNvPr id="428" name=""/>
              <p:cNvSpPr/>
              <p:nvPr/>
            </p:nvSpPr>
            <p:spPr>
              <a:xfrm>
                <a:off x="7871760" y="2995920"/>
                <a:ext cx="1147680" cy="1420200"/>
              </a:xfrm>
              <a:prstGeom prst="rect">
                <a:avLst/>
              </a:prstGeom>
              <a:gradFill rotWithShape="0">
                <a:gsLst>
                  <a:gs pos="0">
                    <a:srgbClr val="00e4e4"/>
                  </a:gs>
                  <a:gs pos="100000">
                    <a:srgbClr val="00ffff"/>
                  </a:gs>
                </a:gsLst>
                <a:lin ang="13500000"/>
              </a:gradFill>
              <a:ln w="12600">
                <a:solidFill>
                  <a:srgbClr val="00ffff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893000" y="3008520"/>
                <a:ext cx="1119960" cy="1390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0" name=""/>
            <p:cNvSpPr/>
            <p:nvPr/>
          </p:nvSpPr>
          <p:spPr>
            <a:xfrm>
              <a:off x="7913520" y="2411640"/>
              <a:ext cx="11541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n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88000" y="3213000"/>
            <a:ext cx="1828800" cy="97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64320" y="3278160"/>
            <a:ext cx="1693800" cy="85428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64320" y="3278160"/>
            <a:ext cx="162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GESTIÓN ESTRATEGICA CON BS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8823" r="28113" b="0"/>
          <a:stretch/>
        </p:blipFill>
        <p:spPr>
          <a:xfrm>
            <a:off x="0" y="0"/>
            <a:ext cx="32004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Univers"/>
              </a:rPr>
              <a:t>	</a:t>
            </a: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Arial Narrow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4480" y="1276200"/>
            <a:ext cx="57895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Arial"/>
                <a:ea typeface="Arial"/>
              </a:rPr>
              <a:t>-Herramientas de Gestión Estratég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2000" spc="-1" strike="noStrike">
                <a:solidFill>
                  <a:srgbClr val="ffffcc"/>
                </a:solidFill>
                <a:latin typeface="Arial"/>
                <a:ea typeface="Arial"/>
              </a:rPr>
              <a:t>-Ejemplos de aplic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49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62480" y="6102360"/>
            <a:ext cx="76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62080" y="378000"/>
            <a:ext cx="54133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76212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080" y="685800"/>
            <a:ext cx="633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ESTIÓN ESTRATEGICA-SEM: 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8080" y="6102360"/>
            <a:ext cx="7668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83080" y="3745080"/>
            <a:ext cx="3770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84160" y="3745080"/>
            <a:ext cx="60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Aplic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23160" y="374508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dida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3480" y="3745080"/>
            <a:ext cx="177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correctivas&amp;adaptars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716360" y="2808360"/>
            <a:ext cx="1800" cy="49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67400" y="2725560"/>
            <a:ext cx="98280" cy="111240"/>
          </a:xfrm>
          <a:custGeom>
            <a:avLst/>
            <a:gdLst/>
            <a:ahLst/>
            <a:rect l="l" t="t" r="r" b="b"/>
            <a:pathLst>
              <a:path w="62" h="70">
                <a:moveTo>
                  <a:pt x="62" y="70"/>
                </a:moveTo>
                <a:lnTo>
                  <a:pt x="31" y="58"/>
                </a:lnTo>
                <a:lnTo>
                  <a:pt x="0" y="70"/>
                </a:lnTo>
                <a:lnTo>
                  <a:pt x="31" y="0"/>
                </a:lnTo>
                <a:lnTo>
                  <a:pt x="62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994200" y="3914280"/>
            <a:ext cx="473040" cy="40500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35520" y="4272120"/>
            <a:ext cx="114120" cy="110880"/>
          </a:xfrm>
          <a:custGeom>
            <a:avLst/>
            <a:gdLst/>
            <a:ahLst/>
            <a:rect l="l" t="t" r="r" b="b"/>
            <a:pathLst>
              <a:path w="72" h="70">
                <a:moveTo>
                  <a:pt x="31" y="0"/>
                </a:moveTo>
                <a:lnTo>
                  <a:pt x="44" y="27"/>
                </a:lnTo>
                <a:lnTo>
                  <a:pt x="72" y="42"/>
                </a:lnTo>
                <a:lnTo>
                  <a:pt x="0" y="70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4979880" y="3914640"/>
            <a:ext cx="503280" cy="3952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29160" y="4257720"/>
            <a:ext cx="123840" cy="106200"/>
          </a:xfrm>
          <a:custGeom>
            <a:avLst/>
            <a:gdLst/>
            <a:ahLst/>
            <a:rect l="l" t="t" r="r" b="b"/>
            <a:pathLst>
              <a:path w="78" h="67">
                <a:moveTo>
                  <a:pt x="0" y="45"/>
                </a:moveTo>
                <a:lnTo>
                  <a:pt x="31" y="30"/>
                </a:lnTo>
                <a:lnTo>
                  <a:pt x="40" y="0"/>
                </a:lnTo>
                <a:lnTo>
                  <a:pt x="78" y="67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1360" y="1320840"/>
            <a:ext cx="208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8840" y="13208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Fij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33200" y="132084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t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03720" y="1538280"/>
            <a:ext cx="9666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04800" y="153360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08400" y="3305160"/>
            <a:ext cx="1055880" cy="681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73640" y="3475080"/>
            <a:ext cx="701640" cy="35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67240" y="3508200"/>
            <a:ext cx="66204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66520" y="3503520"/>
            <a:ext cx="470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3638520"/>
            <a:ext cx="3141720" cy="152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92080" y="3735360"/>
            <a:ext cx="3097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90280" y="3730680"/>
            <a:ext cx="87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Medición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6840" y="3730680"/>
            <a:ext cx="3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l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52440" y="3730680"/>
            <a:ext cx="105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sempeñ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2080" y="3981600"/>
            <a:ext cx="1605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1360" y="397656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57240" y="3981600"/>
            <a:ext cx="2638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0840" y="3976560"/>
            <a:ext cx="152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92080" y="4194000"/>
            <a:ext cx="160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1360" y="4194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57240" y="4194000"/>
            <a:ext cx="2997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62280" y="4194000"/>
            <a:ext cx="208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Activity Based Manag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2080" y="4411800"/>
            <a:ext cx="160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1360" y="44118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7240" y="4411800"/>
            <a:ext cx="2817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57240" y="4411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8360" y="44118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alidad de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3520" y="44118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2080" y="4629240"/>
            <a:ext cx="1605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91360" y="462924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57240" y="4629240"/>
            <a:ext cx="281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57240" y="462924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EVA/VB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2080" y="4842000"/>
            <a:ext cx="160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91360" y="4842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57240" y="4842000"/>
            <a:ext cx="2997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9760" y="48420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066680"/>
            <a:ext cx="30322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840" y="335268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Medi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60440" y="33447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&amp;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6880" y="3344760"/>
            <a:ext cx="102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dimensionar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9040" y="334476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desvia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697280" y="3049200"/>
            <a:ext cx="1800" cy="26028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1200" y="2967120"/>
            <a:ext cx="95400" cy="110880"/>
          </a:xfrm>
          <a:custGeom>
            <a:avLst/>
            <a:gdLst/>
            <a:ahLst/>
            <a:rect l="l" t="t" r="r" b="b"/>
            <a:pathLst>
              <a:path w="60" h="70">
                <a:moveTo>
                  <a:pt x="60" y="70"/>
                </a:moveTo>
                <a:lnTo>
                  <a:pt x="29" y="61"/>
                </a:lnTo>
                <a:lnTo>
                  <a:pt x="0" y="70"/>
                </a:lnTo>
                <a:lnTo>
                  <a:pt x="29" y="0"/>
                </a:lnTo>
                <a:lnTo>
                  <a:pt x="60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01920" y="1557360"/>
            <a:ext cx="2803680" cy="1414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7320" y="1576440"/>
            <a:ext cx="2852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94080" y="1576440"/>
            <a:ext cx="25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Clarificación&amp;comunica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97320" y="1822320"/>
            <a:ext cx="2489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50600" y="181764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de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2840" y="1817640"/>
            <a:ext cx="83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Visión y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05120" y="181764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Estrateg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97320" y="2070000"/>
            <a:ext cx="158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96600" y="207000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62480" y="2070000"/>
            <a:ext cx="2463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2120" y="2070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13240" y="2070000"/>
            <a:ext cx="83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alidad de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88760" y="207000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Servicios, ABC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97320" y="2286000"/>
            <a:ext cx="15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96600" y="228132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2480" y="2286000"/>
            <a:ext cx="24890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67520" y="2281320"/>
            <a:ext cx="198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alue Based Manag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7320" y="2498760"/>
            <a:ext cx="158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96600" y="249876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62480" y="2498760"/>
            <a:ext cx="264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62120" y="2498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2520" y="249876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25040" y="249876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Indicadore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69680" y="249876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laves 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7320" y="2716200"/>
            <a:ext cx="2528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00920" y="2716200"/>
            <a:ext cx="1573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32480" y="3976560"/>
            <a:ext cx="3143160" cy="81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7520" y="4035600"/>
            <a:ext cx="33022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25720" y="4035600"/>
            <a:ext cx="148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Mejoramiento &amp;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76240" y="4035600"/>
            <a:ext cx="103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990000"/>
                </a:solidFill>
                <a:latin typeface="Arial"/>
              </a:rPr>
              <a:t>Adaptació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281480"/>
            <a:ext cx="1587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26800" y="428148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92680" y="4281480"/>
            <a:ext cx="3281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92680" y="4281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3840" y="4281480"/>
            <a:ext cx="567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Misión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90000" y="42814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isión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59520" y="428148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medida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66200" y="428148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correctiv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27520" y="4498920"/>
            <a:ext cx="1587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26800" y="4498920"/>
            <a:ext cx="58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92680" y="4498920"/>
            <a:ext cx="24051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96280" y="4498920"/>
            <a:ext cx="191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Activity Based Budgetin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71440" y="1595520"/>
            <a:ext cx="1990800" cy="1690560"/>
            <a:chOff x="1171440" y="1595520"/>
            <a:chExt cx="1990800" cy="1690560"/>
          </a:xfrm>
        </p:grpSpPr>
        <p:sp>
          <p:nvSpPr>
            <p:cNvPr id="149" name=""/>
            <p:cNvSpPr/>
            <p:nvPr/>
          </p:nvSpPr>
          <p:spPr>
            <a:xfrm>
              <a:off x="1171440" y="1595520"/>
              <a:ext cx="1990800" cy="1690560"/>
            </a:xfrm>
            <a:custGeom>
              <a:avLst/>
              <a:gdLst/>
              <a:ahLst/>
              <a:rect l="l" t="t" r="r" b="b"/>
              <a:pathLst>
                <a:path w="1254" h="1065">
                  <a:moveTo>
                    <a:pt x="1254" y="597"/>
                  </a:moveTo>
                  <a:lnTo>
                    <a:pt x="1207" y="518"/>
                  </a:lnTo>
                  <a:lnTo>
                    <a:pt x="1160" y="445"/>
                  </a:lnTo>
                  <a:lnTo>
                    <a:pt x="1110" y="375"/>
                  </a:lnTo>
                  <a:lnTo>
                    <a:pt x="1057" y="311"/>
                  </a:lnTo>
                  <a:lnTo>
                    <a:pt x="1004" y="250"/>
                  </a:lnTo>
                  <a:lnTo>
                    <a:pt x="950" y="198"/>
                  </a:lnTo>
                  <a:lnTo>
                    <a:pt x="894" y="149"/>
                  </a:lnTo>
                  <a:lnTo>
                    <a:pt x="837" y="107"/>
                  </a:lnTo>
                  <a:lnTo>
                    <a:pt x="781" y="73"/>
                  </a:lnTo>
                  <a:lnTo>
                    <a:pt x="728" y="43"/>
                  </a:lnTo>
                  <a:lnTo>
                    <a:pt x="674" y="22"/>
                  </a:lnTo>
                  <a:lnTo>
                    <a:pt x="621" y="6"/>
                  </a:lnTo>
                  <a:lnTo>
                    <a:pt x="571" y="0"/>
                  </a:lnTo>
                  <a:lnTo>
                    <a:pt x="521" y="0"/>
                  </a:lnTo>
                  <a:lnTo>
                    <a:pt x="477" y="6"/>
                  </a:lnTo>
                  <a:lnTo>
                    <a:pt x="433" y="25"/>
                  </a:lnTo>
                  <a:lnTo>
                    <a:pt x="204" y="140"/>
                  </a:lnTo>
                  <a:lnTo>
                    <a:pt x="176" y="159"/>
                  </a:lnTo>
                  <a:lnTo>
                    <a:pt x="147" y="183"/>
                  </a:lnTo>
                  <a:lnTo>
                    <a:pt x="125" y="210"/>
                  </a:lnTo>
                  <a:lnTo>
                    <a:pt x="103" y="241"/>
                  </a:lnTo>
                  <a:lnTo>
                    <a:pt x="88" y="277"/>
                  </a:lnTo>
                  <a:lnTo>
                    <a:pt x="72" y="317"/>
                  </a:lnTo>
                  <a:lnTo>
                    <a:pt x="63" y="356"/>
                  </a:lnTo>
                  <a:lnTo>
                    <a:pt x="53" y="402"/>
                  </a:lnTo>
                  <a:lnTo>
                    <a:pt x="50" y="451"/>
                  </a:lnTo>
                  <a:lnTo>
                    <a:pt x="47" y="502"/>
                  </a:lnTo>
                  <a:lnTo>
                    <a:pt x="50" y="554"/>
                  </a:lnTo>
                  <a:lnTo>
                    <a:pt x="56" y="612"/>
                  </a:lnTo>
                  <a:lnTo>
                    <a:pt x="66" y="670"/>
                  </a:lnTo>
                  <a:lnTo>
                    <a:pt x="78" y="727"/>
                  </a:lnTo>
                  <a:lnTo>
                    <a:pt x="94" y="788"/>
                  </a:lnTo>
                  <a:lnTo>
                    <a:pt x="113" y="852"/>
                  </a:lnTo>
                  <a:lnTo>
                    <a:pt x="0" y="910"/>
                  </a:lnTo>
                  <a:lnTo>
                    <a:pt x="345" y="1065"/>
                  </a:lnTo>
                  <a:lnTo>
                    <a:pt x="455" y="676"/>
                  </a:lnTo>
                  <a:lnTo>
                    <a:pt x="342" y="737"/>
                  </a:lnTo>
                  <a:lnTo>
                    <a:pt x="314" y="642"/>
                  </a:lnTo>
                  <a:lnTo>
                    <a:pt x="292" y="548"/>
                  </a:lnTo>
                  <a:lnTo>
                    <a:pt x="279" y="463"/>
                  </a:lnTo>
                  <a:lnTo>
                    <a:pt x="276" y="381"/>
                  </a:lnTo>
                  <a:lnTo>
                    <a:pt x="279" y="305"/>
                  </a:lnTo>
                  <a:lnTo>
                    <a:pt x="288" y="235"/>
                  </a:lnTo>
                  <a:lnTo>
                    <a:pt x="310" y="171"/>
                  </a:lnTo>
                  <a:lnTo>
                    <a:pt x="335" y="116"/>
                  </a:lnTo>
                  <a:lnTo>
                    <a:pt x="335" y="116"/>
                  </a:lnTo>
                  <a:lnTo>
                    <a:pt x="379" y="122"/>
                  </a:lnTo>
                  <a:lnTo>
                    <a:pt x="420" y="131"/>
                  </a:lnTo>
                  <a:lnTo>
                    <a:pt x="467" y="146"/>
                  </a:lnTo>
                  <a:lnTo>
                    <a:pt x="511" y="165"/>
                  </a:lnTo>
                  <a:lnTo>
                    <a:pt x="558" y="192"/>
                  </a:lnTo>
                  <a:lnTo>
                    <a:pt x="602" y="219"/>
                  </a:lnTo>
                  <a:lnTo>
                    <a:pt x="649" y="253"/>
                  </a:lnTo>
                  <a:lnTo>
                    <a:pt x="696" y="289"/>
                  </a:lnTo>
                  <a:lnTo>
                    <a:pt x="740" y="332"/>
                  </a:lnTo>
                  <a:lnTo>
                    <a:pt x="784" y="375"/>
                  </a:lnTo>
                  <a:lnTo>
                    <a:pt x="828" y="423"/>
                  </a:lnTo>
                  <a:lnTo>
                    <a:pt x="872" y="475"/>
                  </a:lnTo>
                  <a:lnTo>
                    <a:pt x="913" y="530"/>
                  </a:lnTo>
                  <a:lnTo>
                    <a:pt x="953" y="588"/>
                  </a:lnTo>
                  <a:lnTo>
                    <a:pt x="1029" y="712"/>
                  </a:lnTo>
                  <a:lnTo>
                    <a:pt x="1254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03160" y="1595520"/>
              <a:ext cx="1459080" cy="1130040"/>
            </a:xfrm>
            <a:custGeom>
              <a:avLst/>
              <a:gdLst/>
              <a:ahLst/>
              <a:rect l="l" t="t" r="r" b="b"/>
              <a:pathLst>
                <a:path w="919" h="712">
                  <a:moveTo>
                    <a:pt x="919" y="597"/>
                  </a:moveTo>
                  <a:lnTo>
                    <a:pt x="872" y="518"/>
                  </a:lnTo>
                  <a:lnTo>
                    <a:pt x="825" y="445"/>
                  </a:lnTo>
                  <a:lnTo>
                    <a:pt x="775" y="375"/>
                  </a:lnTo>
                  <a:lnTo>
                    <a:pt x="722" y="311"/>
                  </a:lnTo>
                  <a:lnTo>
                    <a:pt x="669" y="250"/>
                  </a:lnTo>
                  <a:lnTo>
                    <a:pt x="615" y="198"/>
                  </a:lnTo>
                  <a:lnTo>
                    <a:pt x="559" y="149"/>
                  </a:lnTo>
                  <a:lnTo>
                    <a:pt x="502" y="107"/>
                  </a:lnTo>
                  <a:lnTo>
                    <a:pt x="446" y="73"/>
                  </a:lnTo>
                  <a:lnTo>
                    <a:pt x="393" y="43"/>
                  </a:lnTo>
                  <a:lnTo>
                    <a:pt x="339" y="22"/>
                  </a:lnTo>
                  <a:lnTo>
                    <a:pt x="286" y="6"/>
                  </a:lnTo>
                  <a:lnTo>
                    <a:pt x="236" y="0"/>
                  </a:lnTo>
                  <a:lnTo>
                    <a:pt x="186" y="0"/>
                  </a:lnTo>
                  <a:lnTo>
                    <a:pt x="142" y="6"/>
                  </a:lnTo>
                  <a:lnTo>
                    <a:pt x="98" y="25"/>
                  </a:lnTo>
                  <a:lnTo>
                    <a:pt x="69" y="40"/>
                  </a:lnTo>
                  <a:lnTo>
                    <a:pt x="44" y="61"/>
                  </a:lnTo>
                  <a:lnTo>
                    <a:pt x="22" y="89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44" y="122"/>
                  </a:lnTo>
                  <a:lnTo>
                    <a:pt x="85" y="131"/>
                  </a:lnTo>
                  <a:lnTo>
                    <a:pt x="132" y="146"/>
                  </a:lnTo>
                  <a:lnTo>
                    <a:pt x="176" y="165"/>
                  </a:lnTo>
                  <a:lnTo>
                    <a:pt x="223" y="192"/>
                  </a:lnTo>
                  <a:lnTo>
                    <a:pt x="267" y="219"/>
                  </a:lnTo>
                  <a:lnTo>
                    <a:pt x="314" y="253"/>
                  </a:lnTo>
                  <a:lnTo>
                    <a:pt x="361" y="289"/>
                  </a:lnTo>
                  <a:lnTo>
                    <a:pt x="405" y="332"/>
                  </a:lnTo>
                  <a:lnTo>
                    <a:pt x="449" y="375"/>
                  </a:lnTo>
                  <a:lnTo>
                    <a:pt x="493" y="423"/>
                  </a:lnTo>
                  <a:lnTo>
                    <a:pt x="537" y="475"/>
                  </a:lnTo>
                  <a:lnTo>
                    <a:pt x="578" y="530"/>
                  </a:lnTo>
                  <a:lnTo>
                    <a:pt x="618" y="588"/>
                  </a:lnTo>
                  <a:lnTo>
                    <a:pt x="694" y="712"/>
                  </a:lnTo>
                  <a:lnTo>
                    <a:pt x="919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71440" y="1595520"/>
              <a:ext cx="1990800" cy="1690560"/>
            </a:xfrm>
            <a:custGeom>
              <a:avLst/>
              <a:gdLst/>
              <a:ahLst/>
              <a:rect l="l" t="t" r="r" b="b"/>
              <a:pathLst>
                <a:path w="1254" h="1065">
                  <a:moveTo>
                    <a:pt x="1254" y="597"/>
                  </a:moveTo>
                  <a:lnTo>
                    <a:pt x="1207" y="518"/>
                  </a:lnTo>
                  <a:lnTo>
                    <a:pt x="1160" y="445"/>
                  </a:lnTo>
                  <a:lnTo>
                    <a:pt x="1110" y="375"/>
                  </a:lnTo>
                  <a:lnTo>
                    <a:pt x="1057" y="311"/>
                  </a:lnTo>
                  <a:lnTo>
                    <a:pt x="1004" y="250"/>
                  </a:lnTo>
                  <a:lnTo>
                    <a:pt x="950" y="198"/>
                  </a:lnTo>
                  <a:lnTo>
                    <a:pt x="894" y="149"/>
                  </a:lnTo>
                  <a:lnTo>
                    <a:pt x="837" y="107"/>
                  </a:lnTo>
                  <a:lnTo>
                    <a:pt x="781" y="73"/>
                  </a:lnTo>
                  <a:lnTo>
                    <a:pt x="728" y="43"/>
                  </a:lnTo>
                  <a:lnTo>
                    <a:pt x="674" y="22"/>
                  </a:lnTo>
                  <a:lnTo>
                    <a:pt x="621" y="6"/>
                  </a:lnTo>
                  <a:lnTo>
                    <a:pt x="571" y="0"/>
                  </a:lnTo>
                  <a:lnTo>
                    <a:pt x="521" y="0"/>
                  </a:lnTo>
                  <a:lnTo>
                    <a:pt x="477" y="6"/>
                  </a:lnTo>
                  <a:lnTo>
                    <a:pt x="433" y="25"/>
                  </a:lnTo>
                  <a:lnTo>
                    <a:pt x="204" y="140"/>
                  </a:lnTo>
                  <a:lnTo>
                    <a:pt x="176" y="159"/>
                  </a:lnTo>
                  <a:lnTo>
                    <a:pt x="147" y="183"/>
                  </a:lnTo>
                  <a:lnTo>
                    <a:pt x="125" y="210"/>
                  </a:lnTo>
                  <a:lnTo>
                    <a:pt x="103" y="241"/>
                  </a:lnTo>
                  <a:lnTo>
                    <a:pt x="88" y="277"/>
                  </a:lnTo>
                  <a:lnTo>
                    <a:pt x="72" y="317"/>
                  </a:lnTo>
                  <a:lnTo>
                    <a:pt x="63" y="356"/>
                  </a:lnTo>
                  <a:lnTo>
                    <a:pt x="53" y="402"/>
                  </a:lnTo>
                  <a:lnTo>
                    <a:pt x="50" y="451"/>
                  </a:lnTo>
                  <a:lnTo>
                    <a:pt x="47" y="502"/>
                  </a:lnTo>
                  <a:lnTo>
                    <a:pt x="50" y="554"/>
                  </a:lnTo>
                  <a:lnTo>
                    <a:pt x="56" y="612"/>
                  </a:lnTo>
                  <a:lnTo>
                    <a:pt x="66" y="670"/>
                  </a:lnTo>
                  <a:lnTo>
                    <a:pt x="78" y="727"/>
                  </a:lnTo>
                  <a:lnTo>
                    <a:pt x="94" y="788"/>
                  </a:lnTo>
                  <a:lnTo>
                    <a:pt x="113" y="852"/>
                  </a:lnTo>
                  <a:lnTo>
                    <a:pt x="0" y="910"/>
                  </a:lnTo>
                  <a:lnTo>
                    <a:pt x="345" y="1065"/>
                  </a:lnTo>
                  <a:lnTo>
                    <a:pt x="455" y="676"/>
                  </a:lnTo>
                  <a:lnTo>
                    <a:pt x="342" y="737"/>
                  </a:lnTo>
                  <a:lnTo>
                    <a:pt x="314" y="642"/>
                  </a:lnTo>
                  <a:lnTo>
                    <a:pt x="292" y="548"/>
                  </a:lnTo>
                  <a:lnTo>
                    <a:pt x="279" y="463"/>
                  </a:lnTo>
                  <a:lnTo>
                    <a:pt x="276" y="381"/>
                  </a:lnTo>
                  <a:lnTo>
                    <a:pt x="279" y="305"/>
                  </a:lnTo>
                  <a:lnTo>
                    <a:pt x="288" y="235"/>
                  </a:lnTo>
                  <a:lnTo>
                    <a:pt x="310" y="171"/>
                  </a:lnTo>
                  <a:lnTo>
                    <a:pt x="335" y="116"/>
                  </a:lnTo>
                  <a:lnTo>
                    <a:pt x="335" y="116"/>
                  </a:lnTo>
                  <a:lnTo>
                    <a:pt x="379" y="122"/>
                  </a:lnTo>
                  <a:lnTo>
                    <a:pt x="420" y="131"/>
                  </a:lnTo>
                  <a:lnTo>
                    <a:pt x="467" y="146"/>
                  </a:lnTo>
                  <a:lnTo>
                    <a:pt x="511" y="165"/>
                  </a:lnTo>
                  <a:lnTo>
                    <a:pt x="558" y="192"/>
                  </a:lnTo>
                  <a:lnTo>
                    <a:pt x="602" y="219"/>
                  </a:lnTo>
                  <a:lnTo>
                    <a:pt x="649" y="253"/>
                  </a:lnTo>
                  <a:lnTo>
                    <a:pt x="696" y="289"/>
                  </a:lnTo>
                  <a:lnTo>
                    <a:pt x="740" y="332"/>
                  </a:lnTo>
                  <a:lnTo>
                    <a:pt x="784" y="375"/>
                  </a:lnTo>
                  <a:lnTo>
                    <a:pt x="828" y="423"/>
                  </a:lnTo>
                  <a:lnTo>
                    <a:pt x="872" y="475"/>
                  </a:lnTo>
                  <a:lnTo>
                    <a:pt x="913" y="530"/>
                  </a:lnTo>
                  <a:lnTo>
                    <a:pt x="953" y="588"/>
                  </a:lnTo>
                  <a:lnTo>
                    <a:pt x="1029" y="712"/>
                  </a:lnTo>
                  <a:lnTo>
                    <a:pt x="1254" y="597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03160" y="1635120"/>
              <a:ext cx="155520" cy="144000"/>
            </a:xfrm>
            <a:custGeom>
              <a:avLst/>
              <a:gdLst/>
              <a:ahLst/>
              <a:rect l="l" t="t" r="r" b="b"/>
              <a:pathLst>
                <a:path w="98" h="91">
                  <a:moveTo>
                    <a:pt x="98" y="0"/>
                  </a:moveTo>
                  <a:lnTo>
                    <a:pt x="69" y="15"/>
                  </a:lnTo>
                  <a:lnTo>
                    <a:pt x="44" y="36"/>
                  </a:lnTo>
                  <a:lnTo>
                    <a:pt x="22" y="64"/>
                  </a:lnTo>
                  <a:lnTo>
                    <a:pt x="0" y="91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138480" y="4924440"/>
            <a:ext cx="3863880" cy="1438200"/>
            <a:chOff x="3138480" y="4924440"/>
            <a:chExt cx="3863880" cy="1438200"/>
          </a:xfrm>
        </p:grpSpPr>
        <p:sp>
          <p:nvSpPr>
            <p:cNvPr id="154" name=""/>
            <p:cNvSpPr/>
            <p:nvPr/>
          </p:nvSpPr>
          <p:spPr>
            <a:xfrm>
              <a:off x="3138480" y="4924440"/>
              <a:ext cx="3863880" cy="1438200"/>
            </a:xfrm>
            <a:custGeom>
              <a:avLst/>
              <a:gdLst/>
              <a:ahLst/>
              <a:rect l="l" t="t" r="r" b="b"/>
              <a:pathLst>
                <a:path w="2434" h="906">
                  <a:moveTo>
                    <a:pt x="0" y="441"/>
                  </a:moveTo>
                  <a:lnTo>
                    <a:pt x="19" y="505"/>
                  </a:lnTo>
                  <a:lnTo>
                    <a:pt x="47" y="562"/>
                  </a:lnTo>
                  <a:lnTo>
                    <a:pt x="84" y="620"/>
                  </a:lnTo>
                  <a:lnTo>
                    <a:pt x="125" y="669"/>
                  </a:lnTo>
                  <a:lnTo>
                    <a:pt x="175" y="718"/>
                  </a:lnTo>
                  <a:lnTo>
                    <a:pt x="232" y="760"/>
                  </a:lnTo>
                  <a:lnTo>
                    <a:pt x="292" y="797"/>
                  </a:lnTo>
                  <a:lnTo>
                    <a:pt x="357" y="827"/>
                  </a:lnTo>
                  <a:lnTo>
                    <a:pt x="426" y="854"/>
                  </a:lnTo>
                  <a:lnTo>
                    <a:pt x="502" y="876"/>
                  </a:lnTo>
                  <a:lnTo>
                    <a:pt x="580" y="891"/>
                  </a:lnTo>
                  <a:lnTo>
                    <a:pt x="662" y="900"/>
                  </a:lnTo>
                  <a:lnTo>
                    <a:pt x="743" y="906"/>
                  </a:lnTo>
                  <a:lnTo>
                    <a:pt x="828" y="903"/>
                  </a:lnTo>
                  <a:lnTo>
                    <a:pt x="916" y="891"/>
                  </a:lnTo>
                  <a:lnTo>
                    <a:pt x="1004" y="876"/>
                  </a:lnTo>
                  <a:lnTo>
                    <a:pt x="1490" y="766"/>
                  </a:lnTo>
                  <a:lnTo>
                    <a:pt x="1556" y="748"/>
                  </a:lnTo>
                  <a:lnTo>
                    <a:pt x="1621" y="730"/>
                  </a:lnTo>
                  <a:lnTo>
                    <a:pt x="1684" y="705"/>
                  </a:lnTo>
                  <a:lnTo>
                    <a:pt x="1744" y="678"/>
                  </a:lnTo>
                  <a:lnTo>
                    <a:pt x="1854" y="614"/>
                  </a:lnTo>
                  <a:lnTo>
                    <a:pt x="1907" y="578"/>
                  </a:lnTo>
                  <a:lnTo>
                    <a:pt x="1954" y="538"/>
                  </a:lnTo>
                  <a:lnTo>
                    <a:pt x="1998" y="499"/>
                  </a:lnTo>
                  <a:lnTo>
                    <a:pt x="2039" y="456"/>
                  </a:lnTo>
                  <a:lnTo>
                    <a:pt x="2076" y="410"/>
                  </a:lnTo>
                  <a:lnTo>
                    <a:pt x="2108" y="365"/>
                  </a:lnTo>
                  <a:lnTo>
                    <a:pt x="2136" y="316"/>
                  </a:lnTo>
                  <a:lnTo>
                    <a:pt x="2161" y="267"/>
                  </a:lnTo>
                  <a:lnTo>
                    <a:pt x="2180" y="216"/>
                  </a:lnTo>
                  <a:lnTo>
                    <a:pt x="2192" y="164"/>
                  </a:lnTo>
                  <a:lnTo>
                    <a:pt x="2434" y="109"/>
                  </a:lnTo>
                  <a:lnTo>
                    <a:pt x="1944" y="0"/>
                  </a:lnTo>
                  <a:lnTo>
                    <a:pt x="1461" y="331"/>
                  </a:lnTo>
                  <a:lnTo>
                    <a:pt x="1703" y="273"/>
                  </a:lnTo>
                  <a:lnTo>
                    <a:pt x="1681" y="352"/>
                  </a:lnTo>
                  <a:lnTo>
                    <a:pt x="1646" y="429"/>
                  </a:lnTo>
                  <a:lnTo>
                    <a:pt x="1603" y="499"/>
                  </a:lnTo>
                  <a:lnTo>
                    <a:pt x="1546" y="568"/>
                  </a:lnTo>
                  <a:lnTo>
                    <a:pt x="1483" y="632"/>
                  </a:lnTo>
                  <a:lnTo>
                    <a:pt x="1411" y="693"/>
                  </a:lnTo>
                  <a:lnTo>
                    <a:pt x="1327" y="748"/>
                  </a:lnTo>
                  <a:lnTo>
                    <a:pt x="1239" y="794"/>
                  </a:lnTo>
                  <a:lnTo>
                    <a:pt x="1239" y="794"/>
                  </a:lnTo>
                  <a:lnTo>
                    <a:pt x="1170" y="791"/>
                  </a:lnTo>
                  <a:lnTo>
                    <a:pt x="1101" y="788"/>
                  </a:lnTo>
                  <a:lnTo>
                    <a:pt x="1035" y="775"/>
                  </a:lnTo>
                  <a:lnTo>
                    <a:pt x="972" y="763"/>
                  </a:lnTo>
                  <a:lnTo>
                    <a:pt x="909" y="745"/>
                  </a:lnTo>
                  <a:lnTo>
                    <a:pt x="853" y="721"/>
                  </a:lnTo>
                  <a:lnTo>
                    <a:pt x="796" y="696"/>
                  </a:lnTo>
                  <a:lnTo>
                    <a:pt x="746" y="669"/>
                  </a:lnTo>
                  <a:lnTo>
                    <a:pt x="699" y="635"/>
                  </a:lnTo>
                  <a:lnTo>
                    <a:pt x="655" y="599"/>
                  </a:lnTo>
                  <a:lnTo>
                    <a:pt x="615" y="562"/>
                  </a:lnTo>
                  <a:lnTo>
                    <a:pt x="580" y="520"/>
                  </a:lnTo>
                  <a:lnTo>
                    <a:pt x="549" y="477"/>
                  </a:lnTo>
                  <a:lnTo>
                    <a:pt x="524" y="432"/>
                  </a:lnTo>
                  <a:lnTo>
                    <a:pt x="502" y="383"/>
                  </a:lnTo>
                  <a:lnTo>
                    <a:pt x="486" y="331"/>
                  </a:lnTo>
                  <a:lnTo>
                    <a:pt x="0" y="441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38480" y="5449680"/>
              <a:ext cx="2365200" cy="912960"/>
            </a:xfrm>
            <a:custGeom>
              <a:avLst/>
              <a:gdLst/>
              <a:ahLst/>
              <a:rect l="l" t="t" r="r" b="b"/>
              <a:pathLst>
                <a:path w="1490" h="575">
                  <a:moveTo>
                    <a:pt x="0" y="110"/>
                  </a:moveTo>
                  <a:lnTo>
                    <a:pt x="19" y="174"/>
                  </a:lnTo>
                  <a:lnTo>
                    <a:pt x="47" y="231"/>
                  </a:lnTo>
                  <a:lnTo>
                    <a:pt x="84" y="289"/>
                  </a:lnTo>
                  <a:lnTo>
                    <a:pt x="125" y="338"/>
                  </a:lnTo>
                  <a:lnTo>
                    <a:pt x="175" y="387"/>
                  </a:lnTo>
                  <a:lnTo>
                    <a:pt x="232" y="429"/>
                  </a:lnTo>
                  <a:lnTo>
                    <a:pt x="292" y="466"/>
                  </a:lnTo>
                  <a:lnTo>
                    <a:pt x="357" y="496"/>
                  </a:lnTo>
                  <a:lnTo>
                    <a:pt x="426" y="523"/>
                  </a:lnTo>
                  <a:lnTo>
                    <a:pt x="502" y="545"/>
                  </a:lnTo>
                  <a:lnTo>
                    <a:pt x="580" y="560"/>
                  </a:lnTo>
                  <a:lnTo>
                    <a:pt x="662" y="569"/>
                  </a:lnTo>
                  <a:lnTo>
                    <a:pt x="743" y="575"/>
                  </a:lnTo>
                  <a:lnTo>
                    <a:pt x="828" y="572"/>
                  </a:lnTo>
                  <a:lnTo>
                    <a:pt x="916" y="560"/>
                  </a:lnTo>
                  <a:lnTo>
                    <a:pt x="1004" y="545"/>
                  </a:lnTo>
                  <a:lnTo>
                    <a:pt x="1490" y="435"/>
                  </a:lnTo>
                  <a:lnTo>
                    <a:pt x="1402" y="450"/>
                  </a:lnTo>
                  <a:lnTo>
                    <a:pt x="1314" y="463"/>
                  </a:lnTo>
                  <a:lnTo>
                    <a:pt x="1229" y="466"/>
                  </a:lnTo>
                  <a:lnTo>
                    <a:pt x="1148" y="460"/>
                  </a:lnTo>
                  <a:lnTo>
                    <a:pt x="1066" y="450"/>
                  </a:lnTo>
                  <a:lnTo>
                    <a:pt x="988" y="435"/>
                  </a:lnTo>
                  <a:lnTo>
                    <a:pt x="913" y="414"/>
                  </a:lnTo>
                  <a:lnTo>
                    <a:pt x="844" y="387"/>
                  </a:lnTo>
                  <a:lnTo>
                    <a:pt x="778" y="356"/>
                  </a:lnTo>
                  <a:lnTo>
                    <a:pt x="718" y="320"/>
                  </a:lnTo>
                  <a:lnTo>
                    <a:pt x="662" y="277"/>
                  </a:lnTo>
                  <a:lnTo>
                    <a:pt x="611" y="228"/>
                  </a:lnTo>
                  <a:lnTo>
                    <a:pt x="571" y="180"/>
                  </a:lnTo>
                  <a:lnTo>
                    <a:pt x="533" y="122"/>
                  </a:lnTo>
                  <a:lnTo>
                    <a:pt x="505" y="64"/>
                  </a:lnTo>
                  <a:lnTo>
                    <a:pt x="486" y="0"/>
                  </a:lnTo>
                  <a:lnTo>
                    <a:pt x="0" y="110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38480" y="4924440"/>
              <a:ext cx="3863880" cy="1438200"/>
            </a:xfrm>
            <a:custGeom>
              <a:avLst/>
              <a:gdLst/>
              <a:ahLst/>
              <a:rect l="l" t="t" r="r" b="b"/>
              <a:pathLst>
                <a:path w="2434" h="906">
                  <a:moveTo>
                    <a:pt x="0" y="441"/>
                  </a:moveTo>
                  <a:lnTo>
                    <a:pt x="19" y="505"/>
                  </a:lnTo>
                  <a:lnTo>
                    <a:pt x="47" y="562"/>
                  </a:lnTo>
                  <a:lnTo>
                    <a:pt x="84" y="620"/>
                  </a:lnTo>
                  <a:lnTo>
                    <a:pt x="125" y="669"/>
                  </a:lnTo>
                  <a:lnTo>
                    <a:pt x="175" y="718"/>
                  </a:lnTo>
                  <a:lnTo>
                    <a:pt x="232" y="760"/>
                  </a:lnTo>
                  <a:lnTo>
                    <a:pt x="292" y="797"/>
                  </a:lnTo>
                  <a:lnTo>
                    <a:pt x="357" y="827"/>
                  </a:lnTo>
                  <a:lnTo>
                    <a:pt x="426" y="854"/>
                  </a:lnTo>
                  <a:lnTo>
                    <a:pt x="502" y="876"/>
                  </a:lnTo>
                  <a:lnTo>
                    <a:pt x="580" y="891"/>
                  </a:lnTo>
                  <a:lnTo>
                    <a:pt x="662" y="900"/>
                  </a:lnTo>
                  <a:lnTo>
                    <a:pt x="743" y="906"/>
                  </a:lnTo>
                  <a:lnTo>
                    <a:pt x="828" y="903"/>
                  </a:lnTo>
                  <a:lnTo>
                    <a:pt x="916" y="891"/>
                  </a:lnTo>
                  <a:lnTo>
                    <a:pt x="1004" y="876"/>
                  </a:lnTo>
                  <a:lnTo>
                    <a:pt x="1490" y="766"/>
                  </a:lnTo>
                  <a:lnTo>
                    <a:pt x="1556" y="748"/>
                  </a:lnTo>
                  <a:lnTo>
                    <a:pt x="1621" y="730"/>
                  </a:lnTo>
                  <a:lnTo>
                    <a:pt x="1684" y="705"/>
                  </a:lnTo>
                  <a:lnTo>
                    <a:pt x="1744" y="678"/>
                  </a:lnTo>
                  <a:lnTo>
                    <a:pt x="1854" y="614"/>
                  </a:lnTo>
                  <a:lnTo>
                    <a:pt x="1907" y="578"/>
                  </a:lnTo>
                  <a:lnTo>
                    <a:pt x="1954" y="538"/>
                  </a:lnTo>
                  <a:lnTo>
                    <a:pt x="1998" y="499"/>
                  </a:lnTo>
                  <a:lnTo>
                    <a:pt x="2039" y="456"/>
                  </a:lnTo>
                  <a:lnTo>
                    <a:pt x="2076" y="410"/>
                  </a:lnTo>
                  <a:lnTo>
                    <a:pt x="2108" y="365"/>
                  </a:lnTo>
                  <a:lnTo>
                    <a:pt x="2136" y="316"/>
                  </a:lnTo>
                  <a:lnTo>
                    <a:pt x="2161" y="267"/>
                  </a:lnTo>
                  <a:lnTo>
                    <a:pt x="2180" y="216"/>
                  </a:lnTo>
                  <a:lnTo>
                    <a:pt x="2192" y="164"/>
                  </a:lnTo>
                  <a:lnTo>
                    <a:pt x="2434" y="109"/>
                  </a:lnTo>
                  <a:lnTo>
                    <a:pt x="1944" y="0"/>
                  </a:lnTo>
                  <a:lnTo>
                    <a:pt x="1461" y="331"/>
                  </a:lnTo>
                  <a:lnTo>
                    <a:pt x="1703" y="273"/>
                  </a:lnTo>
                  <a:lnTo>
                    <a:pt x="1681" y="352"/>
                  </a:lnTo>
                  <a:lnTo>
                    <a:pt x="1646" y="429"/>
                  </a:lnTo>
                  <a:lnTo>
                    <a:pt x="1603" y="499"/>
                  </a:lnTo>
                  <a:lnTo>
                    <a:pt x="1546" y="568"/>
                  </a:lnTo>
                  <a:lnTo>
                    <a:pt x="1483" y="632"/>
                  </a:lnTo>
                  <a:lnTo>
                    <a:pt x="1411" y="693"/>
                  </a:lnTo>
                  <a:lnTo>
                    <a:pt x="1327" y="748"/>
                  </a:lnTo>
                  <a:lnTo>
                    <a:pt x="1239" y="794"/>
                  </a:lnTo>
                  <a:lnTo>
                    <a:pt x="1239" y="794"/>
                  </a:lnTo>
                  <a:lnTo>
                    <a:pt x="1170" y="791"/>
                  </a:lnTo>
                  <a:lnTo>
                    <a:pt x="1101" y="788"/>
                  </a:lnTo>
                  <a:lnTo>
                    <a:pt x="1035" y="775"/>
                  </a:lnTo>
                  <a:lnTo>
                    <a:pt x="972" y="763"/>
                  </a:lnTo>
                  <a:lnTo>
                    <a:pt x="909" y="745"/>
                  </a:lnTo>
                  <a:lnTo>
                    <a:pt x="853" y="721"/>
                  </a:lnTo>
                  <a:lnTo>
                    <a:pt x="796" y="696"/>
                  </a:lnTo>
                  <a:lnTo>
                    <a:pt x="746" y="669"/>
                  </a:lnTo>
                  <a:lnTo>
                    <a:pt x="699" y="635"/>
                  </a:lnTo>
                  <a:lnTo>
                    <a:pt x="655" y="599"/>
                  </a:lnTo>
                  <a:lnTo>
                    <a:pt x="615" y="562"/>
                  </a:lnTo>
                  <a:lnTo>
                    <a:pt x="580" y="520"/>
                  </a:lnTo>
                  <a:lnTo>
                    <a:pt x="549" y="477"/>
                  </a:lnTo>
                  <a:lnTo>
                    <a:pt x="524" y="432"/>
                  </a:lnTo>
                  <a:lnTo>
                    <a:pt x="502" y="383"/>
                  </a:lnTo>
                  <a:lnTo>
                    <a:pt x="486" y="331"/>
                  </a:lnTo>
                  <a:lnTo>
                    <a:pt x="0" y="441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5160" y="6140160"/>
              <a:ext cx="398520" cy="44640"/>
            </a:xfrm>
            <a:custGeom>
              <a:avLst/>
              <a:gdLst/>
              <a:ahLst/>
              <a:rect l="l" t="t" r="r" b="b"/>
              <a:pathLst>
                <a:path w="251" h="28">
                  <a:moveTo>
                    <a:pt x="251" y="0"/>
                  </a:moveTo>
                  <a:lnTo>
                    <a:pt x="188" y="12"/>
                  </a:lnTo>
                  <a:lnTo>
                    <a:pt x="125" y="22"/>
                  </a:lnTo>
                  <a:lnTo>
                    <a:pt x="62" y="25"/>
                  </a:lnTo>
                  <a:lnTo>
                    <a:pt x="0" y="28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364440" y="1706400"/>
            <a:ext cx="1782720" cy="1865520"/>
            <a:chOff x="6364440" y="1706400"/>
            <a:chExt cx="1782720" cy="1865520"/>
          </a:xfrm>
        </p:grpSpPr>
        <p:sp>
          <p:nvSpPr>
            <p:cNvPr id="159" name=""/>
            <p:cNvSpPr/>
            <p:nvPr/>
          </p:nvSpPr>
          <p:spPr>
            <a:xfrm>
              <a:off x="6364440" y="1706400"/>
              <a:ext cx="1782720" cy="1865520"/>
            </a:xfrm>
            <a:custGeom>
              <a:avLst/>
              <a:gdLst/>
              <a:ahLst/>
              <a:rect l="l" t="t" r="r" b="b"/>
              <a:pathLst>
                <a:path w="1123" h="1175">
                  <a:moveTo>
                    <a:pt x="759" y="1175"/>
                  </a:moveTo>
                  <a:lnTo>
                    <a:pt x="819" y="1108"/>
                  </a:lnTo>
                  <a:lnTo>
                    <a:pt x="875" y="1038"/>
                  </a:lnTo>
                  <a:lnTo>
                    <a:pt x="926" y="971"/>
                  </a:lnTo>
                  <a:lnTo>
                    <a:pt x="973" y="901"/>
                  </a:lnTo>
                  <a:lnTo>
                    <a:pt x="1010" y="831"/>
                  </a:lnTo>
                  <a:lnTo>
                    <a:pt x="1045" y="764"/>
                  </a:lnTo>
                  <a:lnTo>
                    <a:pt x="1073" y="697"/>
                  </a:lnTo>
                  <a:lnTo>
                    <a:pt x="1095" y="630"/>
                  </a:lnTo>
                  <a:lnTo>
                    <a:pt x="1111" y="569"/>
                  </a:lnTo>
                  <a:lnTo>
                    <a:pt x="1120" y="508"/>
                  </a:lnTo>
                  <a:lnTo>
                    <a:pt x="1123" y="451"/>
                  </a:lnTo>
                  <a:lnTo>
                    <a:pt x="1120" y="399"/>
                  </a:lnTo>
                  <a:lnTo>
                    <a:pt x="1111" y="350"/>
                  </a:lnTo>
                  <a:lnTo>
                    <a:pt x="1095" y="305"/>
                  </a:lnTo>
                  <a:lnTo>
                    <a:pt x="1070" y="265"/>
                  </a:lnTo>
                  <a:lnTo>
                    <a:pt x="1038" y="232"/>
                  </a:lnTo>
                  <a:lnTo>
                    <a:pt x="850" y="64"/>
                  </a:lnTo>
                  <a:lnTo>
                    <a:pt x="822" y="43"/>
                  </a:lnTo>
                  <a:lnTo>
                    <a:pt x="791" y="25"/>
                  </a:lnTo>
                  <a:lnTo>
                    <a:pt x="756" y="12"/>
                  </a:lnTo>
                  <a:lnTo>
                    <a:pt x="719" y="6"/>
                  </a:lnTo>
                  <a:lnTo>
                    <a:pt x="678" y="0"/>
                  </a:lnTo>
                  <a:lnTo>
                    <a:pt x="637" y="0"/>
                  </a:lnTo>
                  <a:lnTo>
                    <a:pt x="593" y="3"/>
                  </a:lnTo>
                  <a:lnTo>
                    <a:pt x="546" y="12"/>
                  </a:lnTo>
                  <a:lnTo>
                    <a:pt x="496" y="25"/>
                  </a:lnTo>
                  <a:lnTo>
                    <a:pt x="446" y="40"/>
                  </a:lnTo>
                  <a:lnTo>
                    <a:pt x="395" y="61"/>
                  </a:lnTo>
                  <a:lnTo>
                    <a:pt x="342" y="86"/>
                  </a:lnTo>
                  <a:lnTo>
                    <a:pt x="292" y="113"/>
                  </a:lnTo>
                  <a:lnTo>
                    <a:pt x="236" y="143"/>
                  </a:lnTo>
                  <a:lnTo>
                    <a:pt x="182" y="180"/>
                  </a:lnTo>
                  <a:lnTo>
                    <a:pt x="129" y="219"/>
                  </a:lnTo>
                  <a:lnTo>
                    <a:pt x="32" y="134"/>
                  </a:lnTo>
                  <a:lnTo>
                    <a:pt x="0" y="502"/>
                  </a:lnTo>
                  <a:lnTo>
                    <a:pt x="414" y="472"/>
                  </a:lnTo>
                  <a:lnTo>
                    <a:pt x="317" y="387"/>
                  </a:lnTo>
                  <a:lnTo>
                    <a:pt x="399" y="329"/>
                  </a:lnTo>
                  <a:lnTo>
                    <a:pt x="480" y="280"/>
                  </a:lnTo>
                  <a:lnTo>
                    <a:pt x="562" y="241"/>
                  </a:lnTo>
                  <a:lnTo>
                    <a:pt x="640" y="207"/>
                  </a:lnTo>
                  <a:lnTo>
                    <a:pt x="715" y="186"/>
                  </a:lnTo>
                  <a:lnTo>
                    <a:pt x="788" y="174"/>
                  </a:lnTo>
                  <a:lnTo>
                    <a:pt x="857" y="171"/>
                  </a:lnTo>
                  <a:lnTo>
                    <a:pt x="919" y="177"/>
                  </a:lnTo>
                  <a:lnTo>
                    <a:pt x="919" y="177"/>
                  </a:lnTo>
                  <a:lnTo>
                    <a:pt x="929" y="216"/>
                  </a:lnTo>
                  <a:lnTo>
                    <a:pt x="935" y="259"/>
                  </a:lnTo>
                  <a:lnTo>
                    <a:pt x="935" y="305"/>
                  </a:lnTo>
                  <a:lnTo>
                    <a:pt x="929" y="353"/>
                  </a:lnTo>
                  <a:lnTo>
                    <a:pt x="919" y="405"/>
                  </a:lnTo>
                  <a:lnTo>
                    <a:pt x="907" y="457"/>
                  </a:lnTo>
                  <a:lnTo>
                    <a:pt x="891" y="508"/>
                  </a:lnTo>
                  <a:lnTo>
                    <a:pt x="869" y="563"/>
                  </a:lnTo>
                  <a:lnTo>
                    <a:pt x="844" y="618"/>
                  </a:lnTo>
                  <a:lnTo>
                    <a:pt x="816" y="673"/>
                  </a:lnTo>
                  <a:lnTo>
                    <a:pt x="784" y="730"/>
                  </a:lnTo>
                  <a:lnTo>
                    <a:pt x="747" y="785"/>
                  </a:lnTo>
                  <a:lnTo>
                    <a:pt x="709" y="843"/>
                  </a:lnTo>
                  <a:lnTo>
                    <a:pt x="665" y="898"/>
                  </a:lnTo>
                  <a:lnTo>
                    <a:pt x="621" y="953"/>
                  </a:lnTo>
                  <a:lnTo>
                    <a:pt x="571" y="1007"/>
                  </a:lnTo>
                  <a:lnTo>
                    <a:pt x="759" y="1175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70920" y="1987560"/>
              <a:ext cx="876240" cy="1584360"/>
            </a:xfrm>
            <a:custGeom>
              <a:avLst/>
              <a:gdLst/>
              <a:ahLst/>
              <a:rect l="l" t="t" r="r" b="b"/>
              <a:pathLst>
                <a:path w="552" h="998">
                  <a:moveTo>
                    <a:pt x="188" y="998"/>
                  </a:moveTo>
                  <a:lnTo>
                    <a:pt x="248" y="931"/>
                  </a:lnTo>
                  <a:lnTo>
                    <a:pt x="304" y="861"/>
                  </a:lnTo>
                  <a:lnTo>
                    <a:pt x="355" y="794"/>
                  </a:lnTo>
                  <a:lnTo>
                    <a:pt x="402" y="724"/>
                  </a:lnTo>
                  <a:lnTo>
                    <a:pt x="439" y="654"/>
                  </a:lnTo>
                  <a:lnTo>
                    <a:pt x="474" y="587"/>
                  </a:lnTo>
                  <a:lnTo>
                    <a:pt x="502" y="520"/>
                  </a:lnTo>
                  <a:lnTo>
                    <a:pt x="524" y="453"/>
                  </a:lnTo>
                  <a:lnTo>
                    <a:pt x="540" y="392"/>
                  </a:lnTo>
                  <a:lnTo>
                    <a:pt x="549" y="331"/>
                  </a:lnTo>
                  <a:lnTo>
                    <a:pt x="552" y="274"/>
                  </a:lnTo>
                  <a:lnTo>
                    <a:pt x="549" y="222"/>
                  </a:lnTo>
                  <a:lnTo>
                    <a:pt x="540" y="173"/>
                  </a:lnTo>
                  <a:lnTo>
                    <a:pt x="524" y="128"/>
                  </a:lnTo>
                  <a:lnTo>
                    <a:pt x="499" y="88"/>
                  </a:lnTo>
                  <a:lnTo>
                    <a:pt x="467" y="55"/>
                  </a:lnTo>
                  <a:lnTo>
                    <a:pt x="442" y="36"/>
                  </a:lnTo>
                  <a:lnTo>
                    <a:pt x="414" y="21"/>
                  </a:lnTo>
                  <a:lnTo>
                    <a:pt x="383" y="9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58" y="39"/>
                  </a:lnTo>
                  <a:lnTo>
                    <a:pt x="364" y="82"/>
                  </a:lnTo>
                  <a:lnTo>
                    <a:pt x="364" y="128"/>
                  </a:lnTo>
                  <a:lnTo>
                    <a:pt x="358" y="176"/>
                  </a:lnTo>
                  <a:lnTo>
                    <a:pt x="348" y="228"/>
                  </a:lnTo>
                  <a:lnTo>
                    <a:pt x="336" y="280"/>
                  </a:lnTo>
                  <a:lnTo>
                    <a:pt x="320" y="331"/>
                  </a:lnTo>
                  <a:lnTo>
                    <a:pt x="298" y="386"/>
                  </a:lnTo>
                  <a:lnTo>
                    <a:pt x="273" y="441"/>
                  </a:lnTo>
                  <a:lnTo>
                    <a:pt x="245" y="496"/>
                  </a:lnTo>
                  <a:lnTo>
                    <a:pt x="213" y="553"/>
                  </a:lnTo>
                  <a:lnTo>
                    <a:pt x="176" y="608"/>
                  </a:lnTo>
                  <a:lnTo>
                    <a:pt x="138" y="666"/>
                  </a:lnTo>
                  <a:lnTo>
                    <a:pt x="94" y="721"/>
                  </a:lnTo>
                  <a:lnTo>
                    <a:pt x="50" y="776"/>
                  </a:lnTo>
                  <a:lnTo>
                    <a:pt x="0" y="830"/>
                  </a:lnTo>
                  <a:lnTo>
                    <a:pt x="188" y="998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64440" y="1706400"/>
              <a:ext cx="1782720" cy="1865520"/>
            </a:xfrm>
            <a:custGeom>
              <a:avLst/>
              <a:gdLst/>
              <a:ahLst/>
              <a:rect l="l" t="t" r="r" b="b"/>
              <a:pathLst>
                <a:path w="1123" h="1175">
                  <a:moveTo>
                    <a:pt x="759" y="1175"/>
                  </a:moveTo>
                  <a:lnTo>
                    <a:pt x="819" y="1108"/>
                  </a:lnTo>
                  <a:lnTo>
                    <a:pt x="875" y="1038"/>
                  </a:lnTo>
                  <a:lnTo>
                    <a:pt x="926" y="971"/>
                  </a:lnTo>
                  <a:lnTo>
                    <a:pt x="973" y="901"/>
                  </a:lnTo>
                  <a:lnTo>
                    <a:pt x="1010" y="831"/>
                  </a:lnTo>
                  <a:lnTo>
                    <a:pt x="1045" y="764"/>
                  </a:lnTo>
                  <a:lnTo>
                    <a:pt x="1073" y="697"/>
                  </a:lnTo>
                  <a:lnTo>
                    <a:pt x="1095" y="630"/>
                  </a:lnTo>
                  <a:lnTo>
                    <a:pt x="1111" y="569"/>
                  </a:lnTo>
                  <a:lnTo>
                    <a:pt x="1120" y="508"/>
                  </a:lnTo>
                  <a:lnTo>
                    <a:pt x="1123" y="451"/>
                  </a:lnTo>
                  <a:lnTo>
                    <a:pt x="1120" y="399"/>
                  </a:lnTo>
                  <a:lnTo>
                    <a:pt x="1111" y="350"/>
                  </a:lnTo>
                  <a:lnTo>
                    <a:pt x="1095" y="305"/>
                  </a:lnTo>
                  <a:lnTo>
                    <a:pt x="1070" y="265"/>
                  </a:lnTo>
                  <a:lnTo>
                    <a:pt x="1038" y="232"/>
                  </a:lnTo>
                  <a:lnTo>
                    <a:pt x="850" y="64"/>
                  </a:lnTo>
                  <a:lnTo>
                    <a:pt x="822" y="43"/>
                  </a:lnTo>
                  <a:lnTo>
                    <a:pt x="791" y="25"/>
                  </a:lnTo>
                  <a:lnTo>
                    <a:pt x="756" y="12"/>
                  </a:lnTo>
                  <a:lnTo>
                    <a:pt x="719" y="6"/>
                  </a:lnTo>
                  <a:lnTo>
                    <a:pt x="678" y="0"/>
                  </a:lnTo>
                  <a:lnTo>
                    <a:pt x="637" y="0"/>
                  </a:lnTo>
                  <a:lnTo>
                    <a:pt x="593" y="3"/>
                  </a:lnTo>
                  <a:lnTo>
                    <a:pt x="546" y="12"/>
                  </a:lnTo>
                  <a:lnTo>
                    <a:pt x="496" y="25"/>
                  </a:lnTo>
                  <a:lnTo>
                    <a:pt x="446" y="40"/>
                  </a:lnTo>
                  <a:lnTo>
                    <a:pt x="395" y="61"/>
                  </a:lnTo>
                  <a:lnTo>
                    <a:pt x="342" y="86"/>
                  </a:lnTo>
                  <a:lnTo>
                    <a:pt x="292" y="113"/>
                  </a:lnTo>
                  <a:lnTo>
                    <a:pt x="236" y="143"/>
                  </a:lnTo>
                  <a:lnTo>
                    <a:pt x="182" y="180"/>
                  </a:lnTo>
                  <a:lnTo>
                    <a:pt x="129" y="219"/>
                  </a:lnTo>
                  <a:lnTo>
                    <a:pt x="32" y="134"/>
                  </a:lnTo>
                  <a:lnTo>
                    <a:pt x="0" y="502"/>
                  </a:lnTo>
                  <a:lnTo>
                    <a:pt x="414" y="472"/>
                  </a:lnTo>
                  <a:lnTo>
                    <a:pt x="317" y="387"/>
                  </a:lnTo>
                  <a:lnTo>
                    <a:pt x="399" y="329"/>
                  </a:lnTo>
                  <a:lnTo>
                    <a:pt x="480" y="280"/>
                  </a:lnTo>
                  <a:lnTo>
                    <a:pt x="562" y="241"/>
                  </a:lnTo>
                  <a:lnTo>
                    <a:pt x="640" y="207"/>
                  </a:lnTo>
                  <a:lnTo>
                    <a:pt x="715" y="186"/>
                  </a:lnTo>
                  <a:lnTo>
                    <a:pt x="788" y="174"/>
                  </a:lnTo>
                  <a:lnTo>
                    <a:pt x="857" y="171"/>
                  </a:lnTo>
                  <a:lnTo>
                    <a:pt x="919" y="177"/>
                  </a:lnTo>
                  <a:lnTo>
                    <a:pt x="919" y="177"/>
                  </a:lnTo>
                  <a:lnTo>
                    <a:pt x="929" y="216"/>
                  </a:lnTo>
                  <a:lnTo>
                    <a:pt x="935" y="259"/>
                  </a:lnTo>
                  <a:lnTo>
                    <a:pt x="935" y="305"/>
                  </a:lnTo>
                  <a:lnTo>
                    <a:pt x="929" y="353"/>
                  </a:lnTo>
                  <a:lnTo>
                    <a:pt x="919" y="405"/>
                  </a:lnTo>
                  <a:lnTo>
                    <a:pt x="907" y="457"/>
                  </a:lnTo>
                  <a:lnTo>
                    <a:pt x="891" y="508"/>
                  </a:lnTo>
                  <a:lnTo>
                    <a:pt x="869" y="563"/>
                  </a:lnTo>
                  <a:lnTo>
                    <a:pt x="844" y="618"/>
                  </a:lnTo>
                  <a:lnTo>
                    <a:pt x="816" y="673"/>
                  </a:lnTo>
                  <a:lnTo>
                    <a:pt x="784" y="730"/>
                  </a:lnTo>
                  <a:lnTo>
                    <a:pt x="747" y="785"/>
                  </a:lnTo>
                  <a:lnTo>
                    <a:pt x="709" y="843"/>
                  </a:lnTo>
                  <a:lnTo>
                    <a:pt x="665" y="898"/>
                  </a:lnTo>
                  <a:lnTo>
                    <a:pt x="621" y="953"/>
                  </a:lnTo>
                  <a:lnTo>
                    <a:pt x="571" y="1007"/>
                  </a:lnTo>
                  <a:lnTo>
                    <a:pt x="759" y="1175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23520" y="1987560"/>
              <a:ext cx="189000" cy="87120"/>
            </a:xfrm>
            <a:custGeom>
              <a:avLst/>
              <a:gdLst/>
              <a:ahLst/>
              <a:rect l="l" t="t" r="r" b="b"/>
              <a:pathLst>
                <a:path w="119" h="55">
                  <a:moveTo>
                    <a:pt x="119" y="55"/>
                  </a:moveTo>
                  <a:lnTo>
                    <a:pt x="94" y="36"/>
                  </a:lnTo>
                  <a:lnTo>
                    <a:pt x="66" y="21"/>
                  </a:lnTo>
                  <a:lnTo>
                    <a:pt x="35" y="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4572000"/>
            <a:ext cx="2349720" cy="14349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19520"/>
            <a:ext cx="1968480" cy="9014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00200"/>
            <a:ext cx="4863960" cy="34164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040" y="1668600"/>
            <a:ext cx="50115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Mediciones de factores de gestión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lidad de la 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tisfacción y retención del cl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movilidad de los emple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pacidad del pers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versiones en el área de invest. y 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productividad del área de invest. y desarr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esarrollo de nuevos produc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recimiento y éxito en el merc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ompetitividad respecto al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otras medidas específicas para cada empre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7640" y="2813040"/>
            <a:ext cx="1843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Logro del objetiv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42040" y="4641840"/>
            <a:ext cx="26668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Medida Tradicion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Arial"/>
              </a:rPr>
              <a:t>(desempeño financie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ana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99040" y="2050920"/>
            <a:ext cx="1066680" cy="0"/>
          </a:xfrm>
          <a:prstGeom prst="line">
            <a:avLst/>
          </a:prstGeom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65720" y="2050920"/>
            <a:ext cx="0" cy="685800"/>
          </a:xfrm>
          <a:prstGeom prst="line">
            <a:avLst/>
          </a:prstGeom>
          <a:ln w="12600">
            <a:solidFill>
              <a:srgbClr val="6d6fc7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89760" y="3727440"/>
            <a:ext cx="0" cy="1371600"/>
          </a:xfrm>
          <a:prstGeom prst="line">
            <a:avLst/>
          </a:prstGeom>
          <a:ln w="12600">
            <a:solidFill>
              <a:srgbClr val="6d6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9760" y="5099040"/>
            <a:ext cx="380880" cy="0"/>
          </a:xfrm>
          <a:prstGeom prst="line">
            <a:avLst/>
          </a:prstGeom>
          <a:ln w="12600">
            <a:solidFill>
              <a:srgbClr val="6d6fc7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3840" y="685800"/>
            <a:ext cx="633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ESTIÓN ESTRATEGICA-SEM: OBJE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91520" y="0"/>
            <a:ext cx="1676160" cy="1257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080" y="2247840"/>
            <a:ext cx="31240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 comportamiento de la organización a través de cuatro persp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08200" y="1333440"/>
            <a:ext cx="148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241960" y="1785960"/>
            <a:ext cx="1630440" cy="2098800"/>
            <a:chOff x="5241960" y="1785960"/>
            <a:chExt cx="1630440" cy="2098800"/>
          </a:xfrm>
        </p:grpSpPr>
        <p:sp>
          <p:nvSpPr>
            <p:cNvPr id="187" name=""/>
            <p:cNvSpPr/>
            <p:nvPr/>
          </p:nvSpPr>
          <p:spPr>
            <a:xfrm>
              <a:off x="5241960" y="1785960"/>
              <a:ext cx="1630440" cy="209880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281560" y="1803600"/>
              <a:ext cx="15685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144960" y="255276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0" y="2957400"/>
            <a:ext cx="2117520" cy="1650960"/>
            <a:chOff x="3240000" y="2957400"/>
            <a:chExt cx="2117520" cy="1650960"/>
          </a:xfrm>
        </p:grpSpPr>
        <p:sp>
          <p:nvSpPr>
            <p:cNvPr id="191" name=""/>
            <p:cNvSpPr/>
            <p:nvPr/>
          </p:nvSpPr>
          <p:spPr>
            <a:xfrm>
              <a:off x="3240000" y="2957400"/>
              <a:ext cx="2117520" cy="16509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3277800" y="2984400"/>
              <a:ext cx="2073240" cy="16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261040" y="4140360"/>
            <a:ext cx="1439640" cy="2120760"/>
            <a:chOff x="5261040" y="4140360"/>
            <a:chExt cx="1439640" cy="2120760"/>
          </a:xfrm>
        </p:grpSpPr>
        <p:sp>
          <p:nvSpPr>
            <p:cNvPr id="194" name=""/>
            <p:cNvSpPr/>
            <p:nvPr/>
          </p:nvSpPr>
          <p:spPr>
            <a:xfrm>
              <a:off x="5261040" y="4140360"/>
              <a:ext cx="1439640" cy="21207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5295600" y="4175280"/>
              <a:ext cx="138708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3035160" y="550224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ndizaje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13640" y="2720880"/>
            <a:ext cx="1697040" cy="2135160"/>
            <a:chOff x="6713640" y="2720880"/>
            <a:chExt cx="1697040" cy="2135160"/>
          </a:xfrm>
        </p:grpSpPr>
        <p:sp>
          <p:nvSpPr>
            <p:cNvPr id="198" name=""/>
            <p:cNvSpPr/>
            <p:nvPr/>
          </p:nvSpPr>
          <p:spPr>
            <a:xfrm>
              <a:off x="6713640" y="2720880"/>
              <a:ext cx="1697040" cy="21351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6745320" y="2739960"/>
              <a:ext cx="165600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7403040" y="1790640"/>
            <a:ext cx="164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74520" y="5143680"/>
            <a:ext cx="914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22320" y="419040"/>
            <a:ext cx="4682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ERSPECTIVAS 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ALANCED SCORECARD (B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238880" y="0"/>
            <a:ext cx="1676520" cy="1371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16480" y="1671480"/>
            <a:ext cx="1630440" cy="2098800"/>
            <a:chOff x="5316480" y="1671480"/>
            <a:chExt cx="1630440" cy="2098800"/>
          </a:xfrm>
        </p:grpSpPr>
        <p:sp>
          <p:nvSpPr>
            <p:cNvPr id="209" name=""/>
            <p:cNvSpPr/>
            <p:nvPr/>
          </p:nvSpPr>
          <p:spPr>
            <a:xfrm>
              <a:off x="5316480" y="1671480"/>
              <a:ext cx="1630440" cy="209880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5356080" y="1689120"/>
              <a:ext cx="15685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3314880" y="2843280"/>
            <a:ext cx="2117520" cy="1650960"/>
            <a:chOff x="3314880" y="2843280"/>
            <a:chExt cx="2117520" cy="1650960"/>
          </a:xfrm>
        </p:grpSpPr>
        <p:sp>
          <p:nvSpPr>
            <p:cNvPr id="212" name=""/>
            <p:cNvSpPr/>
            <p:nvPr/>
          </p:nvSpPr>
          <p:spPr>
            <a:xfrm>
              <a:off x="3314880" y="2843280"/>
              <a:ext cx="2117520" cy="16509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352680" y="2870280"/>
              <a:ext cx="2073240" cy="16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5335560" y="4025880"/>
            <a:ext cx="1440000" cy="2120760"/>
            <a:chOff x="5335560" y="4025880"/>
            <a:chExt cx="1440000" cy="2120760"/>
          </a:xfrm>
        </p:grpSpPr>
        <p:sp>
          <p:nvSpPr>
            <p:cNvPr id="215" name=""/>
            <p:cNvSpPr/>
            <p:nvPr/>
          </p:nvSpPr>
          <p:spPr>
            <a:xfrm>
              <a:off x="5335560" y="4025880"/>
              <a:ext cx="1440000" cy="212076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5370480" y="4060800"/>
              <a:ext cx="138744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6788160" y="2606760"/>
            <a:ext cx="1697040" cy="2135160"/>
            <a:chOff x="6788160" y="2606760"/>
            <a:chExt cx="1697040" cy="2135160"/>
          </a:xfrm>
        </p:grpSpPr>
        <p:sp>
          <p:nvSpPr>
            <p:cNvPr id="218" name=""/>
            <p:cNvSpPr/>
            <p:nvPr/>
          </p:nvSpPr>
          <p:spPr>
            <a:xfrm>
              <a:off x="6788160" y="2606760"/>
              <a:ext cx="1697040" cy="2135160"/>
            </a:xfrm>
            <a:prstGeom prst="rect">
              <a:avLst/>
            </a:prstGeom>
            <a:gradFill rotWithShape="0">
              <a:gsLst>
                <a:gs pos="0">
                  <a:srgbClr val="00e4e4"/>
                </a:gs>
                <a:gs pos="100000">
                  <a:srgbClr val="00ffff"/>
                </a:gs>
              </a:gsLst>
              <a:lin ang="13500000"/>
            </a:gradFill>
            <a:ln w="12600">
              <a:solidFill>
                <a:srgbClr val="00ffff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6819840" y="2625840"/>
              <a:ext cx="165600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/>
          <p:cNvSpPr/>
          <p:nvPr/>
        </p:nvSpPr>
        <p:spPr>
          <a:xfrm>
            <a:off x="34920" y="2133720"/>
            <a:ext cx="312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 comportamiento de la organización a través de cuatro persp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02920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4120" y="1682640"/>
            <a:ext cx="1600200" cy="2021040"/>
            <a:chOff x="5334120" y="1682640"/>
            <a:chExt cx="1600200" cy="2021040"/>
          </a:xfrm>
        </p:grpSpPr>
        <p:sp>
          <p:nvSpPr>
            <p:cNvPr id="223" name=""/>
            <p:cNvSpPr/>
            <p:nvPr/>
          </p:nvSpPr>
          <p:spPr>
            <a:xfrm>
              <a:off x="5335560" y="1682640"/>
              <a:ext cx="1592280" cy="2021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4120" y="1844640"/>
              <a:ext cx="1600200" cy="1539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Resultados para los accionist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/ dueñ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E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76720" y="2819520"/>
            <a:ext cx="2127240" cy="2076120"/>
            <a:chOff x="3276720" y="2819520"/>
            <a:chExt cx="2127240" cy="2076120"/>
          </a:xfrm>
        </p:grpSpPr>
        <p:sp>
          <p:nvSpPr>
            <p:cNvPr id="226" name=""/>
            <p:cNvSpPr/>
            <p:nvPr/>
          </p:nvSpPr>
          <p:spPr>
            <a:xfrm>
              <a:off x="3278160" y="2819520"/>
              <a:ext cx="2125800" cy="1668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2951280"/>
              <a:ext cx="2057400" cy="1944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Clientes, mercado, segmentos de mercado, propuesta de valor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Calidad de Servici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181480" y="4076640"/>
            <a:ext cx="1752840" cy="2125800"/>
            <a:chOff x="5181480" y="4076640"/>
            <a:chExt cx="1752840" cy="2125800"/>
          </a:xfrm>
        </p:grpSpPr>
        <p:sp>
          <p:nvSpPr>
            <p:cNvPr id="229" name=""/>
            <p:cNvSpPr/>
            <p:nvPr/>
          </p:nvSpPr>
          <p:spPr>
            <a:xfrm>
              <a:off x="5184720" y="4076640"/>
              <a:ext cx="1679760" cy="2125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81480" y="4159440"/>
              <a:ext cx="1752840" cy="136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Infraestructura, gente, sistemas,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781680" y="2666880"/>
            <a:ext cx="1676520" cy="2049480"/>
            <a:chOff x="6781680" y="2666880"/>
            <a:chExt cx="1676520" cy="2049480"/>
          </a:xfrm>
        </p:grpSpPr>
        <p:sp>
          <p:nvSpPr>
            <p:cNvPr id="232" name=""/>
            <p:cNvSpPr/>
            <p:nvPr/>
          </p:nvSpPr>
          <p:spPr>
            <a:xfrm>
              <a:off x="6781680" y="2666880"/>
              <a:ext cx="1676520" cy="2049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5a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69160" y="2747880"/>
              <a:ext cx="1508040" cy="1943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5a58"/>
                  </a:solidFill>
                  <a:latin typeface="Arial"/>
                </a:rPr>
                <a:t>Procesos internos que diferencian al negoci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333333"/>
                  </a:solidFill>
                  <a:latin typeface="Arial"/>
                </a:rPr>
                <a:t>ABC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482720" y="1219320"/>
            <a:ext cx="148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z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19480" y="243828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538812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ndizaje 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77560" y="1676520"/>
            <a:ext cx="164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7200" y="304920"/>
            <a:ext cx="4682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ERSPECTIVAS 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BALANCED SCORECARD (BS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1066680"/>
            <a:ext cx="792468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33"/>
                </a:solidFill>
                <a:latin typeface="Arial"/>
                <a:ea typeface="Arial"/>
              </a:rPr>
              <a:t>La capacidad de implantar la Estrategia es lo cent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3480" y="493560"/>
            <a:ext cx="7817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l Valor de Poder Hacer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1828800"/>
            <a:ext cx="47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bffff"/>
                </a:solidFill>
                <a:latin typeface="Arial"/>
              </a:rPr>
              <a:t>FACTORES QUE INFLUENCIAN LA VALORIZACION DE LAS EMPRE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apacidad de ejecución de la estrate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redibilidad de la Administ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alidad de la estrategia</a:t>
            </a:r>
            <a:r>
              <a:rPr b="1" lang="es-ES_tradnl" sz="2400" spc="-1" strike="noStrike">
                <a:solidFill>
                  <a:srgbClr val="fb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Innovación (nuevos product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bffff"/>
              </a:buClr>
              <a:buFont typeface="Arial"/>
              <a:buAutoNum type="arabicPeriod"/>
              <a:tabLst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r>
              <a:rPr b="0" lang="es-ES_tradnl" sz="2400" spc="-1" strike="noStrike">
                <a:solidFill>
                  <a:srgbClr val="fbffff"/>
                </a:solidFill>
                <a:latin typeface="Arial"/>
              </a:rPr>
              <a:t>Capacidad para atraer gente talent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209680"/>
            <a:ext cx="3657600" cy="2057400"/>
          </a:xfrm>
          <a:prstGeom prst="cloudCallout">
            <a:avLst>
              <a:gd name="adj1" fmla="val 26564"/>
              <a:gd name="adj2" fmla="val 52236"/>
            </a:avLst>
          </a:prstGeom>
          <a:solidFill>
            <a:srgbClr val="6d6fc7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98720" y="2589120"/>
            <a:ext cx="2863800" cy="1031400"/>
          </a:xfrm>
          <a:prstGeom prst="rect">
            <a:avLst/>
          </a:prstGeom>
          <a:solidFill>
            <a:srgbClr val="6d6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Mayor proporc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elementos no Financie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99"/>
                </a:solidFill>
                <a:latin typeface="Arial"/>
              </a:rPr>
              <a:t>en valor de la empr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105520" y="2133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213372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3809880"/>
            <a:ext cx="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5181480"/>
            <a:ext cx="381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447920" cy="1020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352680" y="2209680"/>
            <a:ext cx="2438640" cy="1600200"/>
          </a:xfrm>
          <a:prstGeom prst="ellipse">
            <a:avLst/>
          </a:prstGeom>
          <a:gradFill rotWithShape="0">
            <a:gsLst>
              <a:gs pos="0">
                <a:srgbClr val="33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14600" y="2514600"/>
            <a:ext cx="2376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de cada 10 fallan al ejecutar la estrategia (Fortu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76320"/>
            <a:ext cx="91440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desafío es traducir la estrategia en acción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atro barreras para la implementación de la 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576252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respuesta  es “una organización focalizada en la estrategia”. BSC facilita llevar a la organización desde un sistema de control enfocado al corto plazo hacia la gestión estratégica involucrando a todo el pers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762120"/>
            <a:ext cx="30477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838080"/>
            <a:ext cx="2895840" cy="114300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91440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a 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Solo el 5% de la fuerza de trabajo comprende la estrategia</a:t>
            </a:r>
            <a:r>
              <a:rPr b="1" lang="es-ES" sz="1600" spc="-1" strike="noStrike">
                <a:solidFill>
                  <a:srgbClr val="fbffff"/>
                </a:solidFill>
                <a:latin typeface="Arial"/>
                <a:ea typeface="Osaka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2127240"/>
            <a:ext cx="30481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2203560"/>
            <a:ext cx="2895480" cy="15303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2266920"/>
            <a:ext cx="2819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a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85% de los equipos ejecutivos pasan menos de una hora al mes discutiendo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2133720"/>
            <a:ext cx="30481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209680"/>
            <a:ext cx="2895480" cy="15303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28600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a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rr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e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r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a</a:t>
            </a: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 de </a:t>
            </a: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la g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Solo el 25% de los gerentes tiene incentivos vinculados a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3886200"/>
            <a:ext cx="2971800" cy="14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962520"/>
            <a:ext cx="2819520" cy="1301760"/>
          </a:xfrm>
          <a:prstGeom prst="rect">
            <a:avLst/>
          </a:prstGeom>
          <a:solidFill>
            <a:srgbClr val="0033cc"/>
          </a:solidFill>
          <a:ln w="442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3968640"/>
            <a:ext cx="2889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bffff"/>
                </a:solidFill>
                <a:latin typeface="Arial"/>
                <a:ea typeface="Osaka"/>
              </a:rPr>
              <a:t>Barrera de los recur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fff"/>
                </a:solidFill>
                <a:latin typeface="Arial"/>
                <a:ea typeface="Osaka"/>
              </a:rPr>
              <a:t>60% de las organizaciones no vincula sus presupuestos a la 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6:08:51Z</dcterms:created>
  <dc:creator>Juan Ramon Samaniego</dc:creator>
  <dc:description/>
  <dc:language>en-US</dc:language>
  <cp:lastModifiedBy>Gastón L'Huilllier</cp:lastModifiedBy>
  <dcterms:modified xsi:type="dcterms:W3CDTF">2004-11-10T02:34:56Z</dcterms:modified>
  <cp:revision>124</cp:revision>
  <dc:subject/>
  <dc:title>Diapositiva 1</dc:title>
</cp:coreProperties>
</file>