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0AE-298D-4235-ACB0-6458D81E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D99-A727-4369-9001-D9353F64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18AC-68F2-4CB7-93D2-AB5E4C2AB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F890-64DF-4BE6-987F-473CC406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530-7C0A-44DD-90FB-3760CACC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385-3B60-4DCC-9CF4-25E9B89B3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F7C2-CF98-42B1-9408-98D33429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2045-FD7E-4B17-81EF-C077AB4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CEA1-B37E-42CE-A36F-92615055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726B-E88E-4B5E-853C-18427464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51EA-4D62-451C-AE4A-5CDE4E6B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762-B0DA-44BA-B61B-C98CDE63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8FE6-EAD9-4374-8751-172175A37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0033cc"/>
                </a:solidFill>
                <a:latin typeface="Times New Roman"/>
              </a:rPr>
              <a:t>MARCA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BA -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28191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14400" y="22860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Vs. RECORD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DIB4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31520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228600"/>
            <a:ext cx="9144000" cy="62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CREACIÓN DE 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4520" y="0"/>
            <a:ext cx="8454960" cy="29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ALIDAD PERCIB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calidad Percibida es un Driver de las Otras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2819520"/>
            <a:ext cx="8381880" cy="38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ebe existir Calidad de ver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os errores se pag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idad en  dimensión importante par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s importante entender que los consumidore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san pequeños trucos para evaluar la c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En algunos casos se puede “capacitar” a los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23920" y="2286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920" y="2286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5791320"/>
            <a:ext cx="838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aker y Jacobson, Journal of Marketing Research, May 1994, pp191-2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54864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1280" y="54864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52880" y="53341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6360" y="611280"/>
            <a:ext cx="8454960" cy="38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EALT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La Lealtad es Ren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Como aumentar la Lealtad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lubes, Programas de Frecuentes, Database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ke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2680" y="108000"/>
            <a:ext cx="8378640" cy="60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ASOCIACIONES DE LA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7146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rresponde a las distintas asociaciones que hace el consumidor al oir o ver el nombre de la marca. El conjunto de esas Asociaciones es la IMAGEN de la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Estas asociaciones pueden incluir entre otros</a:t>
            </a: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a celeb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n sí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IDENTIDAD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. La Identidad gobierna las Asoci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B6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705360" cy="5180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POR QUÉ ES DIFICIL CONSTRUIR MARC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6360" y="458640"/>
            <a:ext cx="8531280" cy="51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E ES IDENTIDAD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028880" y="609480"/>
            <a:ext cx="70866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omic Sans MS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685800"/>
            <a:ext cx="914400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TRAMPAS EN LA IDENTIDAD DE MAR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Imagen de Marc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2888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CO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8076960" cy="56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Simplifican la elección rutinar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si todas las semanas compro jabón, no tengo que tomar una decisión cada vez, simplemente “echo” Le Sancy en el car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ducen el riesgo en decisiones más compleja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(Cuando compro un equipo de audio la marca Sony me indica que ciertas cosas estoy seguro que NO me van a pas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Una marca me puede producir beneficios emocionale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Por algo la gente compra Gucci, o anda mostrando la Marca de algunos de sus compr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n algún sentido de “pertenenci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. (La gente que tiene un computador Apple siente cierto grado de identificación con otros que usan la misma marca, y eso les hace sentirse b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80880" y="533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58640"/>
            <a:ext cx="7997760" cy="78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68200" y="304920"/>
            <a:ext cx="8607600" cy="56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UATRO PERSPECTIVAS DE LA IDENTIDAD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ORGANIZ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- SIMB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236232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MODELO DE PLANEACIÓN DE LA IDENTID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IB7" descr=""/>
          <p:cNvPicPr/>
          <p:nvPr/>
        </p:nvPicPr>
        <p:blipFill>
          <a:blip r:embed="rId1"/>
          <a:stretch/>
        </p:blipFill>
        <p:spPr>
          <a:xfrm>
            <a:off x="3733920" y="0"/>
            <a:ext cx="399708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58640" y="534960"/>
            <a:ext cx="8150400" cy="63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RODU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 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Calidad/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País o Reg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6360" y="228600"/>
            <a:ext cx="8531280" cy="58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Organización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Persona</a:t>
            </a:r>
            <a:r>
              <a:rPr b="1" lang="es-ES_tradnl" sz="2400" spc="-1" strike="noStrike">
                <a:solidFill>
                  <a:srgbClr val="0033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Marca como Símbol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POLITICA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74678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ún la mezcla de produc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a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por Línea de Produ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rca Doble (o Tri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1647720"/>
            <a:ext cx="685800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 cada producto la empresa le asigna una marca y un posicionamiento específ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s: Detergentes OMO, DRIVE, SK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la política tradicional de empresas como Procter &amp; Gamble y Le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JA:  La empresa no “juega” su reputación en el resultado de un producto en el mer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ARAGU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793880"/>
            <a:ext cx="7925040" cy="32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marca Paraguas acoge a varias Categorías de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chas empresas usan su nombre como marca Paraguas. Daewoo, Sony, IBM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MARCA POR LÍNEA DE PRODUCT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1647720"/>
            <a:ext cx="701064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3808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33cc"/>
                </a:solidFill>
                <a:latin typeface="Times New Roman"/>
              </a:rPr>
              <a:t>JERARQUÍAS DE MAR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1295280"/>
            <a:ext cx="761976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ede haber varios niveles.                             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cha Asada....  Producto específi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04840" y="914400"/>
            <a:ext cx="6934320" cy="47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¿Porqué la marca Marlboro vale 50 mil millones de U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i las marcas pueden ser un activo tan valioso, ¿porqué no se contabiliz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DIB2" descr="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IB1" descr=""/>
          <p:cNvPicPr/>
          <p:nvPr/>
        </p:nvPicPr>
        <p:blipFill>
          <a:blip r:embed="rId1"/>
          <a:stretch/>
        </p:blipFill>
        <p:spPr>
          <a:xfrm>
            <a:off x="2666880" y="0"/>
            <a:ext cx="348156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8040" y="212760"/>
            <a:ext cx="8467920" cy="68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¿QUÉ ES EL VALOR DE MARC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Comic Sans MS"/>
              </a:rPr>
              <a:t>Valor de Marca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CIENCIA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EALTAD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OCIACIONES DE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380880" y="2666880"/>
            <a:ext cx="3657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omo l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genera va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B3" descr=""/>
          <p:cNvPicPr/>
          <p:nvPr/>
        </p:nvPicPr>
        <p:blipFill>
          <a:blip r:embed="rId1"/>
          <a:stretch/>
        </p:blipFill>
        <p:spPr>
          <a:xfrm>
            <a:off x="3124080" y="98280"/>
            <a:ext cx="53420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15840" y="611280"/>
            <a:ext cx="792180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CONCIENCIA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NOCIMIEN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onoce usted esta mar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RECOR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Marcas de esta clase Producto conoce us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Top of M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54080" y="382680"/>
            <a:ext cx="868356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RECONOCIMIENTO DE MA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2096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Administrador</cp:lastModifiedBy>
  <dcterms:modified xsi:type="dcterms:W3CDTF">2004-10-27T18:27:34Z</dcterms:modified>
  <cp:revision>44</cp:revision>
  <dc:subject/>
  <dc:title>Sin título de diapositiva</dc:title>
</cp:coreProperties>
</file>