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4BD90-8ACC-4D25-B22E-B3D187762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402AB-0BCA-4F3E-9B91-EC3CABFEC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D55DE-EA86-4DBC-8FF0-7473D02A0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F54D6-763F-4E17-A7C8-1748346629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F3C74-F213-45E8-90AC-DC4FE24C5A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5277B-6287-436F-A24D-09C247C89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12AB1-2F09-4282-B345-4BB66A62C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71880-1D1C-4EAD-9337-F339B6754F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2B2B9-B6F9-490F-A690-B86F52A1D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03F72-1E5A-4C16-9095-FF3888731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7367E-0855-4729-927C-BF952E670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FBE13-DACF-421D-9253-D8BC55AA6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4004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94BE-DDA8-49D7-9633-83A545969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5f5f5f"/>
                </a:solidFill>
                <a:latin typeface="Verdana"/>
              </a:rPr>
              <a:t>IN58B - Ingeniería de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66"/>
                </a:solidFill>
                <a:latin typeface="Verdana"/>
              </a:rPr>
              <a:t>Modelos de Participación de Mercado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d1f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d1f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fesor: William Young Han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Semestre Primavera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Participación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440" y="182844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405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M: parte de las ventas totales del mercado (en cantidad vendida) de un producto para un período dado de tiempo en un área geográfica dad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05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0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38080" y="3657600"/>
            <a:ext cx="7772400" cy="2499120"/>
            <a:chOff x="838080" y="3657600"/>
            <a:chExt cx="7772400" cy="2499120"/>
          </a:xfrm>
        </p:grpSpPr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838080" y="4419720"/>
                  <a:ext cx="1371600" cy="116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743200" y="3657600"/>
              <a:ext cx="5410080" cy="24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= PM marca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Q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= ventas del producto de la marca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Q = ventas totales del mercado (demanda primaria, ventas de la industria, o “mercado”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 = número de marcas en el merc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620120" y="4952880"/>
                  <a:ext cx="99036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86FFF-02E5-448F-98E2-6A463DB0E6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sfuerzo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0440" y="2057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3841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Kotler (1984): la PM de una marca es proporcional al esfuerzo de marketing de ell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84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09480" y="3657600"/>
            <a:ext cx="7543800" cy="1608840"/>
            <a:chOff x="609480" y="3657600"/>
            <a:chExt cx="7543800" cy="1608840"/>
          </a:xfrm>
        </p:grpSpPr>
        <p:sp>
          <p:nvSpPr>
            <p:cNvPr id="69" name=""/>
            <p:cNvSpPr/>
            <p:nvPr/>
          </p:nvSpPr>
          <p:spPr>
            <a:xfrm>
              <a:off x="2743200" y="3657600"/>
              <a:ext cx="5410080" cy="160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= PM marca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= esfuerzo de marketing de la marca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k = constante de proporcional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609480" y="4114800"/>
                  <a:ext cx="160020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M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7817A-9F20-4384-8EA8-72D8ABC699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PM y Esfuerzo de Mkt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298440" indent="-29844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Valor de k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220968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as PM deben suma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715000" y="2057400"/>
                <a:ext cx="121932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981080" y="3276720"/>
                <a:ext cx="4800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657600" y="4800600"/>
                <a:ext cx="175248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3D1DE-2D14-4B7D-9BA5-8A10447C07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PM y Esfuerzo de Mkt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298440" indent="-29844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Reemplazando en la ecuación de P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66680" y="2354400"/>
            <a:ext cx="7048440" cy="2293560"/>
            <a:chOff x="1066680" y="2354400"/>
            <a:chExt cx="7048440" cy="2293560"/>
          </a:xfrm>
        </p:grpSpPr>
        <p:sp>
          <p:nvSpPr>
            <p:cNvPr id="80" name=""/>
            <p:cNvSpPr/>
            <p:nvPr/>
          </p:nvSpPr>
          <p:spPr>
            <a:xfrm>
              <a:off x="1066680" y="3916440"/>
              <a:ext cx="704844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 algn="ctr">
                <a:lnSpc>
                  <a:spcPct val="14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0066"/>
                  </a:solidFill>
                  <a:latin typeface="Verdana"/>
                  <a:ea typeface="Times New Roman"/>
                </a:rPr>
                <a:t>Teorema Fundamental de la P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33520" indent="-53352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3583800" y="2354400"/>
                  <a:ext cx="2013840" cy="149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2" name=""/>
          <p:cNvSpPr/>
          <p:nvPr/>
        </p:nvSpPr>
        <p:spPr>
          <a:xfrm>
            <a:off x="685800" y="4648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M de la marca i es igual a su porción del total del esfuerzo de mkt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AB0DC-9748-4014-B44E-F42BFC342C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PM y Esfuerzo de Mkt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91880" indent="-19188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o, son todos los esfuerzos igual de efectivos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91880" indent="-19188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 las empresas no tienen la misma efectividad en su esfuerzo de mkt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57200" y="4038480"/>
            <a:ext cx="5334120" cy="1905120"/>
            <a:chOff x="457200" y="4038480"/>
            <a:chExt cx="5334120" cy="1905120"/>
          </a:xfrm>
        </p:grpSpPr>
        <p:sp>
          <p:nvSpPr>
            <p:cNvPr id="86" name=""/>
            <p:cNvSpPr/>
            <p:nvPr/>
          </p:nvSpPr>
          <p:spPr>
            <a:xfrm>
              <a:off x="2666880" y="4038480"/>
              <a:ext cx="31244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	</a:t>
              </a:r>
              <a:r>
                <a:rPr b="0" i="1" lang="es-C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i="1" lang="es-CL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CL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coeficiente de efectividad del esfuerzo de mktg de la marca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33520" indent="-53352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457200" y="4267080"/>
                  <a:ext cx="220968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" name=""/>
          <p:cNvSpPr/>
          <p:nvPr/>
        </p:nvSpPr>
        <p:spPr>
          <a:xfrm>
            <a:off x="5410080" y="3962520"/>
            <a:ext cx="335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Aunque dos empresas hagan el mismo esfuerzo, pueden no tener la misma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E4A57-5DCD-46D6-8A1B-7F5FAD9995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....Esfuerzo de Mkt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91880" indent="-19188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ómo medir y especificar el esfuerzo?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91880" indent="-19188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Kotler asume que es función del marketing mix, pasado y actual..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04920" y="3629160"/>
            <a:ext cx="8534160" cy="2633760"/>
            <a:chOff x="304920" y="3629160"/>
            <a:chExt cx="8534160" cy="2633760"/>
          </a:xfrm>
        </p:grpSpPr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3124080" y="3629160"/>
                  <a:ext cx="2895840" cy="51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"/>
            <p:cNvSpPr/>
            <p:nvPr/>
          </p:nvSpPr>
          <p:spPr>
            <a:xfrm>
              <a:off x="304920" y="4238280"/>
              <a:ext cx="8534160" cy="20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= el precio del producto de la marca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= los gastos en publicidad de la marca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D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= los esfuerzos de distribución (ejemplo: el número de tiendas que tienen la marca 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3300D-FC88-4F21-A689-C9C228948C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....Esfuerzo de Mkt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229320" indent="-22932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e cree que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interacción entre los  elemento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293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unción multiplicativ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293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29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400800" y="2909880"/>
                <a:ext cx="1981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33520" y="1447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uchas formas funcional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3520" y="4495680"/>
            <a:ext cx="8076960" cy="1268280"/>
            <a:chOff x="533520" y="4495680"/>
            <a:chExt cx="8076960" cy="1268280"/>
          </a:xfrm>
        </p:grpSpPr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3043080" y="5333760"/>
                  <a:ext cx="30578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p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D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"/>
            <p:cNvSpPr/>
            <p:nvPr/>
          </p:nvSpPr>
          <p:spPr>
            <a:xfrm>
              <a:off x="533520" y="4495680"/>
              <a:ext cx="80769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33520" indent="-533520">
                <a:lnSpc>
                  <a:spcPct val="140000"/>
                </a:lnSpc>
                <a:spcBef>
                  <a:spcPts val="601"/>
                </a:spcBef>
                <a:buClr>
                  <a:srgbClr val="ff0066"/>
                </a:buClr>
                <a:buFont typeface="Verdana"/>
                <a:buAutoNum type="arabicParenR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es-CL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i se escoge función exponencial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86400" y="3429000"/>
            <a:ext cx="3657600" cy="2722320"/>
            <a:chOff x="5486400" y="3429000"/>
            <a:chExt cx="3657600" cy="2722320"/>
          </a:xfrm>
        </p:grpSpPr>
        <p:sp>
          <p:nvSpPr>
            <p:cNvPr id="102" name=""/>
            <p:cNvSpPr/>
            <p:nvPr/>
          </p:nvSpPr>
          <p:spPr>
            <a:xfrm>
              <a:off x="5486400" y="3429000"/>
              <a:ext cx="365760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0066"/>
                  </a:solidFill>
                  <a:latin typeface="Verdana"/>
                  <a:ea typeface="Times New Roman"/>
                </a:rPr>
                <a:t>reemplazando... Versión simple de MCI (modelo multiplicativo de interacción competitiv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24480" y="5181480"/>
              <a:ext cx="281952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0066"/>
                  </a:solidFill>
                  <a:latin typeface="Verdana"/>
                  <a:ea typeface="Times New Roman"/>
                </a:rPr>
                <a:t>reemplazando... Versión simple de MNL (modelo multinomial Logi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98BEA-4DAE-4BB4-969E-F3AB539D47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Teorema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38098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229320" indent="-22932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llos señalan que </a:t>
            </a:r>
            <a:r>
              <a:rPr b="1" lang="es-CL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el único determinante de la PM es la ATRACCIÓN que sienten los consumidores hacia cada marc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29320" indent="-22932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Hacen varios supuestos al respecto..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293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29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5238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ll, Keeney &amp; Little (BK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l comprar un producto, un consumidor debe escoger entre un marca de un set disponible en el mercad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BCD7C-44B4-4B7C-BDA4-1577435C82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Axiomas (BK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176040" indent="-176040">
              <a:lnSpc>
                <a:spcPct val="16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1 </a:t>
            </a:r>
            <a:r>
              <a:rPr b="1" lang="es-CL" sz="2400" spc="-1" strike="noStrike">
                <a:solidFill>
                  <a:srgbClr val="000000"/>
                </a:solidFill>
                <a:latin typeface="Kunstler Script"/>
                <a:ea typeface="Times New Roman"/>
              </a:rPr>
              <a:t>A 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0 para todo i y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Kunstler Script"/>
                <a:ea typeface="Times New Roman"/>
              </a:rPr>
              <a:t>A 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&gt;0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76040" indent="-176040">
              <a:lnSpc>
                <a:spcPct val="16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2 </a:t>
            </a:r>
            <a:r>
              <a:rPr b="1" lang="es-CL" sz="2400" spc="-1" strike="noStrike">
                <a:solidFill>
                  <a:srgbClr val="000000"/>
                </a:solidFill>
                <a:latin typeface="Kunstler Script"/>
                <a:ea typeface="Times New Roman"/>
              </a:rPr>
              <a:t>A 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=0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=0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76040" indent="-176040">
              <a:lnSpc>
                <a:spcPct val="16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3 </a:t>
            </a:r>
            <a:r>
              <a:rPr b="1" lang="es-CL" sz="2400" spc="-1" strike="noStrike">
                <a:solidFill>
                  <a:srgbClr val="000000"/>
                </a:solidFill>
                <a:latin typeface="Kunstler Script"/>
                <a:ea typeface="Times New Roman"/>
              </a:rPr>
              <a:t>A 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1" lang="es-CL" sz="2400" spc="-1" strike="noStrike">
                <a:solidFill>
                  <a:srgbClr val="000000"/>
                </a:solidFill>
                <a:latin typeface="Kunstler Script"/>
                <a:ea typeface="Times New Roman"/>
              </a:rPr>
              <a:t>A 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j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= s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j  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i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j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176040" indent="-176040">
              <a:lnSpc>
                <a:spcPct val="16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4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Kunstler Script"/>
                <a:ea typeface="Times New Roman"/>
              </a:rPr>
              <a:t>A 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j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ambia en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cambio en s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i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j) será independiente de j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1523880"/>
            <a:ext cx="8077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Kunstler Script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Kunstler Script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Kunstler Script"/>
                <a:ea typeface="Times New Roman"/>
              </a:rPr>
              <a:t>A 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tracción de la marca i (i=1,2,3,...,m) y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su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27864-7CE9-4481-838C-EE6AC88657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Teorema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154440" indent="-15444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 partir de los 4 axiomas, derivan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5444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5444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5444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154440" indent="-154440">
              <a:lnSpc>
                <a:spcPct val="160000"/>
              </a:lnSpc>
              <a:spcBef>
                <a:spcPts val="4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relacionarla con el esfuerzo de mktg, faltaría asumir que la atracción de una marca es proporcional al esfuerzo de mktg..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867120" y="2762280"/>
                <a:ext cx="140976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5BE7A-18D7-4453-A3B6-F14CA1BEAB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ARKET SHARE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s de PM están relacionados con casi todo..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s de Decisió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s de Marketing Mix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conométric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s de Promoción de Venta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6A51E-7DBC-4CC7-87C3-685154E868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s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5105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C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N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inea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ultiplicativ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33200" indent="-13320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xponencia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3320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55432-3ABA-4E83-B4A7-DF4F147B7A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 MCI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781360" y="1828800"/>
                <a:ext cx="358128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bSup>
                      </m:e>
                    </m:nary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724200" y="3429000"/>
                <a:ext cx="169560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0F92D-B200-43BD-976C-CA7AE1F797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 MNL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209680" y="1828800"/>
                <a:ext cx="472464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724200" y="3429000"/>
                <a:ext cx="169560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715000" y="5562720"/>
            <a:ext cx="2743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66"/>
                </a:solidFill>
                <a:latin typeface="Verdana"/>
                <a:ea typeface="Times New Roman"/>
              </a:rPr>
              <a:t>LOG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3CAA0-DAC3-4327-A3A5-9EC4F2DC21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304920"/>
            <a:ext cx="84582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= PM marc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= atracción marc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 = número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K = número de variables explic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i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= valor de la késima variable explicativa X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para la marca i 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(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= parámetro a estim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= parámetro, asociado a la influencia constante de la marc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=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3080" y="5638680"/>
            <a:ext cx="84582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*) precios, atributos del product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gastos en publicidad, distribución, fuerza de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4114800"/>
            <a:ext cx="8458200" cy="16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aquí en adelante usaremos atracción en vez de esfuerzo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ajo el supuesto de que son propor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11AD0-9EF4-47C6-AD13-39E8CA5C0E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 Lineal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040" y="34286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M de una marca es una función lineal de las variables del marketing mix y otras variables relevante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332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400480" y="1828800"/>
                <a:ext cx="434340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00481-2229-41DB-9EED-95C28C1051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 Multiplicativo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400480" y="1828800"/>
                <a:ext cx="434340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bSup>
                      </m:e>
                    </m:nary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19040" y="34286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M de una marca es producto de variables ponderadas y ajustadas por ciertos parámetro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7332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06DBA-41CA-4E66-8893-0EFFC6038C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 Exponencial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293920" y="1981080"/>
                <a:ext cx="455472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19040" y="342900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M de una marca es producto de variables ponderadas y ajustadas por ciertos parámetr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B5940-2867-4045-B0A2-76FD75712BE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s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040" y="1752480"/>
            <a:ext cx="8305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Conceptualmente muy difer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atemáticamente no tanto... transformaciones logarítm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1FF17-E9A6-4EEB-887A-5D317085F0F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s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76520"/>
            <a:ext cx="883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Naert &amp; Bultez proponen las siguientes condiciones para un modelo de P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as PM son no neg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as PM deben suma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Requerimientos de consistencia 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D8BF1-9C31-4C1B-A65D-27E76A69DD1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s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523880"/>
            <a:ext cx="8001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No lo cump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ultiplic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xpon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41148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lo cump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CI (Normalización de Multiplica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NL (Normalización de Exponen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E69A9-CF70-4C4B-9E4D-C5B86A47CE6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ARKET SHARE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miten estudio sistemático del mercado y las estructuras competitiva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ie, del complejo patrón de la interacción competitiva de un mercad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F5853-8B7C-4CCD-ABE4-5D9FC9BA42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s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inealización de M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43080" y="2057400"/>
            <a:ext cx="8458200" cy="4029840"/>
            <a:chOff x="343080" y="2057400"/>
            <a:chExt cx="8458200" cy="4029840"/>
          </a:xfrm>
        </p:grpSpPr>
        <p:grpSp>
          <p:nvGrpSpPr>
            <p:cNvPr id="144" name=""/>
            <p:cNvGrpSpPr/>
            <p:nvPr/>
          </p:nvGrpSpPr>
          <p:grpSpPr>
            <a:xfrm>
              <a:off x="914400" y="2057400"/>
              <a:ext cx="7086600" cy="1560600"/>
              <a:chOff x="914400" y="2057400"/>
              <a:chExt cx="7086600" cy="1560600"/>
            </a:xfrm>
          </p:grpSpPr>
          <mc:AlternateContent>
            <mc:Choice xmlns:a14="http://schemas.microsoft.com/office/drawing/2010/main" Requires="a14">
              <p:sp>
                <p:nvSpPr>
                  <p:cNvPr id="145" name=""/>
                  <p:cNvSpPr txBox="1"/>
                  <p:nvPr/>
                </p:nvSpPr>
                <p:spPr>
                  <a:xfrm>
                    <a:off x="914400" y="2327400"/>
                    <a:ext cx="4876920" cy="110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/>
                            </m:sSup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6" name=""/>
                  <p:cNvSpPr txBox="1"/>
                  <p:nvPr/>
                </p:nvSpPr>
                <p:spPr>
                  <a:xfrm>
                    <a:off x="6172200" y="2057400"/>
                    <a:ext cx="1828800" cy="1560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/>
                                </m:sSup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α</m:t>
                                    </m:r>
                                  </m:e>
                                </m:acc>
                              </m:e>
                            </m:d>
                          </m:e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/>
                                </m:sSup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ε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47" name=""/>
            <p:cNvSpPr/>
            <p:nvPr/>
          </p:nvSpPr>
          <p:spPr>
            <a:xfrm>
              <a:off x="343080" y="3657600"/>
              <a:ext cx="8458200" cy="24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~ = medias geométricas respectiv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= parámetros i=1...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Verdana"/>
                  <a:ea typeface="Times New Roman"/>
                </a:rPr>
                <a:t>i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= parámetros j=1...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demás se debe estimar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i="1" lang="es-MX" sz="2000" spc="-1" strike="noStrike" baseline="30000">
                  <a:solidFill>
                    <a:srgbClr val="000000"/>
                  </a:solidFill>
                  <a:latin typeface="Verdana"/>
                  <a:ea typeface="Times New Roman"/>
                </a:rPr>
                <a:t>2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(varianza de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0066"/>
                  </a:solidFill>
                  <a:latin typeface="Verdana"/>
                  <a:ea typeface="Times New Roman"/>
                </a:rPr>
                <a:t>Transformación “log-centering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81799-EC78-4E8F-87F7-6AB3C4CC7EB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s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inealización de M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43080" y="2590920"/>
            <a:ext cx="8458200" cy="2707560"/>
            <a:chOff x="343080" y="2590920"/>
            <a:chExt cx="8458200" cy="2707560"/>
          </a:xfrm>
        </p:grpSpPr>
        <p:sp>
          <p:nvSpPr>
            <p:cNvPr id="151" name=""/>
            <p:cNvSpPr/>
            <p:nvPr/>
          </p:nvSpPr>
          <p:spPr>
            <a:xfrm>
              <a:off x="343080" y="4343400"/>
              <a:ext cx="8458200" cy="95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= medias aritméticas respectiv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0066"/>
                  </a:solidFill>
                  <a:latin typeface="Verdana"/>
                  <a:ea typeface="Times New Roman"/>
                </a:rPr>
                <a:t>Modelos log-lineal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762120" y="2590920"/>
              <a:ext cx="7009920" cy="990000"/>
              <a:chOff x="762120" y="2590920"/>
              <a:chExt cx="7009920" cy="990000"/>
            </a:xfrm>
          </p:grpSpPr>
          <mc:AlternateContent>
            <mc:Choice xmlns:a14="http://schemas.microsoft.com/office/drawing/2010/main" Requires="a14">
              <p:sp>
                <p:nvSpPr>
                  <p:cNvPr id="153" name=""/>
                  <p:cNvSpPr txBox="1"/>
                  <p:nvPr/>
                </p:nvSpPr>
                <p:spPr>
                  <a:xfrm>
                    <a:off x="762120" y="2590920"/>
                    <a:ext cx="4883400" cy="94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/>
                            </m:sSup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4" name=""/>
                  <p:cNvSpPr txBox="1"/>
                  <p:nvPr/>
                </p:nvSpPr>
                <p:spPr>
                  <a:xfrm>
                    <a:off x="6197040" y="2590920"/>
                    <a:ext cx="1575000" cy="990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/>
                                </m:sSup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α</m:t>
                                    </m:r>
                                  </m:e>
                                </m:acc>
                              </m:e>
                            </m:d>
                          </m:e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/>
                                </m:sSup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ε</m:t>
                                    </m:r>
                                  </m:e>
                                </m:acc>
                              </m:e>
                            </m:d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84E37-E4C4-4EE9-A238-E60C4DFADB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lasticidades de la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68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s la proporción del cambio  en la participación de mercado correspondiente a un cambio en una variable del marketing mix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362320" y="4114800"/>
                <a:ext cx="434340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4FF72-D7CA-4DBE-AD22-B6D6C45B883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71680" y="1752480"/>
            <a:ext cx="80010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No se puede calcular la elasticidad sin adoptar un mod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l parecer la ecuación incluye sólo variables observabl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o... </a:t>
            </a:r>
            <a:r>
              <a:rPr b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corresponde a un cambio en una variable específica: </a:t>
            </a:r>
            <a:r>
              <a:rPr b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X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lasticidades de la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EFC63-CDFF-4365-B612-D487551529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lasticidades de la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168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680" y="18288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observamos un </a:t>
            </a:r>
            <a:r>
              <a:rPr b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de la PM de 3% en un perí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¿cómo sabemos cuánto de esto se debe a </a:t>
            </a:r>
            <a:r>
              <a:rPr b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re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ver los </a:t>
            </a:r>
            <a:r>
              <a:rPr b="1" lang="es-CL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efectos parciales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se necesita un modelo de 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30BF6-6639-492A-B5B9-B1966A77035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lasticidades de la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68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1680" y="18288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tra formula de la elastic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lasticidad punt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352680" y="3429000"/>
                <a:ext cx="228600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05106-4FF2-4892-B946-F8E482CB1BC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 de cada Modelo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68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1680" y="18288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 Line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 Multiplicativ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 Exponenci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572000" y="1676520"/>
                <a:ext cx="16765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172200" y="3187800"/>
                <a:ext cx="13716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791320" y="4572000"/>
                <a:ext cx="17524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35FEF-CF55-4074-9126-52D2A8ADBB9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 de cada Modelo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68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680" y="18288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 MC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 MN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108320" y="2362320"/>
                <a:ext cx="274968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089240" y="4572000"/>
                <a:ext cx="33022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28DE6-BEFA-441A-84A8-38679591A76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lasticidades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68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680" y="16002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ropiedades deseables de la 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Como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= Qs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Qi,x 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= e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Q,x 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+ e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si,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es una función creciente en X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six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0 si s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1 (porque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es estrcitamente creciente en X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six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0 si X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D79C6-1885-48E8-9D44-6EBB47DF627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lasticidades d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68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680" y="16002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Cómo se comporta la e en cada mode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uede ser criterio para escoger el model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ezclar MCI y MN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3467C-4074-4F51-86D7-D4C87E40716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jemplo: Cere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DISCUTIDO EN CLASES..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6A9DC-C8AC-4E18-B227-7EDF4C17DA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Modelo Gral de Atr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68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14240" y="1523880"/>
            <a:ext cx="7715160" cy="1601640"/>
            <a:chOff x="714240" y="1523880"/>
            <a:chExt cx="7715160" cy="1601640"/>
          </a:xfrm>
        </p:grpSpPr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714240" y="1676160"/>
                  <a:ext cx="541008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nary>
                        <m:naryPr>
                          <m:chr m:val="∏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  <m:e>
                          <m:sSup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ki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6733800" y="1523880"/>
                  <a:ext cx="1695600" cy="16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0" name=""/>
          <p:cNvSpPr/>
          <p:nvPr/>
        </p:nvSpPr>
        <p:spPr>
          <a:xfrm>
            <a:off x="343080" y="3429000"/>
            <a:ext cx="8458200" cy="30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= transformación monótona de X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i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Si f</a:t>
            </a:r>
            <a:r>
              <a:rPr b="0" lang="es-MX" sz="2400" spc="-1" strike="noStrike" baseline="-25000">
                <a:solidFill>
                  <a:srgbClr val="ff0066"/>
                </a:solidFill>
                <a:latin typeface="Verdana"/>
                <a:ea typeface="Times New Roman"/>
              </a:rPr>
              <a:t>k</a:t>
            </a:r>
            <a:r>
              <a:rPr b="0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 (X</a:t>
            </a:r>
            <a:r>
              <a:rPr b="0" lang="es-MX" sz="2400" spc="-1" strike="noStrike" baseline="-25000">
                <a:solidFill>
                  <a:srgbClr val="ff0066"/>
                </a:solidFill>
                <a:latin typeface="Verdana"/>
                <a:ea typeface="Times New Roman"/>
              </a:rPr>
              <a:t>ki</a:t>
            </a:r>
            <a:r>
              <a:rPr b="0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 )= X</a:t>
            </a:r>
            <a:r>
              <a:rPr b="0" lang="es-MX" sz="2400" spc="-1" strike="noStrike" baseline="-25000">
                <a:solidFill>
                  <a:srgbClr val="ff0066"/>
                </a:solidFill>
                <a:latin typeface="Verdana"/>
                <a:ea typeface="Times New Roman"/>
              </a:rPr>
              <a:t>ki </a:t>
            </a:r>
            <a:r>
              <a:rPr b="0" lang="es-MX" sz="2400" spc="-1" strike="noStrike">
                <a:solidFill>
                  <a:srgbClr val="ff0066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 Modelo M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Si f</a:t>
            </a:r>
            <a:r>
              <a:rPr b="0" lang="es-MX" sz="2400" spc="-1" strike="noStrike" baseline="-25000">
                <a:solidFill>
                  <a:srgbClr val="ff0066"/>
                </a:solidFill>
                <a:latin typeface="Verdana"/>
                <a:ea typeface="Times New Roman"/>
              </a:rPr>
              <a:t>k</a:t>
            </a:r>
            <a:r>
              <a:rPr b="0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 (X</a:t>
            </a:r>
            <a:r>
              <a:rPr b="0" lang="es-MX" sz="2400" spc="-1" strike="noStrike" baseline="-25000">
                <a:solidFill>
                  <a:srgbClr val="ff0066"/>
                </a:solidFill>
                <a:latin typeface="Verdana"/>
                <a:ea typeface="Times New Roman"/>
              </a:rPr>
              <a:t>ki</a:t>
            </a:r>
            <a:r>
              <a:rPr b="0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 )= exp (X</a:t>
            </a:r>
            <a:r>
              <a:rPr b="0" lang="es-MX" sz="2400" spc="-1" strike="noStrike" baseline="-25000">
                <a:solidFill>
                  <a:srgbClr val="ff0066"/>
                </a:solidFill>
                <a:latin typeface="Verdana"/>
                <a:ea typeface="Times New Roman"/>
              </a:rPr>
              <a:t>ki </a:t>
            </a:r>
            <a:r>
              <a:rPr b="0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)</a:t>
            </a:r>
            <a:r>
              <a:rPr b="0" lang="es-MX" sz="2400" spc="-1" strike="noStrike">
                <a:solidFill>
                  <a:srgbClr val="ff0066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 Modelo M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o no es necesario escoger (subíndice k), entonces puede depender de la naturaleza de la variable X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7FA7B-61C3-4BCF-B2C8-09F0D38F3F8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lasticidades Cruz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1371600"/>
            <a:ext cx="85345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e necesitan si queremos saber los efectos de las acciones de una sobre la PM de otr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la marca j cambia la variable X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j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en un pequeño monto </a:t>
            </a:r>
            <a:r>
              <a:rPr b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X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j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... La elasticidad cruzada 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roporción de cambio de la PM de la marca i provocada por un cambio en la variable X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 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e la marca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CAFAB-2B33-4634-AC25-053AEBB880D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lasticidades Cruz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1371600"/>
            <a:ext cx="85345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proporción de cambio de la PM de la marca i provocada por un cambio en la variable X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 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e la marca j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Sij 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... la primera (i) es la influenciada por la segunda (j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71880" y="3276720"/>
                <a:ext cx="4800600" cy="12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B009A-8CA5-4C6A-906F-D91B076FD77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lasticidades Cruz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60020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quivalentem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286000" y="2795760"/>
                <a:ext cx="464832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B8E47-1735-47A7-8770-8472373EAA9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e cruzada de cada Mod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680" y="1371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680" y="18288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 MC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 MN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876920" y="1905120"/>
                <a:ext cx="205740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724280" y="3809880"/>
                <a:ext cx="27432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1BB1C-AC04-472B-A3D9-7E4FE25FC2B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Principios Básicos de Modelos de Part. Mc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Modelos de Participación de Mercado, deben ser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etitivo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escriptivos y predictivo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rientado a utilidad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28764-E0F5-4C2A-9978-E80DE475C6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(1) Competi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o se puede saber la efectividad de una acción de mktg sin considerar las acciones de la competenc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91600" indent="-29160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os de una marca, pueden incluirla... pero en los modelos de PM es componente princip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91600" indent="0" algn="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Los modelos de PM buscan entender cómo los esfuerzos de mktg de cada marca influyen en los resultados de un mercado competitiv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916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6A888-D70C-4E11-AE95-418C4B24C6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(2) Descriptivos y Predictivos</a:t>
            </a: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ólo la descripción de la influenca de cada instrumento de mtkg entrega una base para la planificación de mktg... No basta la predicció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a descripción permite entender el mercado..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esfuerzos tienen potenciales efectos en la competencia y potenciales edfectos en la expansión del mercad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614C7-D451-4BAF-9D77-DBEE00AB99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(3) Orientación a </a:t>
            </a:r>
            <a:r>
              <a:rPr b="1" lang="es-MX" sz="7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391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5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ax PM ‡ Max </a:t>
            </a:r>
            <a:r>
              <a:rPr b="1" lang="es-CL" sz="6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i="1" lang="es-MX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Recordar que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las acciones de uno,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pueden afectar a todo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9B6C5-6BE9-4ACD-AC60-EB10CE81ED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9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66"/>
                </a:solidFill>
                <a:latin typeface="Verdana"/>
              </a:rPr>
              <a:t>A continuació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Relaciones entre esfuerzo de Marketing y PM (teorema básico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5280" indent="-48528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5 modelos alternativos de P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5280" indent="-48528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valuación de Modelo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5280" indent="-48528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Relaciones entre PM y probabilidad de elecció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5280" indent="-485280">
              <a:lnSpc>
                <a:spcPct val="140000"/>
              </a:lnSpc>
              <a:spcBef>
                <a:spcPts val="601"/>
              </a:spcBef>
              <a:buClr>
                <a:srgbClr val="ff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simetrías en mercados y competenc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5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98576-B65D-4734-A348-DCC5233E40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Administrador</cp:lastModifiedBy>
  <dcterms:modified xsi:type="dcterms:W3CDTF">2003-08-25T21:41:37Z</dcterms:modified>
  <cp:revision>272</cp:revision>
  <dc:subject/>
  <dc:title>IN58B Ingeniería de Marketing</dc:title>
</cp:coreProperties>
</file>