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52DE-F0E2-4DFD-88B0-E0DEAC66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2E2F-54A4-4FB3-A3E3-A1D1662F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7779-4E97-495A-B3DF-EB61EBB26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E0E2-D4CD-4CB8-9092-8DA67271F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E649-7068-4B04-8417-E11B49AB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97FB-DEF6-4871-8E28-65996962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59730-C231-4B60-ADF3-18F1B194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88DC7-BFB9-44C3-A207-E7077355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9C0E-03AD-4A0C-B89C-FC0A6511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5E495-F11D-41B3-8940-8C2B0F38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4EF4-8866-4BF1-86E5-689F77AD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4D2-6D46-4848-84F3-1BD7E52C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318F6-75A7-498E-8052-960C123D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243C-AA01-40FA-82A9-F7894C5D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D2D0-716A-4D83-A1E2-DE787F55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1B9F-EBFC-4DCC-A395-50C0B9BC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DAE3E-F8CB-4CD2-8B14-C056BCEBD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9B28-9BA4-4CE5-BFBC-39AEC2748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0D30-12AC-48B8-A52F-D0F2FF3F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34B-9344-4807-A090-8B7F8632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8DF4-3240-4B81-BEB6-59DD22A71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C07A-F9D6-417B-A960-556CFF5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57E-4EC1-47E1-83DE-223D8DC5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C9DF-934E-4688-8610-977060B8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CD54-3B58-4439-B92B-57AB73BBA36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5571D-DF1F-4B43-A3B4-9D3DCB2207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999900"/>
                </a:solidFill>
                <a:latin typeface="Garamond"/>
              </a:rPr>
              <a:t>Modelo de Programaci</a:t>
            </a:r>
            <a:r>
              <a:rPr b="0" lang="es-BO" sz="53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7360" y="5105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Gonzalo Salinas Col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Tutor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ndrés Weintr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Inquiri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didos en sistema con información muy general (mediano a largo plaz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serva de capacidades en Knitting Program. Tintorería como caja neg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reación en sistema de ordenes genéricas copiando las reservas y considerando Tintorería como máquina vir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reportan fechas de despacho de tela y flex 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definitivos de tela por sistema y en detalle (corto a mediano plaz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de ordenes de Inqs por muchas ordenes de APs. Un Inq puede estar formado por uno o más A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Inqs por APs en Knitt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requerimiento de materiales y de algunas cargas en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servas en el Programa de Tintorería, reservando máquinas a las car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nuevas fechas de despacho de t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rogram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jecución de ordenes de acuerdo a cálculos y Programas de Tintorería y Tejedu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ubdivisión de órdenes asignándoles máquinas en Tejedur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reación de Dyelots por color o estilo, en función al cálculo de cargas o con crit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ignación de material a ordenes de acuerdo a su dispon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ctualización del Programa de Tintorería con nuevos Dyelots o reemplazando cargas por Dyel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pia del Programa de Tintorería e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retrasos y estado de ped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Sistemas Alternos (Hojas Electrónicas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utilizan en actividades co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ejeduría (Knitting Prog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mater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rgas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pac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químicos y colo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eterminación de fec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¿Por qué Sistemas Alternos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 actual carece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s visuales apropi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acilidad en el cambio de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dentificación clara de pedidos y espacios asign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nsideración de capacidades fin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Un programa de tintorería automático, con información útil y fácil de prioriz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Herramientas para optimizar la progra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la única fuente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el único medio para ingresar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í, no puede ser aprovechado para responder rápidamente al c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Tampoco para mejorar la puntualidad en la entrega de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0000"/>
                </a:solidFill>
                <a:latin typeface="Verdana"/>
              </a:rPr>
              <a:t>Aún así mantiene grandes cantidades de información útil y muy relevante, pero que no puede aprovecha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s sistemas al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en realizar de manera eficaz las actividades de planificación y progra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on muy dependientes de las personas que los manej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demás son alimentados en gran parte con información del sistema ERP aunque man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No todas sus soluciones son copiadas a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n soluciones miopes y sub-óptimas a corto plazo y sin considerar todas las variables relev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0000"/>
                </a:solidFill>
                <a:latin typeface="Verdana"/>
              </a:rPr>
              <a:t>No están integrados con e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EJEDURÍ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846520"/>
            <a:ext cx="4114800" cy="3097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7320" y="60339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Visual Interactive Planning (V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53960" y="595800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Knitt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quisición del módulo VIP que eventualmente reemplazaría al Knit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¿</a:t>
            </a: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INTORERÍ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635120"/>
            <a:ext cx="8076960" cy="369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Modelo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de Programación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ser desarrollado también como sistema al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ro integrado con el sistema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permitir una visualización completa de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eguntas o D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ide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terminar diariamente o cuando se requiera, la secuencia de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ODOS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los Dyelots pendientes a procesarse de la manera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“más conveniente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apacidades mínima y máxima de cada máqu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cuencia de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ioridad de acuerdo al inicio del proceso siguiente según e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químicos y color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paci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Visión de Aps compl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tinción entre APs planificados y progra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nsideración de Inquiries y su reserva en una máquina vir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y du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Tipo de tela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el tiempo total de retr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cost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Maximizar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 ADICION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entradas del modelo propuesto serían los Dye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carga de los Dyelots se calcula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propuesta adicional se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para optimizar y automatizar el cálculo del tamaño de los Dyel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Brindar información completa, útil, oportuna y lo más aproximada a la realidad posible basada en soluciones óptimas y objetivas de tal modo que permita tomar decisiones de manera más rápida y coh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Utilizar de manera óptima la capacidad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decisiones acerca de la viabilidad de nuevos compromisos o adelantos de otros según se requ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Fomentar la actualización de información en 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grar soluciones óptim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utomatizar los procesos de planificación y progr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 O DUD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56068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ompañía fundada en 1965 en la ciudad de La Paz y considerada la empresa textil más importante de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cesos desde el hilado hasta la costura y acabado de prendas de vestir de algod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 empleo a 2.400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Aproximadamente 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ercado Textil y de Prendas de Vestir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ercado sofisticado que demanda innovaciones más frecuentes, mayor exclusividad, mayor variedad y mejor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Necesidades futuras cada vez más inciertas y sujetas a cambios más frecu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rgimiento de mercados externos y por ende liberalización comer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isión de la Compañí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MINISTRAR A NUESTROS CLIENTES CON PRODUCTOS TEXTILES DE GRAN CALIDAD Y EN UN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IEMPO OPORTUNO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Que se manifiesta 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cnología moderna para los equipos de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boratorio completamente equipado para el aseguramiento de la calida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Aseguramiento de la calidad en la línea, realizado por auditores certific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Entrenamiento y motiv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0000"/>
                </a:solidFill>
                <a:latin typeface="Verdana"/>
              </a:rPr>
              <a:t>Sistema de información basado en un ERP especializado en la industria textil y de confe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Cadena Textil Integrad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946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2600" y="5334120"/>
            <a:ext cx="9795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38080" y="1676520"/>
            <a:ext cx="2645640" cy="2209680"/>
            <a:chOff x="838080" y="1676520"/>
            <a:chExt cx="2645640" cy="2209680"/>
          </a:xfrm>
        </p:grpSpPr>
        <p:sp>
          <p:nvSpPr>
            <p:cNvPr id="108" name=""/>
            <p:cNvSpPr/>
            <p:nvPr/>
          </p:nvSpPr>
          <p:spPr>
            <a:xfrm rot="16200000">
              <a:off x="914400" y="2057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91440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914400" y="34290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14400" y="29718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914400" y="16002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4520" y="1676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Fibra de alg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080" y="21337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H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0320" y="2590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T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0720" y="350532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rendas de ves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8480" y="30481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iezas cort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8320" y="1676520"/>
            <a:ext cx="1904760" cy="6858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95480"/>
            <a:ext cx="190476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UNIVERSAL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A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M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334120"/>
            <a:ext cx="1905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63600">
            <a:off x="2819520" y="4876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962160" y="533376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83000">
            <a:off x="4385880" y="474156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455200">
            <a:off x="419076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394400">
            <a:off x="662940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05720" y="1752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5257800"/>
            <a:ext cx="1825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Fabricación de Tel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9051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06704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19810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391520" y="2209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05560" y="2895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133720"/>
            <a:ext cx="10666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" y="4597560"/>
            <a:ext cx="36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crudo bl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C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Teñ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4000" y="2535480"/>
            <a:ext cx="947160" cy="816840"/>
            <a:chOff x="1044000" y="2535480"/>
            <a:chExt cx="947160" cy="816840"/>
          </a:xfrm>
        </p:grpSpPr>
        <p:sp>
          <p:nvSpPr>
            <p:cNvPr id="154" name=""/>
            <p:cNvSpPr/>
            <p:nvPr/>
          </p:nvSpPr>
          <p:spPr>
            <a:xfrm rot="19127400">
              <a:off x="1248480" y="2901240"/>
              <a:ext cx="761760" cy="228240"/>
            </a:xfrm>
            <a:prstGeom prst="rightArrow">
              <a:avLst>
                <a:gd name="adj1" fmla="val 50000"/>
                <a:gd name="adj2" fmla="val 8343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18800">
              <a:off x="1019160" y="276480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734560"/>
            <a:ext cx="384120" cy="549360"/>
            <a:chOff x="2209680" y="2734560"/>
            <a:chExt cx="384120" cy="549360"/>
          </a:xfrm>
        </p:grpSpPr>
        <p:sp>
          <p:nvSpPr>
            <p:cNvPr id="157" name=""/>
            <p:cNvSpPr/>
            <p:nvPr/>
          </p:nvSpPr>
          <p:spPr>
            <a:xfrm rot="16279200">
              <a:off x="2261520" y="288000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71200">
              <a:off x="2068200" y="295668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71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7480" y="4572000"/>
            <a:ext cx="45486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teñida o la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seca y aca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Flujos de Planificación y Programació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6002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merci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523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ogra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Control 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051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2578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0574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9440" y="2342160"/>
            <a:ext cx="326880" cy="42120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418120"/>
            <a:ext cx="326880" cy="421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99000" y="2287440"/>
            <a:ext cx="374400" cy="392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724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46680" y="297180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26708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34800" y="3367080"/>
            <a:ext cx="893520" cy="428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10760" y="3519720"/>
            <a:ext cx="893160" cy="428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52578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041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 -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953800">
            <a:off x="4235760" y="262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0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692960" y="353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6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845240" y="48297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5 -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045400">
            <a:off x="4115160" y="373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5592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660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 -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904800">
            <a:off x="3429360" y="2209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0164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9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024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6 -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5016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5400">
            <a:off x="3886560" y="335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134400">
            <a:off x="4616640" y="23918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4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1312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3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134400">
            <a:off x="4845240" y="2239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18040" y="2189520"/>
            <a:ext cx="326880" cy="421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432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45508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7880" y="54100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lanificación </a:t>
            </a: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de Inq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0199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4200" y="57913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Planificación</a:t>
            </a:r>
            <a:r>
              <a:rPr b="1" lang="es-BO" sz="1400" spc="-1" strike="noStrike">
                <a:solidFill>
                  <a:srgbClr val="006600"/>
                </a:solidFill>
                <a:latin typeface="Verdana"/>
              </a:rPr>
              <a:t> de 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4008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6760" y="61722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rogramaci</a:t>
            </a:r>
            <a:r>
              <a:rPr b="1" lang="es-BO" sz="1400" spc="-1" strike="noStrike">
                <a:solidFill>
                  <a:srgbClr val="000066"/>
                </a:solidFill>
                <a:latin typeface="Verdana"/>
              </a:rPr>
              <a:t>ón de APs en T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0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FLUJ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4343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0-22T14:11:13Z</dcterms:modified>
  <cp:revision>13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