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D33D-5897-4FC7-91A4-19BDF562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D192-FED5-4845-A8CC-149DADAF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9F59-2021-450F-93EF-EDE3F663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C37E-175D-44F2-8F27-4CEBD5D35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860B-7470-418A-AEA8-9B916B2C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52AE-F7F0-4203-A85C-775654A2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A760-D4D0-4F4B-992E-5ED14B11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F593-105D-4BEF-84D5-532547FC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B865-C2FC-469D-B187-64D0CC58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1FBF-4CC9-4949-9FEB-4339593F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820D-B347-47F1-BC96-6986032C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1C37-5E1C-4248-8FC6-82B4352C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649F-311C-4ED0-9FD8-52AC4C92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0D9E-DF2A-42A6-BB9B-38883AE3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327D-B64B-44EC-8589-1E30BCCE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394E-6EA8-4AAE-84EE-9E22DBE2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34AF-E257-4D75-B64D-757F1569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1C06-9B1E-43DB-A138-C8EBFA61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7084-6E2B-4C21-BD87-F9E8FE95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BE5E-1189-47BD-BFF9-58CCD577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38E7-3899-43F7-862A-380795D2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B192-1C1F-4B44-9C02-D531BDFF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AF1D-5BC1-4398-B2B6-DFB29824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21C7-9757-4FC5-BA93-B552C172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8AE2-6CE4-44CD-B996-5AEE2F77909A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 Narrow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4DD9-F585-4CC6-B009-36F3EBD0F080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Desarrollo de un simulador de mercado para la gestión de categorías en supermercados</a:t>
            </a: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lejandra Puente C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02760" y="5680080"/>
            <a:ext cx="669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IN79L Preparación de Tesis    </a:t>
            </a: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Primavera 2004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Resultados esperad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Software especializado y amigable que permita mostrar los efectos de decisiones que tomen los administradores de categorías, sin riesgo de pérdidas de dinero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6629400" y="4038480"/>
            <a:ext cx="2154240" cy="25304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315920" y="56386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Tesis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Plan de trabaj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457200" y="152280"/>
          <a:ext cx="8381880" cy="63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280"/>
                    <a:ext cx="8381880" cy="63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Referenci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“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nálisis y evaluación de los proyectos pilotos de Administración por Categorías en Chile”, Oscar Arce G. (2000), Memoria. Universidad de Chile, Facultad de Cs. Físicas y Matemáticas, Depto de Ingeniería Civil Industrial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nformación proporcionada por Verónica Moreno P. (tesista MGO, DII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“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imMarket: Multiagent-Based Customer Simulation and Decision Support for Category Management”, 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rndt Schwaiger and Björn Stahmer. M. Schillo et al. (Eds.): MATES 2003, LNAI 2831, pp. 74–84, 2003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“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dministración por categorías, el caso de Industrias de Maíz y Alimentos y Supermercados Bravo”, Christian Paz G. (1999), Memoria. Universidad de Chile, Facultad de Cs. Físicas y Matemáticas, Depto de Ingeniería Civil Industrial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Introduc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Metodologí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Resultados esperad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Plan de trabaj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Referenci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715000" y="4800600"/>
            <a:ext cx="313704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ntecedent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CR (Efficient Customer Response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ategory Managem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Actualmente hay tesis y memorias relativas al tem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6248520" y="4572000"/>
            <a:ext cx="228600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Gener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Desarrollo de herramienta amigable para capacitación de A.C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specífic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Tomar como base trabajos realizados y extraer los resultados útil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Entender y “Traducir” los resultados para incorporarlos en el diseño del softwar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ntegrar los modelos y variables relevantes en el desarrollo del softwar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7238880" y="304920"/>
            <a:ext cx="160020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todologí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Revisión bibliográfica y trabajos actual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studiar modelos de comportamiento de compra y aplicabilidad al caso en estudio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Variables y reglas relevant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Diseño preliminar del simulador de mercad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Traspaso a código y depur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Diseño de Manual de Usuari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Avan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Breve revisión de trabajo de tesis existen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Modelación en Exten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Separada la generación de datos y las corridas de simulación para decisiones de los A.C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Se deben copiar y pegar los datos manualmente a planillas excel y en algunos casos formato tx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Ingreso de parámetros se debe hacer “dentro” del model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7467480" y="304920"/>
            <a:ext cx="1274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95816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Inicializ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838080" y="1066680"/>
          <a:ext cx="7162920" cy="556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66680"/>
                    <a:ext cx="7162920" cy="55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914400" y="533160"/>
            <a:ext cx="795816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Simulación para el jueg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80880" y="2666880"/>
          <a:ext cx="8382240" cy="36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666880"/>
                    <a:ext cx="8382240" cy="36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Y de la literatura..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Para satisfacer las necesidades de los clientes hay que conocerlos..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SimMarket: Simulación de consumidores individuales basados en sistema multi-agente y que incorpora factores externo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Utiliza redes de comportamiento (Bayesian nets)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Se modelan utilizando data mining (datos de tarjetas de clientes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60020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8:59:36Z</dcterms:created>
  <dc:creator>Alejandra Puente Ch.</dc:creator>
  <dc:description/>
  <dc:language>en-US</dc:language>
  <cp:lastModifiedBy>julie lagos</cp:lastModifiedBy>
  <dcterms:modified xsi:type="dcterms:W3CDTF">2004-10-22T14:10:09Z</dcterms:modified>
  <cp:revision>9</cp:revision>
  <dc:subject/>
  <dc:title>Desarrollo de un simulador de mercado para la gestión de categorías en supermercados  </dc:title>
</cp:coreProperties>
</file>