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6.jpeg" ContentType="image/jpeg"/>
  <Override PartName="/ppt/media/image1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9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5.gif" ContentType="image/gif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6056-C6FC-43AD-8118-D4AEB285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3364-5565-4AC7-B841-9FF5B071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1F02D-4835-443A-B5A9-11E5A6A6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BF7CD-55A2-4590-ADD3-DFD7CA816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C88F-93E1-4F3A-8FBC-3B8C3980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44F9-4DE1-48C4-8E02-E774B175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2700-29B0-4029-A3B9-2FE390B6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C236-7ACE-4D33-9E9F-41F04D9E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54B3-DE70-4E86-AC21-5731207B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68360" y="2048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BFE7-1D27-4E27-9F45-731D01E9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2B6F-D443-4CEB-AE0C-6855465A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16DB-CCAE-488C-8DD1-C6AD2583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8E42-9E72-476A-9035-DC28BCEA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4FE2-6660-41DF-AB07-34A84766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6A13-E748-44A1-BE33-B6AB7752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BFB6-8631-4EAE-AEB2-FF5A25F9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739320"/>
            <a:ext cx="264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29E4-34B7-4F76-BC9A-D802AD40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D6B3-1020-4BB7-AE6F-B7385A2B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9571-16BB-439D-ACC7-899F8EF1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90C0-EF92-498E-A287-568C8B8D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8360" y="2048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1FEC8-3ACB-4A5D-A85B-FEB7CC6B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9577-7841-4D1D-97D6-4B917163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3932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A532B-FC88-48EA-85DB-D4935D29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39320"/>
            <a:ext cx="8229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EC69E-E839-4B3F-9B5D-06C9BA26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D53F-B4CC-429E-8E6F-14C6CE22F50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09680" y="1197000"/>
            <a:ext cx="137880" cy="1411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47560" y="843120"/>
            <a:ext cx="139680" cy="1378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74680" y="565200"/>
            <a:ext cx="136440" cy="138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386af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324000" y="1015560"/>
            <a:ext cx="8497800" cy="3672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669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1066680"/>
            <a:ext cx="2867040" cy="3157560"/>
            <a:chOff x="0" y="1066680"/>
            <a:chExt cx="2867040" cy="3157560"/>
          </a:xfrm>
        </p:grpSpPr>
        <p:sp>
          <p:nvSpPr>
            <p:cNvPr id="49" name=""/>
            <p:cNvSpPr/>
            <p:nvPr/>
          </p:nvSpPr>
          <p:spPr>
            <a:xfrm>
              <a:off x="573120" y="3583080"/>
              <a:ext cx="576360" cy="64116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6120" y="1690560"/>
              <a:ext cx="574560" cy="64296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1320" y="1066680"/>
              <a:ext cx="585720" cy="6350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41560" y="3583080"/>
              <a:ext cx="583920" cy="64116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281320" y="1690560"/>
              <a:ext cx="585720" cy="64296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41560" y="2324160"/>
              <a:ext cx="583920" cy="633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324160"/>
              <a:ext cx="582480" cy="63324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16120" y="2324160"/>
              <a:ext cx="574560" cy="63324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3120" y="2948040"/>
              <a:ext cx="576360" cy="6444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1560" y="2948040"/>
              <a:ext cx="583920" cy="644400"/>
            </a:xfrm>
            <a:prstGeom prst="rect">
              <a:avLst/>
            </a:prstGeom>
            <a:solidFill>
              <a:srgbClr val="038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022E-F810-43C1-9931-9B03246D793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386af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4360" y="2319120"/>
            <a:ext cx="63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HDS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ación de Mapas de Kohonen de Alta Dimension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51280" y="4365720"/>
            <a:ext cx="5392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esenta: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bastián Be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rofesor Guía: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chard Web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1125360"/>
            <a:ext cx="6400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</a:rPr>
              <a:t>Magíster en Gestión de Oper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Trebuchet MS"/>
              </a:rPr>
              <a:t>Universidad de Chi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dea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“Visualizar un conjunto de datos de alta dimensionalidad en </a:t>
            </a:r>
            <a:r>
              <a:rPr b="0" i="1" lang="en-US" sz="3200" spc="-1" strike="noStrike">
                <a:solidFill>
                  <a:srgbClr val="ffff99"/>
                </a:solidFill>
                <a:latin typeface="Arial"/>
              </a:rPr>
              <a:t>un mapa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de baja dimensionalidad (2)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724360" y="3357720"/>
            <a:ext cx="259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fc1287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yec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fc1287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335772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antizació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49440" y="5157720"/>
            <a:ext cx="575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pas de Kohon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 rot="2944800">
            <a:off x="2231640" y="4330800"/>
            <a:ext cx="1008000" cy="360360"/>
          </a:xfrm>
          <a:prstGeom prst="rightArrow">
            <a:avLst>
              <a:gd name="adj1" fmla="val 50000"/>
              <a:gd name="adj2" fmla="val 69930"/>
            </a:avLst>
          </a:prstGeom>
          <a:gradFill rotWithShape="0">
            <a:gsLst>
              <a:gs pos="0">
                <a:srgbClr val="fc1287"/>
              </a:gs>
              <a:gs pos="100000">
                <a:srgbClr val="74083e"/>
              </a:gs>
            </a:gsLst>
            <a:lin ang="245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rot="18655200">
            <a:off x="5903640" y="4330800"/>
            <a:ext cx="1008000" cy="360000"/>
          </a:xfrm>
          <a:prstGeom prst="rightArrow">
            <a:avLst>
              <a:gd name="adj1" fmla="val 50000"/>
              <a:gd name="adj2" fmla="val 70000"/>
            </a:avLst>
          </a:prstGeom>
          <a:gradFill rotWithShape="0">
            <a:gsLst>
              <a:gs pos="0">
                <a:srgbClr val="fc1287"/>
              </a:gs>
              <a:gs pos="100000">
                <a:srgbClr val="74083e"/>
              </a:gs>
            </a:gsLst>
            <a:lin ang="245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: “World Poverty Ma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6920" y="1731960"/>
            <a:ext cx="7417080" cy="4361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: “World Poverty Map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84836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911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goritmo S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icializar los protot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contrar neurona ganadora (BM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odificar los vectores protot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spcBef>
                <a:spcPts val="601"/>
              </a:spcBef>
              <a:buClr>
                <a:srgbClr val="ffff99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olver a 3 hasta que no ocurran cambios significativos en el m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95640" y="2276640"/>
                <a:ext cx="129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908000" y="3141720"/>
                <a:ext cx="3816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"/>
                      </m:dPr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d>
                          <m:dPr>
                            <m:begChr m:val=""/>
                            <m:endChr m:val="}"/>
                          </m:dPr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195640" y="4164120"/>
                <a:ext cx="36716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195640" y="4818240"/>
                <a:ext cx="18000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084720" y="4214880"/>
            <a:ext cx="18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ara 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6769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ra forma de ver el map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6165720"/>
            <a:ext cx="705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9 Variables Asociadas a la Calidad de Vida del BM. (HU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1782720"/>
            <a:ext cx="735516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arámetros del Mode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finición de la función de vecindad y radios de converg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sa de aprendiz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Épo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nline v/s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imensionalidad del ma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2. Mapas de Kohon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ciencias de S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bliga adapatarse a una Gri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mputacionalmente Costo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ómo definir el número de neuronas requer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e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eservación Topológ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ficil Visualizar en más de 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a DI de un conjunto de datos es el mínimo número de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variables libre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que se requieren para representar los datos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sin pérdida de informació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Porqué encontrar la DI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horrar Espa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ejorar Veloc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apacidad de Generalización Ópt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22000"/>
            <a:ext cx="728352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 Dimensionalidad Frac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Statistically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Self-Simi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¿Cómo aumenta el número de vecinos a medida que aumenta la distanc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05636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69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mensionalidad Fract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91160" cy="798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3280" y="1413000"/>
            <a:ext cx="1865520" cy="680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284720" y="4005360"/>
            <a:ext cx="1873080" cy="433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50920" y="3500280"/>
            <a:ext cx="8208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emos una cota mínima de datos requeridos para estimar la D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565360"/>
            <a:ext cx="4038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l de Correl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1403280" y="4689360"/>
            <a:ext cx="590544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apas de Koh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mensionalidad Intríns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DS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todología y Plan de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ferenc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3. Dimensionalidad Intrínsic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218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datos suelen encontrarse embed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posible estimar la DI de un conjunto de da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relación entre la calidad de VQ y la 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diversas técnicas (Fractal, LP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mputacionalmente bar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uele ser su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920" y="1268280"/>
            <a:ext cx="8218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 Importa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Objetiv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</a:rPr>
              <a:t>“Explorar datos multidimensionales en mapas de Kohonen de alta dimensionalidad usando técnicas de proyección y visualización de información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otivca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datos suelen estar embed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dimensionalidad global difiere de la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Kohonen pierde mucha información en 2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c128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sar técnicas de </a:t>
            </a:r>
            <a:r>
              <a:rPr b="0" lang="es-CL" sz="2800" spc="-1" strike="noStrike">
                <a:solidFill>
                  <a:srgbClr val="ffff99"/>
                </a:solidFill>
                <a:latin typeface="Arial"/>
              </a:rPr>
              <a:t>infovi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para explor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xploración Bás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stimar DI </a:t>
            </a: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del conjunto n-dimens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struir Mapa en 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n dimen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ar  2-PCA sobre mapa en 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elecciono una reg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yecto 2-PCA de la reg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Volver a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HDSO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tros Elemen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99"/>
                </a:solidFill>
                <a:latin typeface="Arial"/>
              </a:rPr>
              <a:t>Linkear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a en p, con mapa en 2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Visualiz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alidar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mbiar método de V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apa de Navegación” (profundi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Soporte de Brus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ordenadas Parale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ndicadores Calidad PCA*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. Metodología y Plan de Trabaj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visión Bibliográf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eneración de Conjuntos de Datos Artifi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odificación de SOM Livia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o de PCA y otras proye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Ago. 04 – Feb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inking entre map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ic. 05 – Jun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rmado del prototipo Explor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ic. 05 – Jun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uebas, Análisis y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Jul. 05 – Ago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acción y Revisión Final de la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Sep. 05 – Dic. 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Referenci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Vesanto, Juha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SOM-Based Data Visualization Method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9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. Kumaraswamy, V. Megalooikonomou and C. Faloutsos.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“Fractal Dimension and Vector Quantization”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nformation Processing Letters, Vol. 91, No. 3, pp. 107-113, Aug. 2004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. Camastra, A. Vinciarelli. </a:t>
            </a: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“Estimating the Intrinsic Dimension of Data with a Fractal-Based Method”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EEE Transactions on Pattern Analysis and Machine Intelligence. Vol. 24 No.10. Oct. 200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Kohonen, Teuvo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Self Organizing Map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9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. demartines, and J. Herault,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Curvilinear Component Analysis: A Self-Organizing Neural Network for Nonlinear Mapping of Data Set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IEEE Trans. Neural Network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 vol. 8, NO 1, 1997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Hastie;Stuetzle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Principal Curves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8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ammon, J.W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A nonlinear mapping for data structure analysis.”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(196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Martinetz et.al. </a:t>
            </a:r>
            <a:r>
              <a:rPr b="0" lang="es-CL" sz="1600" spc="-1" strike="noStrike">
                <a:solidFill>
                  <a:srgbClr val="ffff99"/>
                </a:solidFill>
                <a:latin typeface="Arial"/>
              </a:rPr>
              <a:t>“Neural Gas network for vector quantization and its application to time series prediction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29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1835280" y="404640"/>
            <a:ext cx="56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¿Preguntas?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CL" sz="3600" spc="-1" strike="noStrike">
                <a:solidFill>
                  <a:srgbClr val="ffff99"/>
                </a:solidFill>
                <a:latin typeface="Arial"/>
              </a:rPr>
              <a:t>nube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de dato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Webl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rel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ecuencias de tetranucléot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ibliote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rac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564000" y="1916280"/>
            <a:ext cx="52815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unas pregun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Qué datos? ¿Cuánt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orden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manipulamo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extraemos informació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Cómo los incorporamos a un PT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300640"/>
            <a:ext cx="1728720" cy="504720"/>
          </a:xfrm>
          <a:prstGeom prst="rightArrow">
            <a:avLst>
              <a:gd name="adj1" fmla="val 50000"/>
              <a:gd name="adj2" fmla="val 8562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132000" y="5300640"/>
            <a:ext cx="2962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taMining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835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rendizaje No-Supervis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do un conjunto de da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ómo se distribuy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Cómo se relacion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En qué espacio vive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c128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ómo los puedo ver, representar y enten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64000" y="1144440"/>
            <a:ext cx="3240360" cy="3167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80000" y="4416480"/>
            <a:ext cx="28814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6121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antización Vectorial (VQ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resentar al conjunto de datos por </a:t>
            </a:r>
            <a:r>
              <a:rPr b="0" lang="es-CL" sz="2400" spc="-1" strike="noStrike">
                <a:solidFill>
                  <a:srgbClr val="ffff99"/>
                </a:solidFill>
                <a:latin typeface="Arial"/>
              </a:rPr>
              <a:t>vectores prototip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mpre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mpr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lus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K-Me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Jerárqu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KN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orono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unciónes Dista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45370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932360" y="228276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0920" y="1484280"/>
            <a:ext cx="561636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antización Vectorial (VQ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blem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versos tipos de atribu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cal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mas Arbitr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nsibilidad a Outli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ámetros de Ent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186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ción Vectorial (V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ffff"/>
                </a:solidFill>
                <a:latin typeface="Arial"/>
              </a:rPr>
              <a:t>Análisis de Componentes Princip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triz de Covari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igen values, ve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btenem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riables No- Correlacion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Ordenados por Varia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sólo una transf. Lin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Buena pa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3280" y="205596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0484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Introduc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139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yección Vectorial (V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CA, CDA, NPCA, MDS, Sammon Mapping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88840" y="3068640"/>
            <a:ext cx="74282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00:08:45Z</dcterms:created>
  <dc:creator>.</dc:creator>
  <dc:description/>
  <dc:language>en-US</dc:language>
  <cp:lastModifiedBy>julie lagos</cp:lastModifiedBy>
  <dcterms:modified xsi:type="dcterms:W3CDTF">2004-11-10T13:25:55Z</dcterms:modified>
  <cp:revision>151</cp:revision>
  <dc:subject/>
  <dc:title>Visualización de Información</dc:title>
</cp:coreProperties>
</file>