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765-E743-49B6-9883-61A0F1FF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4E8-1534-47CB-9CAE-9C7C91E0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515-E0ED-4DD9-A731-4B5BC1F1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5FE-6A43-4CC3-9F6B-59537450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B5BC-9A13-4B36-AF33-74B1AF72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F18-0A02-4B48-8BF2-CC587059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08CF-F340-435F-ADA7-1991D18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9F5-207B-43D0-BA9B-051D1D8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2B6-15DE-456E-A6FF-AE397B6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A11F-43E9-490C-81DB-2F9A58B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812C-A30F-472F-BEF4-B346622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039-7D9C-41BB-AC81-58456793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E00C-9558-4D81-A4E6-70BB203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874-C4B5-4663-A87F-12D1E1A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C57-63B9-400F-B820-AFD70718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3B71-36DB-4F66-8FE8-BEF0CA9F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07F-C548-4C0F-A30E-77922D8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1CD-3F50-41C7-9E44-4782BE49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4D2-A6F2-4447-AD69-85B29E8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EEC-E352-43F6-A37D-3DB5C6A9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4CA-81BB-4322-BBDB-735D1865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4D2-A8F1-4A86-9734-FA454C7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8C2-DAAD-4E15-BEAE-55C0499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2F9-A2E0-4DCB-BA36-C0E1C14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273-200B-458F-A72D-A293A31FB6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E44-A1EA-46E3-A257-B635B794AD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11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11.jpeg"/><Relationship Id="rId30" Type="http://schemas.openxmlformats.org/officeDocument/2006/relationships/image" Target="../media/image9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Sistema de Programaci</a:t>
            </a:r>
            <a:r>
              <a:rPr b="0" lang="es-BO" sz="54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66560" y="51055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Guía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Guillerm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 consiste en asignar de manera “óptima” una serie de ordenes a un cierto grupo d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modelo se caracteriza por medio de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 ambiente de la maqu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racterísticas y restricciones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todología para soluciona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4540320"/>
            <a:ext cx="12189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117324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685960" y="2300400"/>
            <a:ext cx="1581120" cy="3659040"/>
            <a:chOff x="2685960" y="2300400"/>
            <a:chExt cx="1581120" cy="3659040"/>
          </a:xfrm>
        </p:grpSpPr>
        <p:grpSp>
          <p:nvGrpSpPr>
            <p:cNvPr id="302" name=""/>
            <p:cNvGrpSpPr/>
            <p:nvPr/>
          </p:nvGrpSpPr>
          <p:grpSpPr>
            <a:xfrm>
              <a:off x="2943000" y="2300400"/>
              <a:ext cx="790560" cy="366480"/>
              <a:chOff x="2943000" y="2300400"/>
              <a:chExt cx="790560" cy="3664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828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300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943000" y="2300400"/>
                <a:ext cx="790560" cy="36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160" y="2952720"/>
              <a:ext cx="1121040" cy="1162080"/>
              <a:chOff x="2819160" y="2952720"/>
              <a:chExt cx="1121040" cy="1162080"/>
            </a:xfrm>
          </p:grpSpPr>
          <p:pic>
            <p:nvPicPr>
              <p:cNvPr id="3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2440" y="3075120"/>
                <a:ext cx="527400" cy="43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9160" y="33807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2440" y="35643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5400000">
                <a:off x="2798640" y="2973240"/>
                <a:ext cx="1162080" cy="1121040"/>
              </a:xfrm>
              <a:custGeom>
                <a:avLst/>
                <a:gdLst>
                  <a:gd name="textAreaLeft" fmla="*/ 255600 w 1162080"/>
                  <a:gd name="textAreaRight" fmla="*/ 906480 w 1162080"/>
                  <a:gd name="textAreaTop" fmla="*/ 246600 h 1121040"/>
                  <a:gd name="textAreaBottom" fmla="*/ 874440 h 11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85960" y="4456080"/>
              <a:ext cx="1581120" cy="673200"/>
              <a:chOff x="2685960" y="4456080"/>
              <a:chExt cx="1581120" cy="6732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596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652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685960" y="4456080"/>
                <a:ext cx="1581120" cy="67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152520" y="5410080"/>
              <a:ext cx="657360" cy="549360"/>
              <a:chOff x="3152520" y="5410080"/>
              <a:chExt cx="657360" cy="54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520" y="5410080"/>
                <a:ext cx="657360" cy="54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152520" y="5410080"/>
                <a:ext cx="657360" cy="54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62120" y="2252520"/>
            <a:ext cx="1096560" cy="3614760"/>
            <a:chOff x="762120" y="2252520"/>
            <a:chExt cx="1096560" cy="3614760"/>
          </a:xfrm>
        </p:grpSpPr>
        <p:grpSp>
          <p:nvGrpSpPr>
            <p:cNvPr id="319" name=""/>
            <p:cNvGrpSpPr/>
            <p:nvPr/>
          </p:nvGrpSpPr>
          <p:grpSpPr>
            <a:xfrm>
              <a:off x="762120" y="4419720"/>
              <a:ext cx="1083960" cy="725040"/>
              <a:chOff x="762120" y="4419720"/>
              <a:chExt cx="1083960" cy="72504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0040" y="4809600"/>
                <a:ext cx="332280" cy="33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18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40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2120" y="4419720"/>
                <a:ext cx="32832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990720" y="2252520"/>
              <a:ext cx="836280" cy="414000"/>
              <a:chOff x="990720" y="2252520"/>
              <a:chExt cx="836280" cy="414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0720" y="2388240"/>
                <a:ext cx="1645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04200" y="225252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43960" y="225864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663560" y="2395080"/>
                <a:ext cx="163440" cy="18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396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420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838440" y="3257640"/>
              <a:ext cx="1018800" cy="497880"/>
              <a:chOff x="838440" y="3257640"/>
              <a:chExt cx="1018800" cy="4978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38000" y="3528720"/>
                <a:ext cx="21924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4480" y="325764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8440" y="3392640"/>
                <a:ext cx="218160" cy="22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31160" y="3257640"/>
                <a:ext cx="2170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374480" y="352872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10240" y="352872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110240" y="325764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990720" y="5595840"/>
              <a:ext cx="867960" cy="271440"/>
              <a:chOff x="990720" y="5595840"/>
              <a:chExt cx="867960" cy="2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9480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31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343" name=""/>
          <p:cNvGrpSpPr/>
          <p:nvPr/>
        </p:nvGrpSpPr>
        <p:grpSpPr>
          <a:xfrm>
            <a:off x="2133720" y="2405160"/>
            <a:ext cx="304560" cy="3386160"/>
            <a:chOff x="2133720" y="2405160"/>
            <a:chExt cx="304560" cy="3386160"/>
          </a:xfrm>
        </p:grpSpPr>
        <p:sp>
          <p:nvSpPr>
            <p:cNvPr id="344" name=""/>
            <p:cNvSpPr/>
            <p:nvPr/>
          </p:nvSpPr>
          <p:spPr>
            <a:xfrm>
              <a:off x="2133720" y="240516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40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56386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2133720"/>
            <a:ext cx="1371600" cy="4343400"/>
            <a:chOff x="609480" y="2133720"/>
            <a:chExt cx="1371600" cy="4343400"/>
          </a:xfrm>
        </p:grpSpPr>
        <p:sp>
          <p:nvSpPr>
            <p:cNvPr id="349" name=""/>
            <p:cNvSpPr/>
            <p:nvPr/>
          </p:nvSpPr>
          <p:spPr>
            <a:xfrm>
              <a:off x="609480" y="2133720"/>
              <a:ext cx="137160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6095880"/>
              <a:ext cx="137160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14600" y="2133720"/>
            <a:ext cx="1905120" cy="4343400"/>
            <a:chOff x="2514600" y="2133720"/>
            <a:chExt cx="1905120" cy="4343400"/>
          </a:xfrm>
        </p:grpSpPr>
        <p:sp>
          <p:nvSpPr>
            <p:cNvPr id="352" name=""/>
            <p:cNvSpPr/>
            <p:nvPr/>
          </p:nvSpPr>
          <p:spPr>
            <a:xfrm>
              <a:off x="2514600" y="2133720"/>
              <a:ext cx="190512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6095880"/>
              <a:ext cx="190512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ÁQUIN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TEÑIDO Y LAV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05520" y="2286000"/>
            <a:ext cx="1216080" cy="1577520"/>
            <a:chOff x="5105520" y="2286000"/>
            <a:chExt cx="1216080" cy="1577520"/>
          </a:xfrm>
        </p:grpSpPr>
        <p:pic>
          <p:nvPicPr>
            <p:cNvPr id="355" name="" descr=""/>
            <p:cNvPicPr/>
            <p:nvPr/>
          </p:nvPicPr>
          <p:blipFill>
            <a:blip r:embed="rId31"/>
            <a:stretch/>
          </p:blipFill>
          <p:spPr>
            <a:xfrm>
              <a:off x="5105520" y="3124080"/>
              <a:ext cx="12160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2"/>
            <a:stretch/>
          </p:blipFill>
          <p:spPr>
            <a:xfrm>
              <a:off x="5105520" y="2286000"/>
              <a:ext cx="1216080" cy="73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952880" y="2133720"/>
            <a:ext cx="1524240" cy="2209680"/>
            <a:chOff x="4952880" y="2133720"/>
            <a:chExt cx="1524240" cy="2209680"/>
          </a:xfrm>
        </p:grpSpPr>
        <p:sp>
          <p:nvSpPr>
            <p:cNvPr id="358" name=""/>
            <p:cNvSpPr/>
            <p:nvPr/>
          </p:nvSpPr>
          <p:spPr>
            <a:xfrm>
              <a:off x="4952880" y="2133720"/>
              <a:ext cx="1524240" cy="18288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396252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ID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TRACT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4419720"/>
            <a:ext cx="1524240" cy="1294920"/>
            <a:chOff x="4952880" y="4419720"/>
            <a:chExt cx="1524240" cy="1294920"/>
          </a:xfrm>
        </p:grpSpPr>
        <p:sp>
          <p:nvSpPr>
            <p:cNvPr id="361" name=""/>
            <p:cNvSpPr/>
            <p:nvPr/>
          </p:nvSpPr>
          <p:spPr>
            <a:xfrm>
              <a:off x="4952880" y="4419720"/>
              <a:ext cx="1524240" cy="9140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533376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MPACT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2666880"/>
            <a:ext cx="1523880" cy="1295640"/>
            <a:chOff x="7086600" y="2666880"/>
            <a:chExt cx="1523880" cy="1295640"/>
          </a:xfrm>
        </p:grpSpPr>
        <p:sp>
          <p:nvSpPr>
            <p:cNvPr id="364" name=""/>
            <p:cNvSpPr/>
            <p:nvPr/>
          </p:nvSpPr>
          <p:spPr>
            <a:xfrm>
              <a:off x="7086600" y="2666880"/>
              <a:ext cx="1523880" cy="9144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3581280"/>
              <a:ext cx="152388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10280" y="4724280"/>
            <a:ext cx="1752480" cy="1311120"/>
            <a:chOff x="7010280" y="4724280"/>
            <a:chExt cx="1752480" cy="1311120"/>
          </a:xfrm>
        </p:grpSpPr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7010280" y="4724280"/>
              <a:ext cx="17524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4"/>
            <a:stretch/>
          </p:blipFill>
          <p:spPr>
            <a:xfrm>
              <a:off x="7314840" y="5486400"/>
              <a:ext cx="114300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934320" y="4724280"/>
            <a:ext cx="1904760" cy="1752840"/>
            <a:chOff x="6934320" y="4724280"/>
            <a:chExt cx="1904760" cy="1752840"/>
          </a:xfrm>
        </p:grpSpPr>
        <p:sp>
          <p:nvSpPr>
            <p:cNvPr id="370" name=""/>
            <p:cNvSpPr/>
            <p:nvPr/>
          </p:nvSpPr>
          <p:spPr>
            <a:xfrm>
              <a:off x="6934320" y="4724280"/>
              <a:ext cx="1904760" cy="13716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4320" y="6095880"/>
              <a:ext cx="190476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720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474960" y="3048120"/>
            <a:ext cx="622800" cy="1774440"/>
            <a:chOff x="6474960" y="3048120"/>
            <a:chExt cx="622800" cy="1774440"/>
          </a:xfrm>
        </p:grpSpPr>
        <p:sp>
          <p:nvSpPr>
            <p:cNvPr id="375" name=""/>
            <p:cNvSpPr/>
            <p:nvPr/>
          </p:nvSpPr>
          <p:spPr>
            <a:xfrm>
              <a:off x="6629400" y="3048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177000">
              <a:off x="6331320" y="4323240"/>
              <a:ext cx="909720" cy="152280"/>
            </a:xfrm>
            <a:prstGeom prst="rightArrow">
              <a:avLst>
                <a:gd name="adj1" fmla="val 50000"/>
                <a:gd name="adj2" fmla="val 14935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5400000">
            <a:off x="7581240" y="43052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29200" y="5790960"/>
            <a:ext cx="1371600" cy="609840"/>
            <a:chOff x="5029200" y="5790960"/>
            <a:chExt cx="1371600" cy="609840"/>
          </a:xfrm>
        </p:grpSpPr>
        <p:sp>
          <p:nvSpPr>
            <p:cNvPr id="379" name=""/>
            <p:cNvSpPr/>
            <p:nvPr/>
          </p:nvSpPr>
          <p:spPr>
            <a:xfrm>
              <a:off x="5029200" y="6096240"/>
              <a:ext cx="137160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Químicos </a:t>
              </a:r>
              <a:r>
                <a:rPr b="1" lang="es-BO" sz="1600" spc="-1" strike="noStrike">
                  <a:solidFill>
                    <a:srgbClr val="000000"/>
                  </a:solidFill>
                  <a:latin typeface="Verdana"/>
                </a:rPr>
                <a:t>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029200" y="5790960"/>
              <a:ext cx="1371600" cy="305280"/>
              <a:chOff x="5029200" y="5790960"/>
              <a:chExt cx="1371600" cy="305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029200" y="5790960"/>
                <a:ext cx="1371240" cy="305280"/>
                <a:chOff x="5029200" y="5790960"/>
                <a:chExt cx="1371240" cy="305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29200" y="579132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5923440" y="579096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46440" y="5791320"/>
                  <a:ext cx="477000" cy="3049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029200" y="5791320"/>
                <a:ext cx="1371600" cy="304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lorantes </a:t>
                </a:r>
                <a:r>
                  <a:rPr b="1" lang="es-BO" sz="1600" spc="-1" strike="noStrike">
                    <a:solidFill>
                      <a:srgbClr val="000000"/>
                    </a:solidFill>
                    <a:latin typeface="Verdana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1640" y="5866920"/>
            <a:ext cx="2286360" cy="457560"/>
            <a:chOff x="4571640" y="5866920"/>
            <a:chExt cx="2286360" cy="457560"/>
          </a:xfrm>
        </p:grpSpPr>
        <p:sp>
          <p:nvSpPr>
            <p:cNvPr id="387" name=""/>
            <p:cNvSpPr/>
            <p:nvPr/>
          </p:nvSpPr>
          <p:spPr>
            <a:xfrm>
              <a:off x="655308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571640" y="58669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457164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17680" y="147960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MAQUINARIA Y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función objetivo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l porcentaje o número de envíos pun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retraso promedio de las ordenes, pudiendo usarse ponderadores o minimización del máximo retraso (del peor ca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 la utilización de la maqu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tiempo de finalización de la última orden (se maximiza la produc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 la suma de tiempos de finalización de todas las ordenes, es decir, del tiempo de flujo (se minimiza el inventario en proce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metodologías más emplead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glas simples de pri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ción Matemática, que incluye enfoques de programación dinámica y branch and bound (R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Técnicas algorítmicas que buscan mas que nada soluciones robustas (combinación de heurísticas y reglas simples de prioriz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Búsqueda dirigida por restricciones, donde se buscan soluciones factibles que cumplan todas las reglas (Constraint Programming y Programación). Está alineada con 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iseño del Sist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tá compuesto básicamente por tres subsis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ministración de Base de Datos: donde se deben manejar datos de la planta y del trabajo mismo (interacción con E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: que incluye los módulos de generación, edición y análisi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fase del usuario, por ejemplo gráficos Gan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tener programas completos, útiles, realistas y de manera oportuna basados en soluciones “óptimas” y objetivas de tal modo que sirvan como base para la proyección de la producción de ordenes en Tintorería en el corto,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sarrollar de manera más eficiente los procesos de planificación y programación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flexibilidad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Obtener programas óptimos o con soluciones robust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GRAMACIÓN DE ACTIVIDADE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Gráfico Gant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NOV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DI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ENE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B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725280" y="49528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00200" y="1981080"/>
            <a:ext cx="6858000" cy="2819520"/>
            <a:chOff x="1600200" y="1981080"/>
            <a:chExt cx="6858000" cy="2819520"/>
          </a:xfrm>
        </p:grpSpPr>
        <p:sp>
          <p:nvSpPr>
            <p:cNvPr id="410" name=""/>
            <p:cNvSpPr/>
            <p:nvPr/>
          </p:nvSpPr>
          <p:spPr>
            <a:xfrm>
              <a:off x="1600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3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2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600200" y="2286000"/>
            <a:ext cx="4800600" cy="457200"/>
          </a:xfrm>
          <a:prstGeom prst="rect">
            <a:avLst/>
          </a:prstGeom>
          <a:gradFill rotWithShape="0">
            <a:gsLst>
              <a:gs pos="0">
                <a:srgbClr val="a0c9c9"/>
              </a:gs>
              <a:gs pos="50000">
                <a:srgbClr val="ccffff"/>
              </a:gs>
              <a:gs pos="100000">
                <a:srgbClr val="a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Revisión Bibli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772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GO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2895480"/>
            <a:ext cx="1904760" cy="457200"/>
          </a:xfrm>
          <a:prstGeom prst="rect">
            <a:avLst/>
          </a:prstGeom>
          <a:gradFill rotWithShape="0">
            <a:gsLst>
              <a:gs pos="0">
                <a:srgbClr val="c9c950"/>
              </a:gs>
              <a:gs pos="50000">
                <a:srgbClr val="ffff66"/>
              </a:gs>
              <a:gs pos="100000">
                <a:srgbClr val="c9c9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rabajo de Ca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505320"/>
            <a:ext cx="3048120" cy="457200"/>
          </a:xfrm>
          <a:prstGeom prst="rect">
            <a:avLst/>
          </a:prstGeom>
          <a:gradFill rotWithShape="0">
            <a:gsLst>
              <a:gs pos="0">
                <a:srgbClr val="a0c9a0"/>
              </a:gs>
              <a:gs pos="50000">
                <a:srgbClr val="ccffcc"/>
              </a:gs>
              <a:gs pos="100000">
                <a:srgbClr val="a0c9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Formulación y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 la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114800"/>
            <a:ext cx="2361960" cy="457200"/>
          </a:xfrm>
          <a:prstGeom prst="rect">
            <a:avLst/>
          </a:prstGeom>
          <a:gradFill rotWithShape="0">
            <a:gsLst>
              <a:gs pos="0">
                <a:srgbClr val="e2b487"/>
              </a:gs>
              <a:gs pos="50000">
                <a:srgbClr val="ffcc99"/>
              </a:gs>
              <a:gs pos="100000">
                <a:srgbClr val="e2b4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1981080"/>
            <a:ext cx="457200" cy="28195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216360" y="3364560"/>
            <a:ext cx="218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838760" y="1866600"/>
            <a:ext cx="380880" cy="68580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Verdana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FERENCIAS BIBLIOGRÁFIC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. Pinedo, R. Samroengraja and B. Yen, “Design Issues with Regard to Scheduling Systems in Manufactur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Columbia University, New York, New York 1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J. Rickel, “Issues in the Design of Scheduling Systems”, in “Expert Systems and Intelligent Manufacturing”, (M.D. Oliff, ed.)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Elsevier Science Publishing Co.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K.R. Baker, “Introduction to Sequencing and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John Wile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amp; Sons, New York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.W. Conway, W.L. Maxwell and L.W. Miller, “Theory of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Addison-Wesley Publishing Co., Reading, MA., 1967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41720" y="2228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21528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513320" y="27622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343400" y="3371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114800" y="45910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4114800" y="3981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114800" y="54291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3200400" y="2838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3827520" y="20574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olución Propu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 y con procesos que van desde el hilado hasta la costura y acabado de prendas de vestir de algod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2.400 empl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ceso de Fabricación de Tela -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10666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5909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305560" y="2133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05560" y="3504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152388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73400">
            <a:off x="1371240" y="396216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00" y="5032440"/>
            <a:ext cx="313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crudo b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Cr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Teñ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1000" y="2584800"/>
            <a:ext cx="948240" cy="817200"/>
            <a:chOff x="891000" y="2584800"/>
            <a:chExt cx="948240" cy="817200"/>
          </a:xfrm>
        </p:grpSpPr>
        <p:sp>
          <p:nvSpPr>
            <p:cNvPr id="119" name=""/>
            <p:cNvSpPr/>
            <p:nvPr/>
          </p:nvSpPr>
          <p:spPr>
            <a:xfrm rot="19127400">
              <a:off x="1096560" y="2950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18800">
              <a:off x="866160" y="28137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77120" y="2817000"/>
            <a:ext cx="471600" cy="1069200"/>
            <a:chOff x="1977120" y="2817000"/>
            <a:chExt cx="471600" cy="1069200"/>
          </a:xfrm>
        </p:grpSpPr>
        <p:sp>
          <p:nvSpPr>
            <p:cNvPr id="122" name=""/>
            <p:cNvSpPr/>
            <p:nvPr/>
          </p:nvSpPr>
          <p:spPr>
            <a:xfrm rot="16279200">
              <a:off x="1865880" y="3167280"/>
              <a:ext cx="920160" cy="223920"/>
            </a:xfrm>
            <a:prstGeom prst="rightArrow">
              <a:avLst>
                <a:gd name="adj1" fmla="val 50000"/>
                <a:gd name="adj2" fmla="val 1027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371200">
              <a:off x="1632600" y="3313800"/>
              <a:ext cx="919440" cy="223200"/>
            </a:xfrm>
            <a:prstGeom prst="rightArrow">
              <a:avLst>
                <a:gd name="adj1" fmla="val 50000"/>
                <a:gd name="adj2" fmla="val 1029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447920" y="3733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12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90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3581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8240" y="5006880"/>
            <a:ext cx="3891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cruda prepa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teñida o 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Verdana"/>
              </a:rPr>
              <a:t>Tela seca y acab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1523880"/>
            <a:ext cx="4496040" cy="2286000"/>
            <a:chOff x="3124080" y="1523880"/>
            <a:chExt cx="4496040" cy="2286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248520" y="2362320"/>
              <a:ext cx="12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rcRect l="0" t="0" r="50533" b="0"/>
            <a:stretch/>
          </p:blipFill>
          <p:spPr>
            <a:xfrm>
              <a:off x="3124080" y="2743200"/>
              <a:ext cx="144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00600" y="2286000"/>
              <a:ext cx="114300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19810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2666880"/>
              <a:ext cx="152424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1523880"/>
              <a:ext cx="312444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9200" y="2432880"/>
            <a:ext cx="5331960" cy="1627920"/>
            <a:chOff x="2689200" y="2432880"/>
            <a:chExt cx="5331960" cy="1627920"/>
          </a:xfrm>
        </p:grpSpPr>
        <p:sp>
          <p:nvSpPr>
            <p:cNvPr id="144" name=""/>
            <p:cNvSpPr/>
            <p:nvPr/>
          </p:nvSpPr>
          <p:spPr>
            <a:xfrm rot="20218800">
              <a:off x="6324480" y="3581280"/>
              <a:ext cx="304920" cy="381240"/>
            </a:xfrm>
            <a:prstGeom prst="upArrow">
              <a:avLst>
                <a:gd name="adj1" fmla="val 50000"/>
                <a:gd name="adj2" fmla="val 31257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22600">
              <a:off x="7475040" y="31446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437000">
              <a:off x="2843280" y="24415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4382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lanificación y Programación en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905120"/>
            <a:ext cx="380520" cy="75960"/>
            <a:chOff x="3429000" y="1905120"/>
            <a:chExt cx="380520" cy="75960"/>
          </a:xfrm>
        </p:grpSpPr>
        <p:sp>
          <p:nvSpPr>
            <p:cNvPr id="155" name=""/>
            <p:cNvSpPr/>
            <p:nvPr/>
          </p:nvSpPr>
          <p:spPr>
            <a:xfrm>
              <a:off x="342900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56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24382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724280"/>
            <a:ext cx="457200" cy="609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91320" y="1905120"/>
            <a:ext cx="380520" cy="75960"/>
            <a:chOff x="5791320" y="1905120"/>
            <a:chExt cx="380520" cy="75960"/>
          </a:xfrm>
        </p:grpSpPr>
        <p:sp>
          <p:nvSpPr>
            <p:cNvPr id="164" name=""/>
            <p:cNvSpPr/>
            <p:nvPr/>
          </p:nvSpPr>
          <p:spPr>
            <a:xfrm>
              <a:off x="579132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4360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5238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24280"/>
            <a:ext cx="7467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752480"/>
            <a:ext cx="9144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áq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5248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438280"/>
            <a:ext cx="1524240" cy="16322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070520"/>
            <a:ext cx="1752840" cy="83808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2585880"/>
            <a:ext cx="1609560" cy="2246400"/>
            <a:chOff x="1590840" y="2585880"/>
            <a:chExt cx="1609560" cy="2246400"/>
          </a:xfrm>
        </p:grpSpPr>
        <p:sp>
          <p:nvSpPr>
            <p:cNvPr id="199" name=""/>
            <p:cNvSpPr/>
            <p:nvPr/>
          </p:nvSpPr>
          <p:spPr>
            <a:xfrm>
              <a:off x="1590840" y="2585880"/>
              <a:ext cx="463320" cy="13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2585880"/>
              <a:ext cx="463680" cy="133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7840" y="2585880"/>
              <a:ext cx="463320" cy="1336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146480"/>
              <a:ext cx="762120" cy="685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4146480"/>
              <a:ext cx="838080" cy="685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5028840"/>
            <a:ext cx="1981080" cy="1086120"/>
            <a:chOff x="1447920" y="5028840"/>
            <a:chExt cx="1981080" cy="1086120"/>
          </a:xfrm>
        </p:grpSpPr>
        <p:sp>
          <p:nvSpPr>
            <p:cNvPr id="205" name=""/>
            <p:cNvSpPr/>
            <p:nvPr/>
          </p:nvSpPr>
          <p:spPr>
            <a:xfrm>
              <a:off x="1911600" y="57466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quir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574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53080" y="2438280"/>
            <a:ext cx="1905120" cy="2895840"/>
            <a:chOff x="6553080" y="2438280"/>
            <a:chExt cx="1905120" cy="2895840"/>
          </a:xfrm>
        </p:grpSpPr>
        <p:sp>
          <p:nvSpPr>
            <p:cNvPr id="208" name=""/>
            <p:cNvSpPr/>
            <p:nvPr/>
          </p:nvSpPr>
          <p:spPr>
            <a:xfrm>
              <a:off x="65530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8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38098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152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74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60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059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24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53080" y="4267080"/>
            <a:ext cx="1828800" cy="1067040"/>
            <a:chOff x="6553080" y="4267080"/>
            <a:chExt cx="1828800" cy="1067040"/>
          </a:xfrm>
        </p:grpSpPr>
        <p:sp>
          <p:nvSpPr>
            <p:cNvPr id="232" name=""/>
            <p:cNvSpPr/>
            <p:nvPr/>
          </p:nvSpPr>
          <p:spPr>
            <a:xfrm>
              <a:off x="670572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4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5028840"/>
            <a:ext cx="1981080" cy="1328760"/>
            <a:chOff x="6477120" y="5028840"/>
            <a:chExt cx="1981080" cy="1328760"/>
          </a:xfrm>
        </p:grpSpPr>
        <p:sp>
          <p:nvSpPr>
            <p:cNvPr id="240" name=""/>
            <p:cNvSpPr/>
            <p:nvPr/>
          </p:nvSpPr>
          <p:spPr>
            <a:xfrm>
              <a:off x="6652800" y="5715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70866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86600" y="2438280"/>
            <a:ext cx="990720" cy="2286000"/>
            <a:chOff x="7086600" y="2438280"/>
            <a:chExt cx="990720" cy="2286000"/>
          </a:xfrm>
        </p:grpSpPr>
        <p:sp>
          <p:nvSpPr>
            <p:cNvPr id="243" name=""/>
            <p:cNvSpPr/>
            <p:nvPr/>
          </p:nvSpPr>
          <p:spPr>
            <a:xfrm>
              <a:off x="70866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67080" y="3809880"/>
            <a:ext cx="1371600" cy="1524240"/>
            <a:chOff x="4267080" y="3809880"/>
            <a:chExt cx="1371600" cy="1524240"/>
          </a:xfrm>
        </p:grpSpPr>
        <p:sp>
          <p:nvSpPr>
            <p:cNvPr id="247" name=""/>
            <p:cNvSpPr/>
            <p:nvPr/>
          </p:nvSpPr>
          <p:spPr>
            <a:xfrm>
              <a:off x="4267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91120" y="2438280"/>
            <a:ext cx="1143000" cy="2895840"/>
            <a:chOff x="4191120" y="2438280"/>
            <a:chExt cx="1143000" cy="2895840"/>
          </a:xfrm>
        </p:grpSpPr>
        <p:sp>
          <p:nvSpPr>
            <p:cNvPr id="258" name=""/>
            <p:cNvSpPr/>
            <p:nvPr/>
          </p:nvSpPr>
          <p:spPr>
            <a:xfrm>
              <a:off x="45720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91120" y="2438280"/>
              <a:ext cx="1143000" cy="2286000"/>
              <a:chOff x="4191120" y="2438280"/>
              <a:chExt cx="1143000" cy="22860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911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434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11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1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34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56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832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34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528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42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56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06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956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528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5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769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292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055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809880" y="5028840"/>
            <a:ext cx="1981440" cy="1328760"/>
            <a:chOff x="3809880" y="5028840"/>
            <a:chExt cx="1981440" cy="1328760"/>
          </a:xfrm>
        </p:grpSpPr>
        <p:sp>
          <p:nvSpPr>
            <p:cNvPr id="287" name=""/>
            <p:cNvSpPr/>
            <p:nvPr/>
          </p:nvSpPr>
          <p:spPr>
            <a:xfrm>
              <a:off x="4067640" y="5715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lanifi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9360" y="4419000"/>
              <a:ext cx="762120" cy="198144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0080" y="2438280"/>
            <a:ext cx="152640" cy="6858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BL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e puede resumir en los siguientes asp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cursos de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Dos sistemas mantenidos en forma paralela, uno en hojas electrónicas y el sistema E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dios visuales defic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 información que existe no se aprovecha del todo o directamente no se cuenta con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Se ajustan más al corto plazo, mientras que para el mediano y largo plazo no son confiables o no se consideran, incurriéndose así en sub-óptimos o soluciones miop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Sistema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ara ello se deben defin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odelo de Programació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querimientos Funcion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determina desde el punto de vista del programador la inclusión de tarea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colección y análisis de información acerca de las ordenes a programarse y de las capacidades operacionales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 total o parcial de las ordenes, la evaluación de los programas y su 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acción con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1-10T14:54:11Z</dcterms:modified>
  <cp:revision>32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