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2D7-C6AB-4CC7-BCAF-A0081A2471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4D1-DB33-4ABA-9057-F5F32AE8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C5E-64E0-426B-9CF2-DAE92A8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720-057D-44D1-8AF1-1F65888F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5F1-4927-4722-8307-677D20E1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21EE-5295-404B-80C4-481172EA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AB07-351E-4BD1-BFAE-D9302098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675-A34F-4434-8008-58B374F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B8BA-A114-4275-8DE3-49CDF699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396E-A727-47F3-89AE-9377126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58CD-AC86-4E21-804F-69D629DA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694-A0CD-49F1-BCC0-A4A044B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20A-3D8A-4D88-8C15-6E758F8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3042-5CB4-4596-AD71-8A3FD04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BE4F-0EE7-4951-8530-01F694B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C40C-175B-40C9-8C0E-6BDDFD7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3D08-478A-48E0-BA50-E39E828B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73C-2278-4309-B4E5-0A53E0F8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1B1-B3F6-45A1-A5B6-7C0C1E1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62E-8688-4A63-AE8C-6736069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1F6-B9BE-4BF7-BE6D-4F69F97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925-97DC-4C50-AC3D-FE6A8FE6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A74-7FDC-450F-A4F4-83D87E8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7ED-33D0-47A8-BD4D-292C41B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364-B202-47CF-9A5D-C5147DC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FAB-831F-4418-A2DE-9838C1BBA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36E-C6CD-4AA5-A773-5EDC1585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642-FA3F-4B65-B650-B6CDEF715D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181-6314-409B-9AA5-6543A4B908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E57-30DB-4FF8-B229-9ED784F51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990720"/>
            <a:ext cx="83059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9BC-CDBC-4382-A99E-9BA1C8CB9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AF4-DEE5-430F-9746-1D979BB5BA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96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A29-30B9-4740-A391-2327C62BE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20840" y="228600"/>
            <a:ext cx="8301960" cy="5638680"/>
            <a:chOff x="420840" y="228600"/>
            <a:chExt cx="8301960" cy="5638680"/>
          </a:xfrm>
        </p:grpSpPr>
        <p:sp>
          <p:nvSpPr>
            <p:cNvPr id="106" name=""/>
            <p:cNvSpPr/>
            <p:nvPr/>
          </p:nvSpPr>
          <p:spPr>
            <a:xfrm>
              <a:off x="685800" y="2286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Gestión = Planificación +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29080" y="21337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ó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álisis y Diagnó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7AA-1776-4C46-87EC-7AEE4B1C9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F1F-7006-4649-AD18-8D29A0EA1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A6A-4883-4D17-B920-CAFC06EF3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6EC-C1D4-4913-BAE5-837B4A350E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895-5291-4AE6-B22B-7C3FE2EA7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54Z</dcterms:modified>
  <cp:revision>82</cp:revision>
  <dc:subject/>
  <dc:title>Sin título de diapositiva</dc:title>
</cp:coreProperties>
</file>