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DD1-3662-4E99-AEF6-99B7102174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42720" y="4266720"/>
            <a:ext cx="617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0C1-A887-4198-8743-04CDDBE0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892-663A-4D33-9848-5E6EC2F8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6F2-47D0-4CCE-B90F-DC40C0D2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8FE-7FA7-4685-A08F-9E50BC25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0ED1-E18E-4947-9D2D-FAB071D0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604B-17DA-4421-8218-E09EED6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E94A-017F-45D7-9CDE-B133726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B05A-C92B-405A-BC74-059C9FCB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5F6C-DA49-4C3F-A451-2062D054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D232-644C-44E7-A885-94349302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1080-774D-4223-B5D0-AA1CDB15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61C-C343-483A-B43B-46F79E16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428B-949E-43F1-BF8C-41316A18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37EA-A7FE-4750-8691-842E8AA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EDCB-8D9B-4D88-9961-C5CD7E56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0051-242B-4AED-926A-E8BC9C2C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D5B-935F-47B5-9807-C6157F60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2D5-F355-44DC-86EA-F21C470D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F2F-2C7E-488E-9942-60CC84B1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4A1-3111-484D-B8A6-388D5EEA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CD6-ECF3-419D-AC1F-5EBD679E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D07-A035-4289-BD72-BFC0E35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868-8B63-4172-A2F6-75AE983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229-D230-4ABA-82F4-DF5F5434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05AE-8521-4080-BE07-B756844AC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50CA-F247-4D6C-833B-5DD0915C0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0AC-4747-43CC-AE04-BB1E77DB41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itica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Acción gubernamental  es resultante política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Resultante : lo que ocurre no es elegido como solución - resulta del conflicto, y de "compromisos negociados", de directivos con intereses distintos y influencias desig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Política por que la actividad de la cual emergen decision y accion se caracteriza por negociación entre miembros individuales del gobierno a través de conductos regul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El comportamiento emerge de juegos simultáneos y complejos entre directivos en posiciones de gobierno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Los conductos regulares estructuran el juego, y los plazos fuerzan los temas llevándolos a su aten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La acción relevante es una “collage” de actos independientes, tomadas por directivos o grupos que ven juegos mas ampl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Decision y accion gubernamental es una combinación de preferencias e influencia relativa de jugadores centrales, en juegos diversos, más estrechamente definidos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851-E799-4E56-87F3-D14348F969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La dimensión  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7640" y="1980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de toda organización puede afectar a los “stakehold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e poder la hace responsable ante quienes afecta directa o indirect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gerente es responsable de que  la conducta respecto a ellos sea 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CCD-14D8-4830-BA83-15A0E11F4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¿Que es ética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Rama de la filosofía que trata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lores relacionados con la conducta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los bueno o lo malo de  determinad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bondad o maldad en motivos y fines de esas 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Reglas de conducta reconocidas relacionadas co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cultura: la ética crist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grupo particular de personas: la ética me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grupo particular de acciones : la ética en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Conjunto de principios que determinan  la conducta de una persona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 ética no me permite revelar algo que me han confi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52A-5C54-470A-A1DE-F62F51BAB7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Algunas “virtudes” en la empresa u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pacidad de generar productos o servicios nuevos, proveer acceso a ellos a nuevos clientes, o aumentar produc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ar comunidad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trabajo, después con proveedores y clientes, con ex trabajadores, con localidades, nacional e inter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l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cuar percepciones a lo observado, con una actitud de identificar y modificar percepciones erró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6CA-A612-44D2-BC81-96D1E2EA7C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3808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rco Valóric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8120" y="1905120"/>
            <a:ext cx="8267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incipios compartid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aspiraciones comunes para el futur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Orientan e inspiran su ac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flejan su cultu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atibilizan el corto y el largo plaz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otivan con desafíos exigentes pero alcanzabl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an el liderazgo de sus  autor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DEE-6F01-4A40-B013-59634165C3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gregar al informe un comentario individual no mayor que de dos carillas que indique su opinión sobre el aporte que el trabajo ha hecho a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075-0B61-4E61-B1B0-32C2719AB4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9040" y="1019160"/>
            <a:ext cx="83059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16F-B1CF-48FE-BBCC-1CA418F9B7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040" y="1019160"/>
            <a:ext cx="83059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BFD-FCED-409C-A129-A248D78739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ítica de Negocio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F8C-D129-4CA6-BFB3-E043672C7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Modelos de decisión</a:t>
            </a:r>
            <a:br>
              <a:rPr sz="2400"/>
            </a:b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“The essence of decis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ctor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ces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itica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891-AC30-4E64-A514-B2FF4182F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ctor Racion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572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El problema estratégico surge del entorno y mueve a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Decisión :elección de la opción que maximiza objetivos estratégicos: “La solución”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Un decisor - una función de utilidad consistente. Utilidad es la valoración de “alguien”, de los beneficios y costos asociados a decisiones o su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Un set de opciones percib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Estimación unica de consecuencias de cada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Asignación de probabilidades “subjetivas” a sucesos (TP) modificadas por la información (T.Bayes) o acciones de otros (T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Selección es estática : la suma de las acciones de los directivos relevantes, son “la solución elegida" como un estado de regimen,  no un conjunto de elecciones parciales en un flujo dinám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Arbol de De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3AF-AC5B-4D8F-A4FA-D35ECB0AF1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ceso organizacional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Acción gubernamental es un producto organiz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La decision de lider desencadena rutinas en divers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El comportamiento queda determinado por rutinas organizacionales pre - establecidos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Existen rutinas organizacionales orientadas a emplear sus capacidades. Ellas definen el rango de opciones a que puede recurrir lider cuando enfrentan un problema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Los productos organizacionales estructuran situación delimitada por restricciones. Dentro de ellas los lideres deciden. Los productos definen el problema, proveen la información, y configuran la problemática que se presenta al líder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50C-E671-4A95-A44A-7C18EFC3B5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nceptos organ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20000"/>
                </a:solidFill>
                <a:latin typeface="Arial"/>
              </a:rPr>
              <a:t>Actores organizacio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der sobre constelación de organizaciones sueltamente ligadas. Gobierno actúa solo cuando ellas llevan a cabo rutinas. Cada organización percibe problemas, procesa información, y realiza una gama de acciones cuasi independientes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20000"/>
                </a:solidFill>
                <a:latin typeface="Arial"/>
              </a:rPr>
              <a:t>Problemas factorizados y poder frac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cho dominante :  Tamaño impide a autoridad tomar toda decisión, o dirigir toda acción. Supervisión de problemas, se entrega a organizaciones. Poder evita parálisis, fraccionando responsabi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autoriza que una organización actúe, ella determina gran parte de lo que se hace. Cada organización percibe problemas, procesa información y desarrolla acciones en cuasi independencia (orientación política amplia). Los problemas segmentados permiten dar atención especializada a aspectos importantes. Esa atención se paga en términos de discrecionalidad respecto a lo que la organización atiende, y como programan sus respuestas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53C-CB52-4913-908D-24B77A9A32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nceptos organ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62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ioridades y percepciones parroqu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responsabilidad por un sub conjunto estrecho de problemas produce parroquialismo, el que se refuerza 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ón selectiva y parcial disponible, Reclutamiento del personal, Inamovilidad de los individuos, Presión de pequeños grupos internos, Distribución de premios en la organiz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ón desarrolla tendencias estables respecto a prioridades operacionales, percepciones  y  temáticas. La promoción a puestos altos dependen de años de devoción demostrada y desempeño distinguido respecto a la misión organizac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acción es producto organizacional. Aspecto predominante del modelo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gubernamental es programada, cualquier actuación se materializan en rutinas pre establecidas en organizaciones específi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A5B-0436-449A-98EB-63ED9CBB95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acción es predominantemente un produc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specto predominante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gubernamen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programada :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materializan en rutinas pre establecid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ividad organizacional se caracteriz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as 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 son mandatos form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o restricciones que definen desempeño aceptabl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al esencial y presupuesto aseguran superviv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ciones emanan de estatu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ativas y demandas de otros organism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s de ciudadanos o grupos de interé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negoci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 unidad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leva a cuasi resolución del conflic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que las restricciones n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o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tib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ciones son estab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formulan como imperativos que evitan incomodidad y desast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tención secuencial de met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flictos entre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ional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suelve mediante atención secuenci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urgen problem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dades mas involucrad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n en términos de las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consideran mas importa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Frent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 problema siguie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ras unidad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 f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aliz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 conjunto diferente de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imientos operacionales estándar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O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 la organizaciones cumplen funciones superiores como atender áreas problema, monitorear la información y preparar respuestas relevantes para contingencias probabl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el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n tareas inferiores  como presupuest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r informes y desarrollando hardware o softwa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empeño confiable en estas tareas requiere P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reglas simples de manual, que deben se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fácil aprendizaje y aplicación no ambigu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ir la acción concertada de muchos individuos respondiendo a pistas bás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cambian fácilmente ni en forma rápida pues son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o la acción pare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r muy formal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ta 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vec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apropi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unas son convenciones para coordin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mayoría se basan en la estructura de incentivos de la organización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s norm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ctitudes y estilo de sus miembro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uanto mas fundacional, mas difícil de modific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gramas y reper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l buen desempeño requier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s de POS ensayados para producir acciones específ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da conjunto es un progra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ponibl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la organiz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ien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tratar determinadas situa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a de programas constituyen el repertorio de la organización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on u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limit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gatillan en forma adecuada, no se pueden cambiar en forma substancial para adecuarse a la situ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to mas compleja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 gente involucr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 importante y determinante son programas y repertorios para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rganiz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vasión de la incertidumb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organizaci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determinan probabilidades, la eva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regla entornos negociados para regular la reacción de otros actores con los cuales debe interactuar. Por ejemplo repartición de presupuestos, áreas de responsabilidad aceptadas, y prácticas establecid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el entorno no se puede negoci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s restant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rtidumb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eciendo escenarios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contingenci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s cuales se prep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úsqueda dirigida al proble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Cuando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 no es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 proceso de búsque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búsqueda y el punto en que se detiene están establecidas por rutinas exist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úsqueda de cursos de acción alternativos, esta orientada por el proble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S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caliza en evitar falta de comodidad. Se busca en el entorno del síntoma, y después el vecindario de la alternativa actu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ción de búsqueda refleja sesgos de especialización y entrena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experiencia en diversas partes de l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ón y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comunicación inter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rendizaje organizacional y camb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Propensiones pueden generar intervenciones de los líderes. Rosevelt y departamento de estado, pero mas la mar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esta presupuestar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mbruna presupuestaria prolon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llas dramáticas en el desempeño. Entorno pide cambios mayor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rendizaje organizacional y camb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nsiones pueden generar intervención del líd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sevel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amento de eEstado, pero mas la Mari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cisión del líde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ide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ige organismo a través del cual oper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empre dentro de los programas existentes en conjunto de organiza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modificar el contexto usando varias organizaciones simultáneame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presentar el problema a una organización u otr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jempl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n problem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uestario o estratégico. Puede crear nuevas organizaciones en el largo plaz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899-D0C6-44D4-9249-AE945A28D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04-12T16:30:03Z</cp:lastPrinted>
  <dcterms:modified xsi:type="dcterms:W3CDTF">2004-12-02T21:38:10Z</dcterms:modified>
  <cp:revision>113</cp:revision>
  <dc:subject/>
  <dc:title>Sin título de diapositiva</dc:title>
</cp:coreProperties>
</file>