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EFA-C1F8-4E3B-BA58-1558FE08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584-7973-4C24-AAA9-B8420955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E03-EDCA-40B1-88C2-634A0EE4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6BF-5906-483B-BC0A-4162827B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EC5-1B8E-476D-B644-350613FB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CCB-76B4-4959-8643-77D9845E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1F2-5A67-491D-BB53-BC9244D5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3F7-A89C-4B30-B53D-46C68400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374-CA9C-4CD4-9CA5-F2875244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1FA-57B1-4BF0-A442-83154F44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B9F-EE3C-4F4C-AE39-5B5BA2B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9DC-E870-4DE5-AB1F-F5390C7F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2F42-CDB7-430D-8D83-DC8573AF4A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ás Vargas </cp:lastModifiedBy>
  <dcterms:modified xsi:type="dcterms:W3CDTF">2004-08-03T14:11:18Z</dcterms:modified>
  <cp:revision>1</cp:revision>
  <dc:subject/>
  <dc:title>Presentación de PowerPoint</dc:title>
</cp:coreProperties>
</file>