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E523-7C42-4AF1-8F3D-9888BD59C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BD56-5826-403C-8949-E79AD73A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0EF4-CEC0-4E2D-ACFC-4100C8F5F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97F9-9566-4F15-9647-2EBB74A88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C4F9F-C3E0-4F57-8D45-E7092B492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945A2-5931-4D56-852B-13491D74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8B2F-5FE5-49F8-9F5F-7718D1DE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2669A-D34A-4D77-91FC-087989B2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EE85A-ABA0-4895-A69D-F6ADF2C1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2B84D-B1F3-4CB3-B527-D562A862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2F14-2E2F-4C66-B1BE-432A9C14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261D-CD5C-4FC0-A181-79A047E3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6A33-9E35-4D9E-96D8-DCBB25B3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7486-15BF-4F2F-A209-D6005420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7F95-C05C-416C-9415-C2DF7168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D582-9371-43F3-AD40-368D4DEB5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A7AC-17AC-4670-89DD-45692A880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5C37-9098-4FBD-9613-EE112A4A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37C4-C873-4A85-A272-711DB88F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A88A-020E-49CE-8CE6-EC385259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F56B-F15D-4D6B-A3FE-6834A4DB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0A12-111C-4DE8-B5F4-97A3BF37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8918-9EEE-472D-821F-2A9B2157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CCA5-17FC-4ECB-96DF-F4F7BBA6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E560-50D3-4493-9475-AF797318283E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4451-9737-4017-BE53-573AD1A1B72B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Electro-obtención (EW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Laboratorio de Ingeniería Química 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IQ-53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Proceso para minerales oxidados de Cobr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143000" y="1828800"/>
          <a:ext cx="24163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1828800"/>
                    <a:ext cx="24163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1332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La finalidad de la electro-obtención es producir cátodos de cobre de alta pureza (comercializables) a partir de una solución cargada de Cu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Arial"/>
              </a:rPr>
              <a:t>+2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Fundamentos de la operación EW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La operación se basa en la deposición electroquímica del cobre sobre la superficie catódica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Se presentan dos reacciones, una catódica y otra anódica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La reacción catódica produce deposición del cobre mientras que la reacción anódica produce electrólisis del agua, con la consiguiente liberación protones y oxígeno gaseoso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Reacciones en EW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766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451240" y="2325600"/>
                <a:ext cx="34797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e</m:t>
                    </m:r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Cu</m:t>
                    </m:r>
                    <m:r>
                      <m:t xml:space="preserve">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1066680" y="320040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ara que la reacción catódica pueda proceder se necesita que exista una reacción anódica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851120" y="4495680"/>
                <a:ext cx="495936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2</m:t>
                    </m:r>
                    <m:r>
                      <m:t xml:space="preserve">O</m:t>
                    </m:r>
                    <m:r>
                      <m:t xml:space="preserve">⇔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½ </m:t>
                    </m:r>
                    <m:r>
                      <m:t xml:space="preserve">O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83808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cuación de Faraday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8128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905120" y="1752480"/>
                <a:ext cx="4343400" cy="434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  <m:r>
                          <m:rPr>
                            <m:lit/>
                            <m:nor/>
                          </m:rPr>
                          <m:t xml:space="preserve">ensida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rriente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gramos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iempo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eg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t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araday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La velocidad de deposición sobre el cátodo depende de la intensidad de corriente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En el caso de existir otro par redox en la celda, se verá afectada la velocidad de deposición del metal de interés, i.e. la eficienci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Equipo de Laboratori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El laboratorio cuenta con una celda de EW más un rectificador de corriente. Se cuanta además con bombas peristálticas y baño termostático para recircular electrolito a la temperatura desead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Pruebas experimental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Dentro de las pruebas experimentales que se pueden realizar se pueden mencionar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Determinación de la eficiencia de la operación, en función de la concentración de otros iones en soluc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Determinar la curva de corriente-potencial para la electro-deposición del cobre, determinando regiones con distintos tipos de control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Estudiar el efecto de variables como la temperatura y acidez en la eficiencia de operac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28170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               </a:t>
            </a: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¿Preguntas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21:08:52Z</dcterms:created>
  <dc:creator>Universidad de Chile</dc:creator>
  <dc:description/>
  <dc:language>en-US</dc:language>
  <cp:lastModifiedBy>Angel</cp:lastModifiedBy>
  <dcterms:modified xsi:type="dcterms:W3CDTF">2004-08-04T16:50:41Z</dcterms:modified>
  <cp:revision>13</cp:revision>
  <dc:subject/>
  <dc:title>Extracción por Solventes (SX)</dc:title>
</cp:coreProperties>
</file>