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D0B-41F1-4EB5-8072-C8A1606F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974-C6F5-44D7-A6C0-993CADC9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A91-37BB-4198-81E4-B37C85EA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033-08F9-4ABB-BA54-8FB8DBF1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06C0-D5C7-44C0-B3FF-E65A096A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C4EA-2C65-494A-9216-3D1B0200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4B9-BA0C-479F-ADDC-8B9709E5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23BD-1BA7-4E11-B0A1-06ADB501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B744-9D53-41C5-BAAF-B837D933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6B6A-B140-43E3-B683-28CEFE55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6258-F5B9-43E2-A01D-666F9B16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2B0-6CD7-4DC6-ACB9-49370A19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F18B-BFB3-474D-99CC-01417614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9A25-E46C-44E5-BB4C-0D470B05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0EB2-A8F8-4F2E-8C5D-B4433D35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DB73-20F5-44E5-9502-8DE499F2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28C2-78E9-4261-B89D-BB90FD1D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658-F5A8-4D19-BD4E-051D2DEF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FC5-DD61-4DC5-9BE1-E8B77AFC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603-D6C8-4AFB-9C82-07BDD23E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E9B-967D-4C6F-A2A3-52590D13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DBC-9A56-4DE6-86E6-0B07F27C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860-4292-4FF2-A734-3609AC11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610-68B3-461F-A4F8-CBF7C1B2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C5F2-51F4-4CE8-8B4F-6AFCDB3E31E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676-B86F-4068-AACF-FAEFD40325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990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0T15:05:48Z</dcterms:modified>
  <cp:revision>302</cp:revision>
  <dc:subject/>
  <dc:title>Reactor Agitado</dc:title>
</cp:coreProperties>
</file>