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1F15-ECE7-440A-B7A9-F263FA1D8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6F46-96F9-4941-A60A-C3A1695B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5A2F-9658-42C0-B7C0-CDF656EAD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C180-C02A-467E-B776-48D5AA0FB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9CC5-E7B0-41D3-AC9C-8A28CE52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9B00-C354-4A74-AD57-4E73033C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CBD4-F759-4CB9-B81A-CA67A446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7B5F-1634-40E6-90B8-FB7C0081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F41D-8CE9-47B2-84AA-CE2DA3B0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80E2-CFEB-44A7-AB19-461F2AE1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5BA3-C14F-4457-94B1-45148F6B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1EAF-095F-4B62-975A-1EFDBC19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5744-E5A0-464E-AEC0-42D1F4132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roducción al Trabajo de Título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T-IQ 69E</a:t>
            </a:r>
            <a:br>
              <a:rPr sz="4400"/>
            </a:br>
            <a:r>
              <a:rPr b="1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tamarugo.cec.uchile.cl/~btcursos/titulo/index_E.html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475776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Dpto. Ingeniería Quí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Universidad de 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731880"/>
            <a:ext cx="82296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 DEBEN  inscribir los cursos 69E ni 69F, éstos se convalidarán automáticamente con los Talleres de Titulo del Magis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2286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Alumnos que cursan Magis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731880"/>
            <a:ext cx="822960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Antecedentes del alum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.No haber reprobado ninguna asignatura desde que ingresaron a la Facul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.Haber reprobado muy pocas asignaturas pero tener inscrito el curso XX69E en su undécimo semestre de permanencia en la Facul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.Haber figurado en los dos años anteriores al que se inscribe el XX69E, en la Lista de Alumnos Destacados de la Escuela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Antecedentes del 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 informe del Profesor Guía debe explicar por qué el tema califica al tratarse de un trabajo experimental, profesionalmente innovativo o de investigación. De manera concisa pero clara hay que describir cómo el tema se inscribe en una de estas categor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2286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AMBIO XX69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457200"/>
            <a:ext cx="822960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ambio al XX69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Vent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ta Final de la carrera se calcula como 50% nota d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la memoria y examen de título + 50% Nota de Pres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7e8f9"/>
                </a:solidFill>
                <a:latin typeface="Comic Sans MS"/>
                <a:ea typeface="Times New Roman"/>
              </a:rPr>
              <a:t>Si la de presentación es igual o superior a 5,5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ta Final de la carrera se calcula como la nota d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la memoria y examen de títu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uta para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NTACIONES ORALES</a:t>
            </a:r>
            <a:br>
              <a:rPr sz="4400"/>
            </a:b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475776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Dpto. Ingeniería Quí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Universidad de 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structura de una Present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ítulo y datos de los au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nido de la present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ción del problema y su solución- el marco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ados de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ados y su Discu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mendaciones de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 Por qué Presentaciones Oral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comunicación oral es crucial en las actividades de la ingenierí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uando se hace bien, se puede comunicar  resultados e ideas más rápidos que en el lenguaje escri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BS02064_" descr=""/>
          <p:cNvPicPr/>
          <p:nvPr/>
        </p:nvPicPr>
        <p:blipFill>
          <a:blip r:embed="rId1"/>
          <a:stretch/>
        </p:blipFill>
        <p:spPr>
          <a:xfrm>
            <a:off x="6934320" y="480060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Objetivos de las Present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ñal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la audiencia cuáles so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s resultados más importan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y las conclusion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en el contexto gener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esent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o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etalles del trabaj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 modo d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nvencer a la audiencia de la validez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 sus resultados y recomendacio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str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la audiencia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s planes de acciones a seguir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asados en sus resultados y conclu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358128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105520"/>
            <a:ext cx="7391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imes New Roman"/>
              </a:rPr>
              <a:t>Claves en una buena present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6629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75248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y un antes, durante y después de la presen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914400" y="3809880"/>
            <a:ext cx="2438280" cy="914400"/>
            <a:chOff x="914400" y="3809880"/>
            <a:chExt cx="2438280" cy="914400"/>
          </a:xfrm>
        </p:grpSpPr>
        <p:sp>
          <p:nvSpPr>
            <p:cNvPr id="72" name=""/>
            <p:cNvSpPr/>
            <p:nvPr/>
          </p:nvSpPr>
          <p:spPr>
            <a:xfrm>
              <a:off x="914400" y="3809880"/>
              <a:ext cx="2438280" cy="914400"/>
            </a:xfrm>
            <a:prstGeom prst="rightArrowCallout">
              <a:avLst>
                <a:gd name="adj1" fmla="val 25002"/>
                <a:gd name="adj2" fmla="val 25000"/>
                <a:gd name="adj3" fmla="val 44442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14400" y="4038480"/>
              <a:ext cx="1523880" cy="3682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Times New Roman"/>
                </a:rPr>
                <a:t>Prepa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352680" y="3809880"/>
            <a:ext cx="2742840" cy="914400"/>
            <a:chOff x="3352680" y="3809880"/>
            <a:chExt cx="2742840" cy="914400"/>
          </a:xfrm>
        </p:grpSpPr>
        <p:sp>
          <p:nvSpPr>
            <p:cNvPr id="75" name=""/>
            <p:cNvSpPr/>
            <p:nvPr/>
          </p:nvSpPr>
          <p:spPr>
            <a:xfrm>
              <a:off x="3352680" y="3809880"/>
              <a:ext cx="2742840" cy="914400"/>
            </a:xfrm>
            <a:prstGeom prst="rightArrowCallout">
              <a:avLst>
                <a:gd name="adj1" fmla="val 25002"/>
                <a:gd name="adj2" fmla="val 25000"/>
                <a:gd name="adj3" fmla="val 49993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52680" y="4038480"/>
              <a:ext cx="1714320" cy="3988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00"/>
                  </a:solidFill>
                  <a:latin typeface="Times New Roman"/>
                </a:rPr>
                <a:t>Pres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248520" y="3733920"/>
            <a:ext cx="2286000" cy="1599840"/>
            <a:chOff x="6248520" y="3733920"/>
            <a:chExt cx="2286000" cy="1599840"/>
          </a:xfrm>
        </p:grpSpPr>
        <p:sp>
          <p:nvSpPr>
            <p:cNvPr id="78" name=""/>
            <p:cNvSpPr/>
            <p:nvPr/>
          </p:nvSpPr>
          <p:spPr>
            <a:xfrm>
              <a:off x="6248520" y="3733920"/>
              <a:ext cx="2209680" cy="1599840"/>
            </a:xfrm>
            <a:prstGeom prst="downArrowCallout">
              <a:avLst>
                <a:gd name="adj1" fmla="val 34533"/>
                <a:gd name="adj2" fmla="val 34530"/>
                <a:gd name="adj3" fmla="val 16667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48520" y="3986280"/>
              <a:ext cx="2286000" cy="3988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00"/>
                  </a:solidFill>
                  <a:latin typeface="Times New Roman"/>
                </a:rPr>
                <a:t>Retroali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1066680" y="4800600"/>
            <a:ext cx="1067040" cy="5335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5334120"/>
            <a:ext cx="624852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Ante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2057400"/>
            <a:ext cx="7619760" cy="29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ga todo lo posible para que su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diencia y Ud. estén confortabl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evise la sal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y los equipos audiovisuales con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suficiente antela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para evitar sorpre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 buen análisis previo de las características de la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dienci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048120" y="5029200"/>
            <a:ext cx="1990440" cy="1631520"/>
            <a:chOff x="3048120" y="5029200"/>
            <a:chExt cx="1990440" cy="1631520"/>
          </a:xfrm>
        </p:grpSpPr>
        <p:grpSp>
          <p:nvGrpSpPr>
            <p:cNvPr id="86" name=""/>
            <p:cNvGrpSpPr/>
            <p:nvPr/>
          </p:nvGrpSpPr>
          <p:grpSpPr>
            <a:xfrm>
              <a:off x="3048120" y="5029200"/>
              <a:ext cx="1990440" cy="1631520"/>
              <a:chOff x="3048120" y="5029200"/>
              <a:chExt cx="1990440" cy="1631520"/>
            </a:xfrm>
          </p:grpSpPr>
          <p:pic>
            <p:nvPicPr>
              <p:cNvPr id="87" name="BD04897_" descr=""/>
              <p:cNvPicPr/>
              <p:nvPr/>
            </p:nvPicPr>
            <p:blipFill>
              <a:blip r:embed="rId1"/>
              <a:stretch/>
            </p:blipFill>
            <p:spPr>
              <a:xfrm>
                <a:off x="3048120" y="5029200"/>
                <a:ext cx="1990440" cy="148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"/>
              <p:cNvSpPr/>
              <p:nvPr/>
            </p:nvSpPr>
            <p:spPr>
              <a:xfrm>
                <a:off x="3505320" y="5105160"/>
                <a:ext cx="1371600" cy="155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3505320" y="5257440"/>
              <a:ext cx="1218960" cy="1295280"/>
            </a:xfrm>
            <a:prstGeom prst="noSmoking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Audi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aga un detallado análisis de la audiencia antes de su presentación, los antecedentes de los auditores, y las necesidades de información que requieren.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E01846_" descr=""/>
          <p:cNvPicPr/>
          <p:nvPr/>
        </p:nvPicPr>
        <p:blipFill>
          <a:blip r:embed="rId1"/>
          <a:stretch/>
        </p:blipFill>
        <p:spPr>
          <a:xfrm>
            <a:off x="5943600" y="228600"/>
            <a:ext cx="320040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5-12/8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O DE BASES DE DATOS ESPECIALIZADAS (Biblioteca)</a:t>
            </a: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8 (5 semana)</a:t>
            </a:r>
            <a:br>
              <a:rPr sz="32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la selección del Tema y Prof. Guía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/9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de tema seleccionado</a:t>
            </a:r>
            <a:br>
              <a:rPr sz="2400"/>
            </a:br>
            <a:br>
              <a:rPr sz="2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8/10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licitud de Cambio al 69H</a:t>
            </a:r>
            <a:br>
              <a:rPr sz="2400"/>
            </a:br>
            <a:br>
              <a:rPr sz="2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ltima semana de Clases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in del semestre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lemento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 deben utilizar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lementos visual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que ayuden a enfocar la atención de los asistentes en las áreas importa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os Informe se pueden volver a leer. En las presentaciones, si los auditores de pierden o se aburren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la información se pierd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mantener la aten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de la audi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Poner atención en el tiempo de la exposición</a:t>
            </a: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lemento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vite el nerviosism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nga cuidado de no incluir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ucha informació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porque no podrá ser leí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nuncie con cuidado y mantenga un tono de voz adecuado al tamaño de la sala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aga pausa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enfatice lo important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a buena presentación requiere de un buen nivel d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to-confianz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tes de cualquier presentación, la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ráctic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e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sencia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! Si puede, practique frente a una audiencia real – o use grabadoras de voz o vide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 recomendabl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tener una guía escrit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de lo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rimeros minut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En ese período muchas veces se produce un nerviosismo natural que bloquea la memor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E01496_" descr=""/>
          <p:cNvPicPr/>
          <p:nvPr/>
        </p:nvPicPr>
        <p:blipFill>
          <a:blip r:embed="rId1"/>
          <a:stretch/>
        </p:blipFill>
        <p:spPr>
          <a:xfrm>
            <a:off x="7162920" y="0"/>
            <a:ext cx="1604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unca mire a alguien en particula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mucho tiempo. Si ella pierde interés, puede ser devastador para U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la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interrupcion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lo ponen nervioso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id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que estas se hagan una vez que termine la presen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comete un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rro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e saltarse una part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vuelva atrá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Cuando hayan preguntas tendrá la oportunidad de exponer esos pu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Otros detalle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cuerde, que solo Ud. tiene el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ontrol de la presen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d. es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responsable del ritmo y contenid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ga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paus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nfatice lo impor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epare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notas escrit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sobre sus transparencias.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vite leerl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de corrido, ya que puede dar la impresión de que no domina lo que está presenta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tregue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material escrit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a la audi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Pregu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ga el esfuerzo d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scuchar bie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la pregunta y contestar lo que le piden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evadiendo la respues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conozca de inmediato qu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sabe la respuest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si es el ca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Despué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Convers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con amigos en otro lugar y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eciba los comentari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sugerencias.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gunte que estuvo bien, y que </a:t>
            </a: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estuvo ma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para mejorar sus presentaciones futu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Retroali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2286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7524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na buena presentación requiere de un buen nivel de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auto-confianz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tes de cualquier presentación, la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ráctic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e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sencial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! Si puede, practique frente a una audiencia real – o use grabadoras de voz o vide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s recomendable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tener una guía escrit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de lo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rimeros minuto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En ese período muchas veces se produce un nerviosismo natural que bloquea la memoria.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Nunca mire a alguien en particula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mucho tiempo. Si ella pierde interés, puede ser devastador para U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la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interrupcion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lo ponen nervioso,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id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que estas se hagan una vez que termine la pres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comete un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rro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de saltarse una part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no vuelva atrá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Cuando hayan preguntas tendrá la oportunidad de exponer esos pu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EMA PROPUESTOS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Profesor Guía: Jesus Casas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.- Determinación de la especiación del hierro en soluciones procedentes de circuitos hidrometalúrgicos mediante experimentación y la aplicación  de modelos geoquímicos.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2.- Estudio del proceso de precipitación hidrotermal del hierro a escala de laboratorio. Análisis de experimentos y formulación de modelos fenomenológicos.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Profesor Guía: Luis Cifuentes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3.- Modelación matemática de celdas de EO de cobre con cátodos particulado y fluidizado.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4.- Separación de Cu y Fe mediante electrodialisis a partir de soluciones de la hidrometalurgia del Cu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fesor Guía: Tomas Vargas V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6.- Rol de aditivos en la electrocristalización de cobre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7.- Cinética de disolución de minerales oxidados de cobre con soluciones lixiviantes con alta concentración iónica.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8.- Influencia de la concentración iónica de soluciones lixiviantes sobre la eficiencia de la extracción por solventes de cobre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9.- Determinación de la actividad catalítica de bacterias en circuitos   de lixiviación industrial mediante métodos biooelectroquímicos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0.- Lixiviación bacteriana de minerales sulfurados de cobre con bacterias termófilas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Profesor Guía: M.Elena Lienqueo - Oriana Salazar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1.- Efecto de la distribución de aminoácidos superficiales en el comportamiento cromatográfico de las proteínas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fesor Guía: Leandro Herrera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2.- Química del Arsénico: Métodos de remoción en pequeña escala.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3.- Energías alternativas: Diseño de reactor para la Producción bioquímica de Hidrógeno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4.- Residuos Industriales Líquidos: Tratamientos bioquímicos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5.- Emisiones de Anhidrido Sulfuroso: Su conversión a productos valiosos.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Blanca Escobar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6.- Determinación de compuestos reducidos de azufre en soluciones de  biolixiviación de sulfuros con microorganismos mesofilos.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Propuestos por empresas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BIOENLACE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a) " Estudio prospectivo de innovación en procesos biotecnológicos en la minería"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b) " Estudio prospectivo de innovación en procesos biotecnológicos en la industria acuicola"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c) " Estudio prospectivo de innovación en procesos biotecnológicos en la industria forestal ( celulosa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8600"/>
            <a:ext cx="8991720" cy="67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Tiempo:    La presentación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NO DEBE DURAR MÁS DE 10 MINUT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e cuenta con PC y Data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a presentación se debe centrar en los siguientes punt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Titulo de la memoria y profesor guí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Introducción a la problemática a abord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Objetivo general de la memo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etodología que se aplicará para lograr el obje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ta Gantt de la actividades a realizar durante el BT-IQ 69E (Recuerde que se deben considerar  las  4UD del curs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esultados esper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8229600" cy="59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untos a Considerar en una 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TREGUE MATERIAL DE LA PRESENTACIÓN A LA AUDI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ra 10 minutos de presentación no se deben presentar más de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7 TRANSPARENCIA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 el caso dar animación a la presentación siempre controle el tiemp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o que se escribe en las transparencias debe poder ser leído por el públic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 su presentación intente no leer lo que está en las transparencias, sino comentarl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 exponer diríjase siempre hacia la audienc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IEMPRE ENSAYE PREVIAMENTE SU EXPOSICIÓN.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71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 de Septiembre 14:30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INTOLESI MAKUC ANG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ATURANA SEPULVEDA ANDRES OS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ERINO SANTIS MARIA 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ORALES DARKER GABRIELA AND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731880"/>
            <a:ext cx="82296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eben inscribir el curso 69E en las dos especialidad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jemplo      BT69E e IQ69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ro sólo deben inscribir un solo 69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jemplo BT69 F  o IQ 69F o IN69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2286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Comic Sans MS"/>
              </a:rPr>
              <a:t>Alumnos que cursan 2 carr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Maria Elena Lienqueo C.</cp:lastModifiedBy>
  <dcterms:modified xsi:type="dcterms:W3CDTF">2004-07-26T11:05:27Z</dcterms:modified>
  <cp:revision>83</cp:revision>
  <dc:subject/>
  <dc:title>El ingeniero, etica y sociedad</dc:title>
</cp:coreProperties>
</file>