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F895-FF62-4AAE-AF6B-E38D2E75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B2DA-4D45-4858-8EE2-5C9CBF82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2D04-4BD0-416E-AF92-5F7F0C3F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A80B-4287-40A6-9471-D83BBB39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A62C-F35C-4193-BD88-9B4DB686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32F9-49F9-4A9E-B7C4-BD426940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2FCC-6881-49A0-B17A-6263A6C3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12FA-7329-4669-8456-CE782B64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1313-7BD1-44F8-B5CB-AA951492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41CA-EB0F-4E22-A718-C4EBCF22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5562-DB8D-4895-9C47-A485DBDB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3DEB-7DE3-4719-A5F1-7116ADB1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819E-4004-4C18-AD1A-A7BFCD243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F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-12/8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O DE BASES DE DATOS ESPECIALIZADAS (Biblioteca)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8 - 2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8 - 2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a semana de Clase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l semestre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Final BT-IQ 69F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ULTIMO DIA DE EXAMEN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6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Agosto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ina Contador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blo Mor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Karin Henríqu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ladys Navar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laudia Orellana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89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 de Septiembre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baldo Abr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tricia Cont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Kimlin F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ina Urmeneta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Septiembre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onzalo Águi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 Da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los D Andu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ejandro Mo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ola Bustos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I Resultados ( y Discus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V Disc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C 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342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4-07-28T09:22:18Z</dcterms:modified>
  <cp:revision>113</cp:revision>
  <dc:subject/>
  <dc:title>El ingeniero, etica y sociedad</dc:title>
</cp:coreProperties>
</file>