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439-7E35-492E-A454-1590D230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951-1D19-4A19-9744-C05A6EB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9D0-251E-40F9-9DCA-2F81BAB5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F9C-2CBC-49BE-A8BC-A33E8708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A94-02BB-4E3F-B56A-4B0FE5A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798-93F6-457B-A633-96DF0CE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4F0-4DE2-45ED-A569-95DC9193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865-2111-477F-9149-5B80163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596-62EA-47E3-9D0A-157E262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13C-EBF4-47C0-8BB5-2BD72E7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019-5325-4208-9DE3-BEC5822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6BB-245A-4EDF-88DA-E0C8A5D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8943-BF0F-48DC-9C8E-173E5725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9800" y="-1027080"/>
          <a:ext cx="5326200" cy="8870760"/>
        </p:xfrm>
        <a:graphic>
          <a:graphicData uri="http://schemas.openxmlformats.org/drawingml/2006/table">
            <a:tbl>
              <a:tblPr/>
              <a:tblGrid>
                <a:gridCol w="620640"/>
                <a:gridCol w="1257480"/>
                <a:gridCol w="895320"/>
                <a:gridCol w="1257120"/>
                <a:gridCol w="866880"/>
                <a:gridCol w="428760"/>
              </a:tblGrid>
              <a:tr h="2462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 SIMULACION MONTERCARLO, FALLA PL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HE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C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 PR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56:19Z</dcterms:created>
  <dc:creator>Juan Alvarado</dc:creator>
  <dc:description/>
  <dc:language>en-US</dc:language>
  <cp:lastModifiedBy>Juan Alvarado</cp:lastModifiedBy>
  <dcterms:modified xsi:type="dcterms:W3CDTF">2004-10-18T20:28:06Z</dcterms:modified>
  <cp:revision>2</cp:revision>
  <dc:subject/>
  <dc:title>Diapositiva 1</dc:title>
</cp:coreProperties>
</file>