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12D-D608-4754-A8BB-23378102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EBA-E033-46EC-9350-4380EB22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5FA-8783-4078-8DAB-5168EA2F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22E-E277-4BAD-859E-0C66FAFE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A5B3-DC50-47CE-B34C-829D7015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21B1-7DA7-4624-8265-4993F32F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D8E-3A3B-4299-B598-712277BA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042-BD63-473F-ADB0-9C909407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D6A-2FA1-407C-91A8-F19456FC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9E3-DC18-416F-82FA-A7D972FF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8824-7951-43B8-8163-AB1758E6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E7C-8479-464A-B7B4-0F75FA9A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DA11-AA0E-4976-BEFC-29F3A43C8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A POR CU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ENIERÍA DE RO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2012040"/>
            <a:ext cx="661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 de falla por cuñ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lano A     dip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 45,        Dipdir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lano B     dip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 70,        Dipdir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2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20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CA = 500 lb/f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30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CB = 1000 lb/f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a del talud             dip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 65,        Dipdir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perficie superior     dip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 12,        Dipdir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 = altura del talud =  13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2723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98480" y="-1521000"/>
            <a:ext cx="7547040" cy="9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617400"/>
            <a:ext cx="525636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3360" y="785880"/>
            <a:ext cx="8475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7812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172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47640" y="1952280"/>
            <a:ext cx="6010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LA POR C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líneas de intersección que se generan s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Intersección del Plano A  con la cara del T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Intersección del Plano B con la cara del T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Intersección del Plano A con la superficie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Intersección del Plano B con la superficie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Intersección del Plano A con el Plan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asume que el deslizamiento de la cuña se produce por a través de la línea número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81200" y="775080"/>
            <a:ext cx="758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Factor de  Seguridad del talud viene dada por la siguiente expresió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( CA X + CB Y)/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+ (A-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X)/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a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 B -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)/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a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 ,C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rresponden  a la cohesión de los planos A 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rresponden a los ángulos de  fricción de los planos A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1840" y="980280"/>
            <a:ext cx="868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rresponde al peso unitario de la 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w corresponde al peso unitario d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 es la altura total de la c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X,Y,A,B  son  factores adimensionales de que dependen de la geometría de la c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  S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/  (S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 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=   Sen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3 /  (Sen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35 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n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 =    (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 - Co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 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nb) / (S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5 Sen2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n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 =    (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 - Co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 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nb) / (S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5 Sen2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n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65080" y="1298880"/>
            <a:ext cx="7427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on los dips de los planos A y B respectiv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el dip de la línea de intersección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1nb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el ángulo entre el punto de intersección 1 y el polo del plan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2n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el ángulo  entre el punto de intersección 2 y el polo del plan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es el ángulo entre los puntos de intersección 1 y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es el ángulo entre los puntos de intersección 2 y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es el ángulo entre los puntos de intersección 3 y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es el ángulo entre los puntos de intersección 4 y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anb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el ángulo entre los polos de los planos A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ángulos requeridos para la solución de estas ecuaciones pueden ser medidos mediante un estereopl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22:14:22Z</dcterms:created>
  <dc:creator>Juan Alvarado</dc:creator>
  <dc:description/>
  <dc:language>en-US</dc:language>
  <cp:lastModifiedBy>Juan Alvarado</cp:lastModifiedBy>
  <dcterms:modified xsi:type="dcterms:W3CDTF">2004-08-27T19:41:39Z</dcterms:modified>
  <cp:revision>16</cp:revision>
  <dc:subject/>
  <dc:title>Diapositiva 1</dc:title>
</cp:coreProperties>
</file>