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FDF7-783E-46AD-8622-9CFA15F53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ACED-3D83-4900-8B02-7047709B5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500A-2B76-4F0D-BC2D-F7789E443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822F-94EE-46E2-A7F8-C8BD61B7A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90B3-D4F7-4DA0-BA3C-5AE29CE21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BE9A-B260-4C79-B881-FDB805EA8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B4EA-E9B8-416C-8510-DE242F3F0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FB6F-82C6-4BD9-B88A-7BEE9AB58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B1AE-142A-4613-BAC1-7462562D2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BFD4-603B-4582-A3C3-EC9DD578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8840-F5EF-44E2-A8F6-1B99A06B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EF86-1064-4107-9B1A-DF96C248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8789D-3BEC-4F42-98D1-F278DE87F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52600" y="1352520"/>
            <a:ext cx="5622840" cy="30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FORMAS DE FALLAS DE TAL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Falla Plan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Falla Rot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Falla en Cuñ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Falla en Topp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-1116000" y="-1035000"/>
            <a:ext cx="11160000" cy="89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1003320" y="-819000"/>
            <a:ext cx="11407680" cy="84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757080" y="-603360"/>
            <a:ext cx="10771200" cy="89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1044720" y="-1179360"/>
            <a:ext cx="11117520" cy="92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20:39:18Z</dcterms:created>
  <dc:creator>Juan Alvarado</dc:creator>
  <dc:description/>
  <dc:language>en-US</dc:language>
  <cp:lastModifiedBy>Juan Alvarado</cp:lastModifiedBy>
  <dcterms:modified xsi:type="dcterms:W3CDTF">2004-10-04T20:48:11Z</dcterms:modified>
  <cp:revision>1</cp:revision>
  <dc:subject/>
  <dc:title>Diapositiva 1</dc:title>
</cp:coreProperties>
</file>