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6C3F65-5241-4FA0-B5C5-0217F1D8EE7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766132-AAFE-41FE-96FD-57E6B6E706B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664DF0-CC75-440D-B6D1-C16257A8653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DE5-B2F0-485C-AEEA-0AE140AE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1EF-AA9C-4D82-B5DC-4FEC518C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FED-21F3-4D15-B114-43FF9FA1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7F9A-B1F4-411D-953B-170793AA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FAA-0E10-41B7-8A21-6893FB99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9F2-7127-46BB-84A8-9B392FDA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DD2D-5D96-4A3A-84EB-3FD255D5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C03-D6F3-4F48-A5FA-BB04A8DC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704-F33C-4FAB-86D3-52B6C3E9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E1C-9BA3-4DFF-94D6-8838D5B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628-6761-4DCD-88B6-B8484D58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0A7-E51D-4584-B297-1AD89BD3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F02CAF-2C92-441B-977F-A4BA0627C06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914400"/>
          <a:ext cx="762012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82360" y="38160"/>
            <a:ext cx="7373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TILIZACION  DE  EQUIPOS  E  INSTALACIONE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360" y="1249200"/>
            <a:ext cx="866304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DIR   AQUELLA  </a:t>
            </a: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UNIDA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QUE  MEJO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FLEJE  EL  PROCESO  DE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 DESGAST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QU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OMPAÑA  A  LA  UTILIZACION  DE  UN  EQUIP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AR  LA  “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UTILIZACION  EFECTIV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ALIZAR  LA  “UTILIZACION  EFECTIV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REGAR  LA  INFORMACION  DE  UTILIZACI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 LOS  PROCEDIMIENTOS  QUE  LO  REQUIERA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stema  de  Mantenimiento  Preventivo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Análisis  de  Fallas,  Confiabilidad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aluación  de  Resultados, (Indicadores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2360" y="38160"/>
            <a:ext cx="7373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TILIZACION  DE  EQUIPOS  E  INSTALACIONE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ARACTERI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080" y="1249200"/>
            <a:ext cx="8820000" cy="52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DEFINIRA   LA  </a:t>
            </a:r>
            <a:r>
              <a:rPr b="1" lang="es-ES_tradnl" sz="2500" spc="-1" strike="noStrike">
                <a:solidFill>
                  <a:srgbClr val="00ae00"/>
                </a:solidFill>
                <a:latin typeface="Arial"/>
              </a:rPr>
              <a:t>UNIDAD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EN  QUE  SE  MIDE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 “UTILIZACION  EFECTIVA”  PARA  TODOS 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EQUIPOS  E 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UNIDADES  MAS  FRECUEN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Horas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Metros  perfor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Toneladas Molidas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Días, semanas,  me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Kilómetros,  millas 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Cantidad de Oper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CONSIDERAN LAS CONDICIONES  DE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TRABAJO  COMO  UN  “FACTOR”  QUE  AFECTA  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 UTILIZACION  EFECTIV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USARAN   “MEDIDORES”,  (que  deben s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eidos   por  operaciones  o  automáticamente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5520" y="-295920"/>
            <a:ext cx="648648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TACTICO</a:t>
            </a:r>
            <a:br>
              <a:rPr sz="39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" y="2038320"/>
            <a:ext cx="885528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PLANIFICACION  A  5  AÑOS  DE  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TIVIDADES  DE  MANTENCION  RELACIONAD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PROGRESO  Y   EL  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INCORPORACION  DEL  FUT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ACTIVIDAD  COMPLEMENTARIA  A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ARTICIPACION  DE  MANTENCION  EN  LO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ES  DE  INVER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5520" y="-295920"/>
            <a:ext cx="648648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TACTICO</a:t>
            </a:r>
            <a:br>
              <a:rPr sz="39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INCIPALES   T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9400" y="1581120"/>
            <a:ext cx="88275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PORACION  DE  PLANES  DE  MANTENCION  Y PA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LOS  NUEVOS 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LIMINACION  DE  LOS  OBSOL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OMPRAS  DE  HERRAMIENTAS  E  INSTRUMENTOS 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MBIOS EN LA ORGANIZACIÓN (Personal, contratistas, nue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es,.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MBIOS  EN  LA  ATENCION  DE  EMERGENCIAS  Y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STUDIOS  DE  REPUESTOS 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LIMINACION  GRADUAL  DE   REPUESTOS  DE  EQUIPOS  QUE 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AN  DE  B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PACI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MANUALES  EN  CASTELLANO,  COMPLETOS  Y  ACTU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UEBAS  DE  PUESTA  EN  MAR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ESPECIFICACIONES  DE  MANTE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 MAESTRO  TA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066680"/>
          <a:ext cx="731520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3152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TERMINACION  DE  RECURSOS  PARA 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IM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MATERI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 MANTENCION</a:t>
            </a:r>
            <a:br>
              <a:rPr sz="32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4320" y="1905120"/>
            <a:ext cx="85197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EVISTOS       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M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RGA DE TRABAJO  (PENDIENTE  Y  FU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FUERZAS  DE  TRABAJO  DISPONI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CION  Y  TOMA  DE 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REEMPLAZO  DEL  STOCK   POR  PEDIDOS  SEGÚN 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ESUPUESTO 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5238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5360" y="-379800"/>
            <a:ext cx="8686800" cy="187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3900"/>
            </a:b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6520" y="1581120"/>
            <a:ext cx="88459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MAS  RELACIONADOS CON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DOTACION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ES,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GA  DE  TRABAJO,   DETECCION  DE  NECESIDAD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AC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SUPERVISION  ....DEN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YO  ADMINISTRATIVO:  PLANIFICADORES,  ADMINIST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CIONES  DE  EMPLEO,  INCEN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IZADA,  POR  AREAS,  DEPARTAMENTAL,  COMBI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  DE CONTRAT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  DE  LOS  INGENIER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GRAM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3360" y="-20016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TIDAD  DE PLANIFICADORES</a:t>
            </a: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9040" y="1201680"/>
            <a:ext cx="895572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CION  TRABAJADORES / PLANIF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PLANIFICACION  /  PROGRAMAC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SEPARADA   1    COMB.     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ESPECIALIDADE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UNA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DOS   2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   3    CUATRO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GRADO  DE  DETA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DE  LA  PLANIFIC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MAS   DE   INDICA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,  HERRAMIENTAS  ESPECIALES, 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INSTRUCCIONES  GENERAL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  LAS  TAREAS  IMPORTAN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TALLADA  DE  LAS  T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L   METODO  DE  TRABAJ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PRECISION  DE  LA  ESTI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OS   HISTORICOS        3       METODO   DE  LOS  RANGOS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UDIOS  DE  TIEMPO     7       ESTANDARES  PRE  DETERM.   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59520" y="16257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59720" y="16257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2476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48240" y="223524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5296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5768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21640" y="3911760"/>
            <a:ext cx="482400" cy="1244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41911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2400" y="44956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2400" y="480060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07440" y="5664240"/>
            <a:ext cx="40464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81360" y="5664240"/>
            <a:ext cx="40644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1880" y="6019920"/>
            <a:ext cx="381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60199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3360" y="-20016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TIDAD  DE PLANIFICADORES</a:t>
            </a: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1201680"/>
            <a:ext cx="918432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LCULO  DEL  PUNT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EGÚN  EL  TIPO  DE  TRABAJO  QUE  REALIZARAN   L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PLANIFICADORES,  SE SUMAN  LOS  PUNTOS  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CADA  RUB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NTAJE   TOTAL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BAJAD. / PLANIFIC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 -  5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  -  4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 -  35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 -  3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 -  25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 -  2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CTIVIDADES   PRINCIPALES  DEL  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UPERVISOR   DE  PRIMERA  L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CION  FINAL  DE  LA  DETENCION  DEL  EQUIPO  CON  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LAS  CONDICIONES  DE 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CION  FINAL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CIONES  TE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EL 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LA  CALIDAD  DE   CADA  UNA  DE  L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AR  EL  USO  DE  LOS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FICAR  LA  EJECUCION  DE  LOS   TRABAJOS  DE 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CIONAR  TODOS  LOS  TRABAJOS 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TIPOS  DE  ORGANIZACIÓN</a:t>
            </a:r>
            <a:br>
              <a:rPr sz="3600"/>
            </a:b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de   Mant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ENTRALIZ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OR  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PARTAMENTAL  (funcion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OMBI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0" y="-58680"/>
            <a:ext cx="628632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1920" y="1201680"/>
            <a:ext cx="932904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 P. - M. PLANIF.- OTROS  T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LA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PRONOSTICO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MAE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 NO PLANIF.  EMERG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REQUERIMIENTO OPORTU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NIC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ESPECIFICACION  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ALAJE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  PROTECC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RECEPC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DEG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ALMACEN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ÑOLES  DE  M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N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514600" y="152352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19810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144792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22096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00400" y="3428640"/>
            <a:ext cx="76212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733920"/>
            <a:ext cx="685800" cy="75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098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352680" y="5334120"/>
            <a:ext cx="76212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8672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c0128"/>
                </a:solidFill>
                <a:latin typeface="Arial"/>
              </a:rPr>
              <a:t>Factores  que  afectan  los  costos  del 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egu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ane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terés del 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  Matriz  de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rminación  de 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   MAESTRO   DE 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  MAESTRO 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  MAESTRO  TA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32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4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525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LAN MAESTR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e la planificación anual de las actividades de mantención asegurando la confección del presupuesto sobre bases de lo que realmente se piensa hacer. Garantiza una adecuada coordinación con la Producción a lo largo del 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Tipos  de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560" y="1200240"/>
            <a:ext cx="80276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Plan  Matriz 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PLANIFICACION  GLOBAL de las actividades d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INCLUYE  TODOS  LOS  EQUIPOS,  TODOS 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ABAJOS  INTEGRADOS  (mecánicos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éctricos,  civiles, de inversión,  etc. 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SE  BALANCEA  CON  LOS  RECURSOS DISP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MANEJA  UNIDADES  DE UTILIZACION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SE ACTUALIZA PERMANENTE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Plan  Matriz  Táct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EJA  LOS CAMBIOS  DE LARGO  PLAZ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00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7960" y="1492200"/>
            <a:ext cx="7522920" cy="468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2480" y="4638600"/>
            <a:ext cx="1440" cy="95400"/>
          </a:xfrm>
          <a:custGeom>
            <a:avLst/>
            <a:gdLst/>
            <a:ahLst/>
            <a:rect l="l" t="t" r="r" b="b"/>
            <a:pathLst>
              <a:path w="1" h="60">
                <a:moveTo>
                  <a:pt x="0" y="59"/>
                </a:move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1480" y="1601640"/>
            <a:ext cx="47880" cy="4708800"/>
          </a:xfrm>
          <a:custGeom>
            <a:avLst/>
            <a:gdLst/>
            <a:ahLst/>
            <a:rect l="l" t="t" r="r" b="b"/>
            <a:pathLst>
              <a:path w="30" h="2966">
                <a:moveTo>
                  <a:pt x="0" y="0"/>
                </a:moveTo>
                <a:lnTo>
                  <a:pt x="7" y="2965"/>
                </a:lnTo>
                <a:lnTo>
                  <a:pt x="29" y="2965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7840" y="1646280"/>
            <a:ext cx="58680" cy="4676760"/>
          </a:xfrm>
          <a:custGeom>
            <a:avLst/>
            <a:gdLst/>
            <a:ahLst/>
            <a:rect l="l" t="t" r="r" b="b"/>
            <a:pathLst>
              <a:path w="37" h="2946">
                <a:moveTo>
                  <a:pt x="0" y="0"/>
                </a:moveTo>
                <a:lnTo>
                  <a:pt x="0" y="2945"/>
                </a:lnTo>
                <a:lnTo>
                  <a:pt x="36" y="2945"/>
                </a:lnTo>
                <a:lnTo>
                  <a:pt x="3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60600" y="1612800"/>
            <a:ext cx="36720" cy="4775400"/>
          </a:xfrm>
          <a:custGeom>
            <a:avLst/>
            <a:gdLst/>
            <a:ahLst/>
            <a:rect l="l" t="t" r="r" b="b"/>
            <a:pathLst>
              <a:path w="23" h="3008">
                <a:moveTo>
                  <a:pt x="0" y="0"/>
                </a:moveTo>
                <a:lnTo>
                  <a:pt x="0" y="3007"/>
                </a:lnTo>
                <a:lnTo>
                  <a:pt x="22" y="3007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56200" y="1623960"/>
            <a:ext cx="36360" cy="4699080"/>
          </a:xfrm>
          <a:custGeom>
            <a:avLst/>
            <a:gdLst/>
            <a:ahLst/>
            <a:rect l="l" t="t" r="r" b="b"/>
            <a:pathLst>
              <a:path w="23" h="2960">
                <a:moveTo>
                  <a:pt x="0" y="0"/>
                </a:moveTo>
                <a:lnTo>
                  <a:pt x="0" y="2959"/>
                </a:lnTo>
                <a:lnTo>
                  <a:pt x="22" y="2959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05440" y="1601640"/>
            <a:ext cx="47520" cy="4730760"/>
          </a:xfrm>
          <a:custGeom>
            <a:avLst/>
            <a:gdLst/>
            <a:ahLst/>
            <a:rect l="l" t="t" r="r" b="b"/>
            <a:pathLst>
              <a:path w="30" h="2980">
                <a:moveTo>
                  <a:pt x="0" y="0"/>
                </a:moveTo>
                <a:lnTo>
                  <a:pt x="7" y="2979"/>
                </a:lnTo>
                <a:lnTo>
                  <a:pt x="29" y="2979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56120" y="1601640"/>
            <a:ext cx="36720" cy="4643640"/>
          </a:xfrm>
          <a:custGeom>
            <a:avLst/>
            <a:gdLst/>
            <a:ahLst/>
            <a:rect l="l" t="t" r="r" b="b"/>
            <a:pathLst>
              <a:path w="23" h="2925">
                <a:moveTo>
                  <a:pt x="0" y="0"/>
                </a:moveTo>
                <a:lnTo>
                  <a:pt x="0" y="2924"/>
                </a:lnTo>
                <a:lnTo>
                  <a:pt x="22" y="2924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1601640"/>
            <a:ext cx="36360" cy="4741920"/>
          </a:xfrm>
          <a:custGeom>
            <a:avLst/>
            <a:gdLst/>
            <a:ahLst/>
            <a:rect l="l" t="t" r="r" b="b"/>
            <a:pathLst>
              <a:path w="23" h="2987">
                <a:moveTo>
                  <a:pt x="0" y="0"/>
                </a:moveTo>
                <a:lnTo>
                  <a:pt x="0" y="2986"/>
                </a:lnTo>
                <a:lnTo>
                  <a:pt x="22" y="2986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5240" y="1612800"/>
            <a:ext cx="36720" cy="4719600"/>
          </a:xfrm>
          <a:custGeom>
            <a:avLst/>
            <a:gdLst/>
            <a:ahLst/>
            <a:rect l="l" t="t" r="r" b="b"/>
            <a:pathLst>
              <a:path w="23" h="2973">
                <a:moveTo>
                  <a:pt x="0" y="0"/>
                </a:moveTo>
                <a:lnTo>
                  <a:pt x="0" y="2972"/>
                </a:lnTo>
                <a:lnTo>
                  <a:pt x="22" y="2972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2640" y="2178000"/>
            <a:ext cx="7575480" cy="34920"/>
          </a:xfrm>
          <a:custGeom>
            <a:avLst/>
            <a:gdLst/>
            <a:ahLst/>
            <a:rect l="l" t="t" r="r" b="b"/>
            <a:pathLst>
              <a:path w="4772" h="22">
                <a:moveTo>
                  <a:pt x="0" y="21"/>
                </a:moveTo>
                <a:lnTo>
                  <a:pt x="4771" y="21"/>
                </a:lnTo>
                <a:lnTo>
                  <a:pt x="477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3800" y="2736720"/>
            <a:ext cx="7575480" cy="47880"/>
          </a:xfrm>
          <a:custGeom>
            <a:avLst/>
            <a:gdLst/>
            <a:ahLst/>
            <a:rect l="l" t="t" r="r" b="b"/>
            <a:pathLst>
              <a:path w="4772" h="30">
                <a:moveTo>
                  <a:pt x="0" y="22"/>
                </a:moveTo>
                <a:lnTo>
                  <a:pt x="4771" y="29"/>
                </a:lnTo>
                <a:lnTo>
                  <a:pt x="4771" y="7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4960" y="3274920"/>
            <a:ext cx="7564320" cy="34920"/>
          </a:xfrm>
          <a:custGeom>
            <a:avLst/>
            <a:gdLst/>
            <a:ahLst/>
            <a:rect l="l" t="t" r="r" b="b"/>
            <a:pathLst>
              <a:path w="4765" h="22">
                <a:moveTo>
                  <a:pt x="0" y="21"/>
                </a:moveTo>
                <a:lnTo>
                  <a:pt x="4764" y="21"/>
                </a:lnTo>
                <a:lnTo>
                  <a:pt x="4764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1480" y="3844800"/>
            <a:ext cx="7575480" cy="36720"/>
          </a:xfrm>
          <a:custGeom>
            <a:avLst/>
            <a:gdLst/>
            <a:ahLst/>
            <a:rect l="l" t="t" r="r" b="b"/>
            <a:pathLst>
              <a:path w="4772" h="23">
                <a:moveTo>
                  <a:pt x="0" y="22"/>
                </a:moveTo>
                <a:lnTo>
                  <a:pt x="4771" y="22"/>
                </a:lnTo>
                <a:lnTo>
                  <a:pt x="477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1480" y="4371840"/>
            <a:ext cx="7597800" cy="36720"/>
          </a:xfrm>
          <a:custGeom>
            <a:avLst/>
            <a:gdLst/>
            <a:ahLst/>
            <a:rect l="l" t="t" r="r" b="b"/>
            <a:pathLst>
              <a:path w="4786" h="23">
                <a:moveTo>
                  <a:pt x="0" y="22"/>
                </a:moveTo>
                <a:lnTo>
                  <a:pt x="4785" y="22"/>
                </a:lnTo>
                <a:lnTo>
                  <a:pt x="478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800" y="4943520"/>
            <a:ext cx="7564320" cy="46080"/>
          </a:xfrm>
          <a:custGeom>
            <a:avLst/>
            <a:gdLst/>
            <a:ahLst/>
            <a:rect l="l" t="t" r="r" b="b"/>
            <a:pathLst>
              <a:path w="4765" h="29">
                <a:moveTo>
                  <a:pt x="0" y="21"/>
                </a:moveTo>
                <a:lnTo>
                  <a:pt x="4764" y="28"/>
                </a:lnTo>
                <a:lnTo>
                  <a:pt x="4764" y="6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560" y="5545080"/>
            <a:ext cx="7586640" cy="47520"/>
          </a:xfrm>
          <a:custGeom>
            <a:avLst/>
            <a:gdLst/>
            <a:ahLst/>
            <a:rect l="l" t="t" r="r" b="b"/>
            <a:pathLst>
              <a:path w="4779" h="30">
                <a:moveTo>
                  <a:pt x="0" y="22"/>
                </a:moveTo>
                <a:lnTo>
                  <a:pt x="4778" y="29"/>
                </a:lnTo>
                <a:lnTo>
                  <a:pt x="4778" y="7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1480" y="1704960"/>
            <a:ext cx="6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07480" y="169380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5240" y="170496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6800" y="1716120"/>
            <a:ext cx="83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1693800"/>
            <a:ext cx="72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89320" y="167148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2000" y="168264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93920" y="168264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2080" y="168264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8120" y="228600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9280" y="28576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9280" y="335916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9280" y="39304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8120" y="448956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20" y="5060880"/>
            <a:ext cx="67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6120" y="2409840"/>
            <a:ext cx="13320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0600" y="2421000"/>
            <a:ext cx="1224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19720" y="2454120"/>
            <a:ext cx="12240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54920" y="2454120"/>
            <a:ext cx="120600" cy="117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81360" y="2376360"/>
            <a:ext cx="120600" cy="119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37000" y="2387520"/>
            <a:ext cx="142920" cy="141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0040" y="2376360"/>
            <a:ext cx="190440" cy="185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59800" y="2322360"/>
            <a:ext cx="210960" cy="206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74880" y="2930400"/>
            <a:ext cx="236520" cy="209520"/>
          </a:xfrm>
          <a:custGeom>
            <a:avLst/>
            <a:gdLst/>
            <a:ahLst/>
            <a:rect l="l" t="t" r="r" b="b"/>
            <a:pathLst>
              <a:path w="149" h="132">
                <a:moveTo>
                  <a:pt x="42" y="27"/>
                </a:moveTo>
                <a:lnTo>
                  <a:pt x="0" y="90"/>
                </a:lnTo>
                <a:lnTo>
                  <a:pt x="105" y="131"/>
                </a:lnTo>
                <a:lnTo>
                  <a:pt x="148" y="83"/>
                </a:lnTo>
                <a:lnTo>
                  <a:pt x="112" y="48"/>
                </a:lnTo>
                <a:lnTo>
                  <a:pt x="84" y="0"/>
                </a:lnTo>
                <a:lnTo>
                  <a:pt x="91" y="20"/>
                </a:lnTo>
                <a:lnTo>
                  <a:pt x="84" y="14"/>
                </a:lnTo>
                <a:lnTo>
                  <a:pt x="70" y="55"/>
                </a:lnTo>
                <a:lnTo>
                  <a:pt x="77" y="27"/>
                </a:lnTo>
                <a:lnTo>
                  <a:pt x="42" y="2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48160" y="3002040"/>
            <a:ext cx="14292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43760" y="3013200"/>
            <a:ext cx="14292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0400" y="3517920"/>
            <a:ext cx="15552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4480" y="3540240"/>
            <a:ext cx="244800" cy="129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9440" y="3540240"/>
            <a:ext cx="24444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1640" y="3562200"/>
            <a:ext cx="2664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0880" y="3551400"/>
            <a:ext cx="257040" cy="856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0760" y="3562200"/>
            <a:ext cx="244440" cy="525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43760" y="3540240"/>
            <a:ext cx="244440" cy="522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26400" y="3551400"/>
            <a:ext cx="31104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6800" y="4121280"/>
            <a:ext cx="32220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0" y="4121280"/>
            <a:ext cx="31104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59600" y="4110120"/>
            <a:ext cx="377640" cy="871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5240" y="4121280"/>
            <a:ext cx="30024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41480" y="4603680"/>
            <a:ext cx="200160" cy="1414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3600" y="4637160"/>
            <a:ext cx="222480" cy="129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97680" y="4626000"/>
            <a:ext cx="29052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90800" y="5180040"/>
            <a:ext cx="12384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200560"/>
            <a:ext cx="14436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46440" y="5200560"/>
            <a:ext cx="135000" cy="13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1680" y="5168880"/>
            <a:ext cx="14472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91280" y="5222880"/>
            <a:ext cx="13464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9640" y="5200560"/>
            <a:ext cx="133560" cy="13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81840" y="5222880"/>
            <a:ext cx="13320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19920" y="5191200"/>
            <a:ext cx="133560" cy="12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5000" y="5730840"/>
            <a:ext cx="93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C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62280" y="558792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58880" y="5927760"/>
            <a:ext cx="91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5040" y="5600880"/>
            <a:ext cx="49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66080" y="590544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5610240"/>
            <a:ext cx="48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4560" y="558792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62560" y="559908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66000" y="561960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3560" y="561024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2800" y="563076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3880" y="586116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3200" y="587376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75920" y="588312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7200" y="588312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85360" y="589428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71040" y="589428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2760" y="1276200"/>
            <a:ext cx="793476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PRONOSTICAR RECURS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nos y extern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o de Obra, Repuestos, Terceros, e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RVIR DE BASE PARA NEGOCI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 PROGRAMA DE PRODUCCION y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PARAR LOS PROGRAMAS MENSU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NOSTICAR Y CONTROLAR LOS CO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PARAR EL PRESUPUESTO AN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960" y="1581120"/>
            <a:ext cx="885672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PLAN GENERA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QUE ABARCA UNO  O  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ACTUALIZA  SEMESTRAL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 PREPARAN  VERSIONES  MENSUALE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UESTRA 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TODOS  LOS  “EDIM”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DE  LA  PLANT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 ACTUALIZA  CONTINUAMENTE  SEGÚN  L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ILIZACION  REAL DE LOS  EDIM  Y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JECUCION  REAL  DE  LOS  TRABA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SE  EVALUA  PARA  OBTENER  LA  AUTOR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DE  SU  COSTO  POR  PARTE  DEL  “DUEÑO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Producción,  operaciones, 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160" y="1581120"/>
            <a:ext cx="903672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UESTRA  LOS  TRABAJOS D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TENCION  PLANIFICAD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TROS  TRABAJOS  (Inversión,  modificaciones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S  TRABAJOS  SE  IDENTIFICAN  POR  SIMBO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Y  SE  ESPECIFICA: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ILIZACION  REAL DE LOS  EDIM  Y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JECUCION  REAL  DE  LOS  TRABA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7:59:09Z</dcterms:modified>
  <cp:revision>21309</cp:revision>
  <dc:subject/>
  <dc:title>ADMINISTRACION  DEL  MANTENIMIENTO</dc:title>
</cp:coreProperties>
</file>