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E3FB-F06F-4312-A609-93FC5ED36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57E1-8D93-4D92-B272-B46C1B6D5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DC6A-4047-49DC-8159-A83579EB5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50FC-E508-42A5-971B-E85755859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B25D4-010D-499D-98A8-874B87853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F75D0-4462-42EB-9EC8-C6E026674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A3C8F-140D-46E0-8600-630A8FA24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CF48E-944D-4DE9-9AFD-D83E34B95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4B61F-90CC-4EB6-8F58-8A56CFF88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0" y="30456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2ACB0-BACF-4645-921A-9D2336AFD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D768C-D44A-4181-856A-9A80F0C03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468D-7BDE-492F-8D6E-992144825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28B2B-118A-4703-BAD9-8DE6C78FD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F1280-B5DA-4A1B-BB03-D20E4AC11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73485-DC11-4821-B30A-AF7860FD7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6947E-6CF8-47FD-8E1D-494C003AD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CEE42-934A-4E5D-95C0-AD3ED13AE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0F34-3678-4E51-A4E9-39A1F6273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9A34-9849-4471-8A20-A3E71D1C1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DCDE-BBAB-46A1-9C0A-E365ACF64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0" y="30456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DD73-3DA1-40A6-B31A-64411F920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D2A7-678B-4D59-9A53-11A18B69D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36A0-CA9A-4B7B-AC82-A63F0FF80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302F-23AA-437F-9D51-08790F921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1440"/>
            <a:ext cx="9144000" cy="6859440"/>
            <a:chOff x="0" y="-1440"/>
            <a:chExt cx="9144000" cy="6859440"/>
          </a:xfrm>
        </p:grpSpPr>
        <p:sp>
          <p:nvSpPr>
            <p:cNvPr id="1" name=""/>
            <p:cNvSpPr/>
            <p:nvPr/>
          </p:nvSpPr>
          <p:spPr>
            <a:xfrm>
              <a:off x="0" y="1371600"/>
              <a:ext cx="9144000" cy="54864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6548400"/>
              <a:ext cx="9144000" cy="30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-1440"/>
              <a:ext cx="9144000" cy="1611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0" y="1609560"/>
              <a:ext cx="9144000" cy="414000"/>
              <a:chOff x="0" y="1609560"/>
              <a:chExt cx="9144000" cy="414000"/>
            </a:xfrm>
          </p:grpSpPr>
          <p:sp>
            <p:nvSpPr>
              <p:cNvPr id="5" name=""/>
              <p:cNvSpPr/>
              <p:nvPr/>
            </p:nvSpPr>
            <p:spPr>
              <a:xfrm>
                <a:off x="0" y="1609560"/>
                <a:ext cx="9144000" cy="10368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1713240"/>
                <a:ext cx="9144000" cy="103320"/>
              </a:xfrm>
              <a:prstGeom prst="rect">
                <a:avLst/>
              </a:prstGeom>
              <a:solidFill>
                <a:srgbClr val="a50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1816560"/>
                <a:ext cx="9144000" cy="1036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1920240"/>
                <a:ext cx="9144000" cy="103320"/>
              </a:xfrm>
              <a:prstGeom prst="rect">
                <a:avLst/>
              </a:prstGeom>
              <a:solidFill>
                <a:srgbClr val="99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a50021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800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800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CFCFA-B6BA-4710-8D53-5270DFAB449F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-1440"/>
            <a:ext cx="9144000" cy="6859440"/>
            <a:chOff x="0" y="-1440"/>
            <a:chExt cx="9144000" cy="6859440"/>
          </a:xfrm>
        </p:grpSpPr>
        <p:sp>
          <p:nvSpPr>
            <p:cNvPr id="51" name=""/>
            <p:cNvSpPr/>
            <p:nvPr/>
          </p:nvSpPr>
          <p:spPr>
            <a:xfrm>
              <a:off x="0" y="2895480"/>
              <a:ext cx="9144000" cy="3962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6548400"/>
              <a:ext cx="9144000" cy="30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-1440"/>
              <a:ext cx="9144000" cy="3201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3200400"/>
              <a:ext cx="9144000" cy="414000"/>
              <a:chOff x="0" y="3200400"/>
              <a:chExt cx="9144000" cy="414000"/>
            </a:xfrm>
          </p:grpSpPr>
          <p:sp>
            <p:nvSpPr>
              <p:cNvPr id="55" name=""/>
              <p:cNvSpPr/>
              <p:nvPr/>
            </p:nvSpPr>
            <p:spPr>
              <a:xfrm>
                <a:off x="0" y="3200400"/>
                <a:ext cx="9144000" cy="10368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3304080"/>
                <a:ext cx="9144000" cy="103320"/>
              </a:xfrm>
              <a:prstGeom prst="rect">
                <a:avLst/>
              </a:prstGeom>
              <a:solidFill>
                <a:srgbClr val="a50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3407400"/>
                <a:ext cx="9144000" cy="1036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511080"/>
                <a:ext cx="9144000" cy="103320"/>
              </a:xfrm>
              <a:prstGeom prst="rect">
                <a:avLst/>
              </a:prstGeom>
              <a:solidFill>
                <a:srgbClr val="99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1712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734FA-D0CD-43F9-A4D0-B120CF8902A3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 Black"/>
              </a:rPr>
              <a:t>PROPIEDADES FISICAS DEL AIR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9296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Parámetros básico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32640" indent="-332640"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     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El aire de las minas se asemeja a los gases    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perfectos en cuanto a sus propiedades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32640" indent="-332640"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     </a:t>
            </a:r>
            <a:r>
              <a:rPr b="1" lang="es-ES_tradnl" sz="2400" spc="-1" strike="noStrike">
                <a:solidFill>
                  <a:srgbClr val="000000"/>
                </a:solidFill>
                <a:latin typeface="Arial Black"/>
              </a:rPr>
              <a:t>Densidad: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 cantidad de masa de aire contenida en                 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una unidad de volumen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32640" indent="-332640"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     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d = m / v = G / g x v  [kg seg 2 / m4]  donde: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G = peso en kilogramo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g = aceleración de la fuerza de gravedad en m / seg2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m = masa en kg x seg2 / m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v = volumen en metros cúbicos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 Black"/>
              </a:rPr>
              <a:t>PROPIEDADES FISICAS DEL AIR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9296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Para los efectos de las presiones usuales, el aire se considera no viscoso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29040" indent="-32904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= p / R x T , peso específico varía con la presión y la temperatura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29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                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es constante si el fluido es incompresible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29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                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es variable si el fluido es compresible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29040" indent="-32904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Variación de presión: Se debe a dos motivos: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29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   </a:t>
            </a:r>
            <a:r>
              <a:rPr b="1" lang="es-ES_tradnl" sz="2400" spc="-1" strike="noStrike">
                <a:solidFill>
                  <a:srgbClr val="ff0000"/>
                </a:solidFill>
                <a:latin typeface="Arial Black"/>
              </a:rPr>
              <a:t>diferencia de cota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; en 100 m de variación de altura la variación de presión es de 130 mm de c.a. Si es de 1000 m la presión varía en 1.300 mm de c.a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29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 Black"/>
              </a:rPr>
              <a:t>PROPIEDADES FISICAS DEL AIR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9296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   </a:t>
            </a:r>
            <a:r>
              <a:rPr b="1" lang="es-ES_tradnl" sz="2400" spc="-1" strike="noStrike">
                <a:solidFill>
                  <a:srgbClr val="ff0000"/>
                </a:solidFill>
                <a:latin typeface="Arial Black"/>
              </a:rPr>
              <a:t>pérdidas de carga ;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 son muy variables y dependen del tipo de ventiladores y del tipo de instalaciones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La variación de temperatura puede ser importante. Una variación de 20 °C puede significar una variación del peso específico de 7 %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Al introducir aire en una mina va a aumentar su presión y temperatura. El aumento de estos dos parámetros hace que la variación del peso específico no sea considerable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Una diferencia de cota menor a 200 metros, mantiene un peso específico constante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 Black"/>
              </a:rPr>
              <a:t>PROPIEDADES FISICAS DEL AIR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9296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  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Humedad del aire:  siempre contiene cierta   cantidad de agua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Según la forma como se calcula la cantidad de vapor de agua tenemos dos tipos de humedad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Humedad absoluta: contenido de vapor de agua en gramos en un metro cúbico de aire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   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mientras mayor es la temperatura del aire, puede contener mayor cantidad de vapor de agua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Humedad relativa: es la relación del contenido de vapor de agua en gramos por metro cúbico con el máximo posible que pueda contener a una temperatura dada.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 Black"/>
              </a:rPr>
              <a:t>PROPIEDADES FISICAS DEL AIR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9296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   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Ejemplo: Si hay 10,4 gr/m3 de vapor de agua a una temperatura de 15 °C y a una presión normal de 760 mm de Hg, el contenido máximo de vapor de agua (en el punto de saturación) a esa temperatura es de 12,8 gr/m3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      </a:t>
            </a: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= humedad relativa = (10,4 / 12,8) x 100 = 81 %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   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La humedad relativa del aire se mide con el psicómetro y el higrómetro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 Black"/>
              </a:rPr>
              <a:t>PROPIEDADES FISICAS DEL AIR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9296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   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Movimiento del aire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si el aire se mueve lentamente las líneas de flujo que lo componen, no se mezclan entre sí y se mueven paralelamente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Este tipo de flujo es laminar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si la velocidad del aire aumenta, las líneas de flujo comienzan a mezclarse entre si, formando un torbellino. Es un flujo turbulento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En minería el movimiento del aire es turbulento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 Black"/>
              </a:rPr>
              <a:t>PROPIEDADES FISICAS DEL AIR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9296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El movimientos de los fluidos se determina a     través del número de Reinold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                      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Re = D x V / </a:t>
            </a: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 donde: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D = dimensión fundamental del ducto en metro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V = velocidad del fluido en m / seg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= viscocidad cinemática en m2 / seg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                       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Si Re &lt; 2.000 es flujo laminar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                       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Si 2.000 &lt; Re &lt; 4.000 es flujo intermedio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                       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Si Re &gt; 4.000 es flujo turbulento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 Black"/>
              </a:rPr>
              <a:t>PROPIEDADES FISICAS DEL AIR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9296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Ejemplo: si V = 1 m/seg, D = 2 m y </a:t>
            </a: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 = 1,44 x 10 E-5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                   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m2/seg a 15 °C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Re = 1 x 2 x 10E5 / 1,44 = 139.000 = flujo turbulento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Medición de la presión en el interior de una mina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Medición de la velocidad del aire de una mina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Medición del caudal de aire en una mina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     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queda de tarea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 Black"/>
              </a:rPr>
              <a:t>PROPIEDADES FISICAS DEL AIR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929628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Teorema de Bernoulli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Establece el principio de conservación de la energia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   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expresando que la altura de carga total de un fluido que circula por cualquier sistema se mantendrá constante si no hay pérdidas por rozamientos, compresión, incorporación de otro fluido o pérdida de fluido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La altura de carga total es igual a la suma de las alturas de: carga estática = altura de presión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                      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carga cinética = altura de velocidad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                      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carga de elevación = altura geodésica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 Black"/>
              </a:rPr>
              <a:t>PROPIEDADES FISICAS DEL AIR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929628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Ht = Hs + Hv + Hz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reemplazando las alturas de carga en función de las presiones en un lugar 1 del movimiento del fluido se tiene: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Pt = Ps1 + Pv1 + Pz1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   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Considerando el movimiento del fluido dentro de un ducto donde se ha definido un punto 1 y determinamos otro punto 2, sin tener agregación ni pérdida de fluido en este trayecto, el teorema de Bernoulli indica: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 Black"/>
              </a:rPr>
              <a:t>PROPIEDADES FISICAS DEL AIR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929628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Ps1/</a:t>
            </a: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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 + V12 / 2g + Z1 = Ps2/</a:t>
            </a: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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 + V22 / 2g + Z2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Ps1 y Ps2 = presiones estáticas en puntos 1 y 2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V1 y V2 = velocidad del fluido en puntos 1 y 2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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= densidad del aire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g = aceleración de gravedad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Z1 y Z2 = altura geodésica de los puntos 1 y 2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 Black"/>
              </a:rPr>
              <a:t>PROPIEDADES FISICAS DEL AIR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9296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Parámetros básico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18960" indent="-31896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Black"/>
              </a:rPr>
              <a:t>Peso específico: peso G del aire en una unidad de volumen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1896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Black"/>
              </a:rPr>
              <a:t>                        </a:t>
            </a:r>
            <a:r>
              <a:rPr b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es-ES_tradnl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 Black"/>
              </a:rPr>
              <a:t>= G / v en kg/m3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18960" indent="-31896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Black"/>
              </a:rPr>
              <a:t>El peso específico usado en ventilación de minas es 1,2 kg/m3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18960" indent="-31896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Black"/>
              </a:rPr>
              <a:t>Este es el peso de 1 metro cúbico de aire, con la presión de 1 atmósfera a una temperatura de 15 °C y una humedad de 60 %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18960" indent="-31896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Black"/>
              </a:rPr>
              <a:t>Indica cuantas veces un gas es más pesado o más liviano que el aire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 Black"/>
              </a:rPr>
              <a:t>PROPIEDADES FISICAS DEL AIR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9296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Parámetros básico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291600" indent="-291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Black"/>
              </a:rPr>
              <a:t>Volumen específico: es el volumen v expresado en metros cúbicos ocupado por un kilogramo de aire a una presión y temperatura dada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2916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Black"/>
              </a:rPr>
              <a:t>                           </a:t>
            </a:r>
            <a:r>
              <a:rPr b="1" lang="es-ES_tradnl" sz="2400" spc="-1" strike="noStrike">
                <a:solidFill>
                  <a:srgbClr val="000000"/>
                </a:solidFill>
                <a:latin typeface="Arial Black"/>
              </a:rPr>
              <a:t>v = 1 / G m3 / kg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2916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291600" indent="-291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Black"/>
              </a:rPr>
              <a:t>Presión: se expresa en atmósferas absolutas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291600" indent="-291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Black"/>
              </a:rPr>
              <a:t>Una atmósfera absoluta es la presión p0 = 1,0333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2916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1" lang="es-ES_tradnl" sz="2400" spc="-1" strike="noStrike">
                <a:solidFill>
                  <a:srgbClr val="000000"/>
                </a:solidFill>
                <a:latin typeface="Arial Black"/>
              </a:rPr>
              <a:t>kg / cm2 de una columna de 760 mm de mercurio a 0°C y al nivel del mar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291600" indent="-291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Black"/>
              </a:rPr>
              <a:t>Con el cambio de altura y de temperatura, la presión va cambiando.  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 Black"/>
              </a:rPr>
              <a:t>PROPIEDADES FISICAS DEL AIR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9296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         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log p = log p0 - a / ( 18,04 - 0,667 t )  donde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326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p0 = presión a nivel del mar de 760 mm de mercurio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326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a   = altura sobre el nivel del mar en metro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326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p   = presión en la altura a en mm de mercurio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326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t    = temperatura media del aire entre el nivel del mar   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y el punto considerado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326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326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326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326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2362320" y="3962520"/>
          <a:ext cx="4933800" cy="3114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3962520"/>
                    <a:ext cx="4933800" cy="311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 Black"/>
              </a:rPr>
              <a:t>PROPIEDADES FISICAS DEL AIR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9296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8000"/>
          </a:bodyPr>
          <a:p>
            <a:pPr marL="1987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Temperatura: se expresa en °C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198720" indent="-19872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Se considera como temperatura normal 15 °C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1987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198720" indent="-19872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Calor específico: cantidad de calor (en calorías) que se necesita para calentar 1 kg de gas de 0 a 1 °C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1987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198720" indent="-19872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Para calentar G kilos de gas de la temperatura t1 a t2, se necesitan: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1987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         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W = G x c x ( t2 - t1 ) en que c = calor específico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1987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1987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C = 0,24 a presión constante en kcal / kg x °C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1987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c = 0,17 a volumen constante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1987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1987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1987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1987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1987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1987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198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 Black"/>
              </a:rPr>
              <a:t>PROPIEDADES FISICAS DEL AIR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9296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Viscocidad: resistencia del aire a los esfuerzos tangenciales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Se utiliza en ventilación para una temperatura de 15 °C un </a:t>
            </a: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 = 1,44 x 10 E-5 m2/seg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 Black"/>
              </a:rPr>
              <a:t>PROPIEDADES FISICAS DEL AIR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9296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LEYES BASICAS DE LOS GASES ( recordatorio )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358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35880" indent="-3358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Ley de Boyle Mariotte: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358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   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a temperatura constante p1/p2 = v1/v2 = </a:t>
            </a: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1/</a:t>
            </a: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2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35880" indent="-3358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Ley de Gay Lussac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358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a presión constante T1/T2 = v1/v2 = </a:t>
            </a: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1/</a:t>
            </a: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358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a volumen constante p1/p2 = T1/T2 = </a:t>
            </a: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1/</a:t>
            </a: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35880" indent="-3358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con el aumento o disminución de la temperatura en un grado el volumen del gas aumenta o disminuye 1/273 de su volumen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35880" indent="-3358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Se demuestra que v2 = v1 x (1+ 0,00366 t)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358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358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358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358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 Black"/>
              </a:rPr>
              <a:t>PROPIEDADES FISICAS DEL AIR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9296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La combinación de las leyes de Boyle Mariotte y de Gay Lussac conduce a la “ecuación general de estado de los gases perfectos”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358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   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p x v = R x T = cte en que R constante que depende de la clase de gas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358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   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R = 29,27 para aire seco y 47,1 para vapor de agua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35880" indent="-335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Ley de Dalton: la presión de una mezcla de gases y vapor de agua es igual a la suma de las presiones parciales que tendría cada gas por separado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3588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                                       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P = </a:t>
            </a: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 p</a:t>
            </a:r>
            <a:r>
              <a:rPr b="1" lang="es-ES_tradnl" sz="1200" spc="-1" strike="noStrike">
                <a:solidFill>
                  <a:srgbClr val="ffffff"/>
                </a:solidFill>
                <a:latin typeface="Arial Black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marL="33588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 Black"/>
              </a:rPr>
              <a:t>PROPIEDADES FISICAS DEL AIR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9296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Peso específico del aire:  como </a:t>
            </a: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 = 1/v y v = R x T/ p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222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por lo que </a:t>
            </a: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 = p/RT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22200" indent="-3222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En rigor el aire no es un gas perfecto. Es compresible y viscoso, pero en ventilación de minas se acerca mucho a un gas perfecto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22200" indent="-3222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En un gas real p x v/ T = R x Z en que Z es el factor de compresibilidad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22200" indent="-3222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El factor de compresibilidad depende de la temperatura y de la presión del gas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22200" indent="-3222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En ventilación de minas exageradamente  se podría llegar a 1000 mm de c.a. equivalente a 0,1 kg/cm2, en cuyo caso el valor de Z sigue siendo 1.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3T00:47:55Z</dcterms:created>
  <dc:creator>Gustavo Reyes B.</dc:creator>
  <dc:description/>
  <dc:language>en-US</dc:language>
  <cp:lastModifiedBy>Minas</cp:lastModifiedBy>
  <dcterms:modified xsi:type="dcterms:W3CDTF">2002-08-16T23:44:05Z</dcterms:modified>
  <cp:revision>19</cp:revision>
  <dc:subject/>
  <dc:title>PROPIEDADES FISICAS DEL AIRE</dc:title>
</cp:coreProperties>
</file>