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524-BAA5-4FC8-8233-233E1EBC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A06-1F28-4461-B8D8-BEE059F6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1E3-703C-421F-B13C-6EAD2476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88D-6FFE-4102-B284-204B4BFE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7464-3FB2-4254-B471-1FE8304F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2F26-9709-4D90-920C-64F7C87C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086F-2730-4013-A2C0-E5702FFA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718A-2796-4769-AF3B-CC763B17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0594-47E5-4DDD-A48E-D9622F91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6645-8555-4023-918B-0B7163D2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7E0E-EFBC-4D02-8CF9-3C8050A7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097-FC18-447A-B505-A508397D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78B4-C9DC-4BA7-AFEC-84DE7D86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64B2-95CD-4BB9-A682-3224A09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2E4A-E3F3-498E-B717-8611A8D3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1D5D-7A19-48A5-A229-69DBC24F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4D5C-B060-4905-B7DF-2866959E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150-19D6-4428-8F64-141EC80E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2A5-79A0-404E-BFD2-834010CF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F48-0FFA-4DB1-BE15-913B8805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A9C-7BEA-4329-821C-B9EFA5FC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16D-5B57-4184-A652-FA1A58F0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A5F-DADC-4AFB-80EC-1AB2C5AC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395-2FE5-4D78-A2C0-6FDB5DB5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5E13-4970-480B-8108-8ED65E2D321C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F33D-9EC0-43AB-955F-48AA79EFDC66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Propiedades de lo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Estimadores e Intervalos de confianz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alos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 sé exactamente cuál es el valor del pará metro pero puedo asegurar con una probabilidad              que se encuentra en este interva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09880" y="2895480"/>
                <a:ext cx="990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09680" y="3886200"/>
                <a:ext cx="57150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insesgado se define cóm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 sesgo queda definido entonces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2209680"/>
                <a:ext cx="16254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57800" y="4724280"/>
                <a:ext cx="2921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sgo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remos que un estimador es asintóticamente insesgado cuand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consistente cump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334120" y="4114800"/>
                <a:ext cx="28954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5600880"/>
                <a:ext cx="27432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486400" y="2286000"/>
                <a:ext cx="2666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∞</m:t>
                        </m:r>
                      </m:e>
                    </m:acc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CM: Error cuadrático medio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rve para comparar estimadores ¿porqué?¿Con cuál nos quedamo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81480" y="1981080"/>
                <a:ext cx="39625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sg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eficien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cantidad de información aportada por la muestra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mbién conocida cómo la cantidad de información de fis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3505320"/>
                <a:ext cx="3699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tra manera de expresar la información aportada por una muestra para un parámetro es a partir de la función de verosimilitud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52680" y="3581280"/>
                <a:ext cx="36990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5486400"/>
                <a:ext cx="2222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 define la cota de Cramer Rao para los estimadores insesgados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2971800"/>
                <a:ext cx="38098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in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es consistente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es estimadores son candidatos a cumplir la cota de Cramer Ra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Siempre es mejor un estimador insesgado a otro 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podemos inducir sesgo antes de hacer el estudi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21T01:44:10Z</dcterms:modified>
  <cp:revision>50</cp:revision>
  <dc:subject/>
  <dc:title>ESTADISTICA MA34B 02</dc:title>
</cp:coreProperties>
</file>