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F115-A6F3-4EA0-B7C5-71630D7A3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E896-6A99-4230-972D-F047EFF82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3402-09A1-40D8-96A4-6F87D015C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39DC-B549-4B4C-B0CD-2AEC394D5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ED0DF-4E45-4104-A6DE-8B3D49F55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40839-DB69-4D10-B4FE-9887C6C6A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1C749-E63F-4692-ADB9-626B741BC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EA290-EBD2-493B-8808-9DFFAF741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87833-3B41-4349-B7AB-39F0D4518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27AF8-9C60-4A0E-BB62-D1325DF26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AFC7A-E17F-464D-A7F5-2CCAC569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C0F7-CB8C-49D9-BA33-295188673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DFD06-CD2F-4D2F-BB5B-7CC089F4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84A3A-709B-43D4-A00F-614F0438B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878CD-C105-4174-AC22-90F2788FE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77244-C5BC-4BDF-8368-ABBCB7CFC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09A1F-0543-42B6-98FF-2D8C97478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02ED-7D70-4E46-BD89-43416A6CA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405A-BA4C-43DE-92B3-417633BFC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24C1-0A75-44C4-A1DE-7860608F0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7172-0120-44B4-8F0D-CC2FDC7B7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035C-15D9-4C97-9DDF-7C39B9C5C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EFAC-6745-40E0-9916-ADBF54941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8D07-7799-4F72-B9AA-1122B2B77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8CEDD-2878-4BE6-8770-7BC3AE37AC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ACB91-64D2-4FB8-95C9-DC506C8FC8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lorena.cerda@sii.c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221304"/>
                </a:solidFill>
                <a:latin typeface="Times New Roman"/>
              </a:rPr>
              <a:t>Análisis descriptivo de dato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43000" y="1142640"/>
            <a:ext cx="769608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Hoy día serán evaluados p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Buena generación de planilla Excel, la cuál les fue dada de tarea la semana pasad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Análisis descriptivo de las variabl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Generación de hipótesis de trabaj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Sugerencia de cómo comprobar con las herramientas que tienen las hipótesis de trabaj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b1301"/>
                </a:solidFill>
                <a:latin typeface="Times New Roman"/>
              </a:rPr>
              <a:t>Buena generación de planilla Excel, </a:t>
            </a:r>
            <a:br>
              <a:rPr sz="2900"/>
            </a:br>
            <a:r>
              <a:rPr b="1" lang="en-US" sz="2900" spc="-1" strike="noStrike">
                <a:solidFill>
                  <a:srgbClr val="9b1301"/>
                </a:solidFill>
                <a:latin typeface="Times New Roman"/>
              </a:rPr>
              <a:t>la cuál les fue dada de tarea la semana pasada.</a:t>
            </a:r>
            <a:br>
              <a:rPr sz="2900"/>
            </a:br>
            <a:endParaRPr b="0" lang="en-US" sz="29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Al inicio del laboratorio el auxiliar irá a ver su planilla excel y pondrá una nota por ell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No olviden mostrarsela al inicio, sino su nota en este ítem será un 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b1301"/>
                </a:solidFill>
                <a:latin typeface="Times New Roman"/>
              </a:rPr>
              <a:t>Análisis descriptivo de las variables.</a:t>
            </a:r>
            <a:br>
              <a:rPr sz="2900"/>
            </a:br>
            <a:endParaRPr b="0" lang="en-US" sz="29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l objetivo de este punto es que mediante las herramientas descriptivas estadísticas que conocen y apoyándose en la matriz que hicieron la clase pasada conozcan miren como se comportan sus variables de estud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mo el nombre del análisis lo dice deberán describir las variab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b1301"/>
                </a:solidFill>
                <a:latin typeface="Times New Roman"/>
              </a:rPr>
              <a:t>Generación de hipótesis de trabajo.</a:t>
            </a:r>
            <a:br>
              <a:rPr sz="2900"/>
            </a:br>
            <a:endParaRPr b="0" lang="en-US" sz="29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Observando los resultados del análisis descriptivo deberán generar hipótesis tales que sus respuestas permitan concluir sobre su objetivo de encues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jm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9b1301"/>
                </a:solidFill>
                <a:latin typeface="Times New Roman"/>
              </a:rPr>
              <a:t>Obj: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Entender la distribución de ingresos en Santi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9b1301"/>
                </a:solidFill>
                <a:latin typeface="Times New Roman"/>
              </a:rPr>
              <a:t>Análisis descriptiv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9b1301"/>
                </a:solidFill>
                <a:latin typeface="Times New Roman"/>
              </a:rPr>
              <a:t>Hipótesis: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Los hombres ganan más que las muje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572000" y="4800600"/>
                <a:ext cx="194616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om</m:t>
                        </m:r>
                        <m:r>
                          <m:rPr>
                            <m:lit/>
                            <m:nor/>
                          </m:rPr>
                          <m:t xml:space="preserve">bre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50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6705720" y="4800600"/>
                <a:ext cx="186696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ujere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30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b1301"/>
                </a:solidFill>
                <a:latin typeface="Times New Roman"/>
              </a:rPr>
              <a:t>Sugerencia de cómo comprobar con las herramientas que tienen las hipótesis de trabajo.</a:t>
            </a:r>
            <a:br>
              <a:rPr sz="2900"/>
            </a:br>
            <a:endParaRPr b="0" lang="en-US" sz="29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berán pensar que herramienta de las aprendidas pueden utilizar para comprobar cada hípótes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ontinuando con el ejemplo en esta parte deberían pon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Hipótesis: Los hombres ganan más que las muje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étodo comprobación: test de comparación de medias, intervalo para diferencia de med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221304"/>
                </a:solidFill>
                <a:latin typeface="Times New Roman"/>
              </a:rPr>
              <a:t>No olvid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ntreguen su trabajo con el formato del archivo word entreg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nvíen su trabajo al mail </a:t>
            </a:r>
            <a:r>
              <a:rPr b="0" lang="es-CL" sz="28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lorena.cerda@sii.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cuerden que una vez terminado el laboratorio la auxiliar me enviará un mail indicando hora de cierre de recepción de trabaj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antengan una copia de lo que me enví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oner el nombre de todos los integrantes en el archi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9T12:32:56Z</dcterms:created>
  <dc:creator>cmorales</dc:creator>
  <dc:description/>
  <dc:language>en-US</dc:language>
  <cp:lastModifiedBy>Soporte Técnico</cp:lastModifiedBy>
  <dcterms:modified xsi:type="dcterms:W3CDTF">2005-01-06T18:27:56Z</dcterms:modified>
  <cp:revision>21</cp:revision>
  <dc:subject/>
  <dc:title>ESTADISTICA MA34B 02</dc:title>
</cp:coreProperties>
</file>