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68B-7B6F-411C-B138-F38873D5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B89-D964-4FE5-BE81-03A74DD6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578-E97D-49C8-88C1-2020DD04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B6D-9101-49F7-8577-5C7274C5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C15-60EA-45A9-94C4-68ABE8A7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F78-74D5-4A9A-8603-0495013F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E70-5E15-4048-95E0-714B05CA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641-6081-44D7-83D1-0FBEEAFA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210-5D52-4335-B96A-F16C97C4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8D5-1A90-491A-9189-89FEFB9B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350-8435-4BDF-8BC9-3160A993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1B9-A347-4AFD-BCD7-CAD23D1D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09CF-2FCC-473C-B50B-D2BA11C91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19200"/>
          <a:ext cx="804060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0406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280" y="630360"/>
          <a:ext cx="89694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630360"/>
                    <a:ext cx="89694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717480"/>
          <a:ext cx="86090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17480"/>
                    <a:ext cx="86090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33440" y="630360"/>
          <a:ext cx="81392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30360"/>
                    <a:ext cx="81392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4120" y="557280"/>
          <a:ext cx="859644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57280"/>
                    <a:ext cx="859644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30080" y="630360"/>
          <a:ext cx="825048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25048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9520" y="681120"/>
          <a:ext cx="88329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81120"/>
                    <a:ext cx="88329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606600"/>
          <a:ext cx="84740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06600"/>
                    <a:ext cx="84740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7000" y="593640"/>
          <a:ext cx="86216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93640"/>
                    <a:ext cx="86216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606600"/>
          <a:ext cx="84740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4740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9400" y="630360"/>
          <a:ext cx="8893080" cy="74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30360"/>
                    <a:ext cx="8893080" cy="74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31:00Z</dcterms:created>
  <dc:creator>jalvarez</dc:creator>
  <dc:description/>
  <dc:language>en-US</dc:language>
  <cp:lastModifiedBy>jalvarez</cp:lastModifiedBy>
  <cp:lastPrinted>2005-05-03T21:14:16Z</cp:lastPrinted>
  <dcterms:modified xsi:type="dcterms:W3CDTF">2005-05-04T17:04:15Z</dcterms:modified>
  <cp:revision>13</cp:revision>
  <dc:subject/>
  <dc:title>Sin título de diapositiva</dc:title>
</cp:coreProperties>
</file>