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B1BB-6312-4DE3-A908-FB0BCA33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1C3-5170-4A19-8614-D3A2833E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B685-2913-4CF7-BA78-936D3B149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1BFA-8961-4052-A46E-5E2FF522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26A7-2387-4360-A6F5-4D32CB9A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E0D5-962D-4E4D-B04F-C727CB68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AA4B-71DE-46A1-B463-27765E00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486B-5580-4ABD-A52C-CA80E42D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7922-9E1A-4C1B-BE1C-EC9AF9D8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688F-3BAF-47D6-B1ED-7020BC12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1F7E-4B88-4172-8129-B172A3F0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0EEE-BCDB-4893-8009-C095AFB9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EB42-66B4-4347-A2E6-F51BED6B3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15840" y="519120"/>
          <a:ext cx="7743960" cy="62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519120"/>
                    <a:ext cx="7743960" cy="62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04880" y="433440"/>
          <a:ext cx="7991280" cy="628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433440"/>
                    <a:ext cx="7991280" cy="62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457200"/>
          <a:ext cx="8177040" cy="66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57200"/>
                    <a:ext cx="8177040" cy="66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55560" y="557280"/>
          <a:ext cx="821376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57280"/>
                    <a:ext cx="821376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03160" y="557280"/>
          <a:ext cx="7991640" cy="653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557280"/>
                    <a:ext cx="7991640" cy="65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57280" y="743040"/>
          <a:ext cx="829944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743040"/>
                    <a:ext cx="82994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03160" y="557280"/>
          <a:ext cx="800424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557280"/>
                    <a:ext cx="800424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952560" y="754200"/>
          <a:ext cx="7508880" cy="551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754200"/>
                    <a:ext cx="7508880" cy="55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43040" y="568440"/>
          <a:ext cx="8101080" cy="72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68440"/>
                    <a:ext cx="8101080" cy="72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92280" y="717480"/>
          <a:ext cx="8140680" cy="559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717480"/>
                    <a:ext cx="814068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44680" y="506520"/>
          <a:ext cx="8200800" cy="583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06520"/>
                    <a:ext cx="8200800" cy="58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43040" y="519120"/>
          <a:ext cx="791676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19120"/>
                    <a:ext cx="791676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1120" y="619200"/>
          <a:ext cx="822492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619200"/>
                    <a:ext cx="822492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15840" y="519120"/>
          <a:ext cx="782964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519120"/>
                    <a:ext cx="782964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30360" y="506520"/>
          <a:ext cx="8226360" cy="61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06520"/>
                    <a:ext cx="8226360" cy="61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90640" y="642960"/>
          <a:ext cx="77929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642960"/>
                    <a:ext cx="77929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28720" y="668160"/>
          <a:ext cx="8004240" cy="561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668160"/>
                    <a:ext cx="8004240" cy="56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18:37:05Z</dcterms:created>
  <dc:creator>jalvarez</dc:creator>
  <dc:description/>
  <dc:language>en-US</dc:language>
  <cp:lastModifiedBy>jalvarez</cp:lastModifiedBy>
  <cp:lastPrinted>2005-07-26T21:47:06Z</cp:lastPrinted>
  <dcterms:modified xsi:type="dcterms:W3CDTF">2005-07-27T20:24:26Z</dcterms:modified>
  <cp:revision>6</cp:revision>
  <dc:subject/>
  <dc:title>Sin título de diapositiva</dc:title>
</cp:coreProperties>
</file>