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80C-7287-4CFB-AEE9-678A7236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2F4-0B7B-4A50-9259-175A752F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30A-E7DD-4C81-A252-0B04B927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31F-054F-4414-B2B7-87CA994A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BF0-4855-4742-8461-2EE2E395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B30-8DBD-467E-9AD7-33B181B9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EEF-D790-4EAC-BD06-39701B2C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F95-A86D-466C-A491-6335738A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449-4C62-41D0-9FFD-4F9FACBA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CBB-38EF-498C-BC26-C36AB2E9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8E6-EBCC-40DA-8962-43B47B63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CA2-6ABC-42BD-B9E5-55ADADEC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A673-BD45-4AAC-86F9-F2020E6B4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1720" y="531720"/>
          <a:ext cx="832500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31720"/>
                    <a:ext cx="832500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57200" y="506520"/>
          <a:ext cx="8523360" cy="61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06520"/>
                    <a:ext cx="8523360" cy="61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46040" y="457200"/>
          <a:ext cx="853452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57200"/>
                    <a:ext cx="853452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95280" y="446040"/>
          <a:ext cx="853596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53596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46040" y="506520"/>
          <a:ext cx="85964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06520"/>
                    <a:ext cx="85964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17480" y="593640"/>
          <a:ext cx="802800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93640"/>
                    <a:ext cx="802800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20840"/>
          <a:ext cx="8535960" cy="653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20840"/>
                    <a:ext cx="8535960" cy="65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8440" y="420840"/>
          <a:ext cx="842472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20840"/>
                    <a:ext cx="842472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42960" y="557280"/>
          <a:ext cx="808992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57280"/>
                    <a:ext cx="808992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482760"/>
          <a:ext cx="846144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6144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1040" y="407880"/>
          <a:ext cx="8437680" cy="638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07880"/>
                    <a:ext cx="8437680" cy="63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16120" y="581040"/>
          <a:ext cx="76690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581040"/>
                    <a:ext cx="76690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46040" y="384120"/>
          <a:ext cx="859644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4120"/>
                    <a:ext cx="859644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33440" y="581040"/>
          <a:ext cx="85345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581040"/>
                    <a:ext cx="85345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457200"/>
          <a:ext cx="858528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58528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6040" y="407880"/>
          <a:ext cx="8583840" cy="66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07880"/>
                    <a:ext cx="8583840" cy="66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09600" y="0"/>
          <a:ext cx="8585280" cy="66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0"/>
                    <a:ext cx="8585280" cy="66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20840" y="446040"/>
          <a:ext cx="851040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6040"/>
                    <a:ext cx="851040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23:56:05Z</dcterms:created>
  <dc:creator>jalvarez</dc:creator>
  <dc:description/>
  <dc:language>en-US</dc:language>
  <cp:lastModifiedBy>jalvarez</cp:lastModifiedBy>
  <cp:lastPrinted>2005-08-26T22:23:40Z</cp:lastPrinted>
  <dcterms:modified xsi:type="dcterms:W3CDTF">2005-08-29T17:08:22Z</dcterms:modified>
  <cp:revision>22</cp:revision>
  <dc:subject/>
  <dc:title>Sin título de diapositiva</dc:title>
</cp:coreProperties>
</file>