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073-F8A5-4EBD-A3C2-7232322F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96A-047B-4EBA-8D8B-E51D32BF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0C7-DD9C-40CF-B93C-282F00CB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E08-6089-406C-9369-87F0C36C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0F8-24C2-4FF4-A1FB-93A2A793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9D3-55E8-43A3-B83B-BC2E1355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16D-A89B-4CEC-87D3-5BF9406F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78E-3841-47F8-9442-7E47CF73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236-7131-451E-B29C-477A7BF9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84D-66BC-4BD7-956A-D5AA3321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FE0-03B5-46F9-80BD-BDB62E8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E9B-2929-43D7-BDE4-FB1962FB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DB44-6510-49E2-B24D-291142CBE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57280" y="506520"/>
          <a:ext cx="8286840" cy="63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06520"/>
                    <a:ext cx="8286840" cy="63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95360"/>
          <a:ext cx="81140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81140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7480" y="407880"/>
          <a:ext cx="81025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07880"/>
                    <a:ext cx="81025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506520"/>
          <a:ext cx="791676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06520"/>
                    <a:ext cx="791676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581280" y="1981080"/>
            <a:ext cx="11430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5909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3526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30360" y="593640"/>
          <a:ext cx="81025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1025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531720"/>
          <a:ext cx="804060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31720"/>
                    <a:ext cx="804060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5760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523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560" y="15238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09880" y="16002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30360" y="593640"/>
          <a:ext cx="805320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532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30360" y="593640"/>
          <a:ext cx="7831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7831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30080" y="557280"/>
          <a:ext cx="786780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57280"/>
                    <a:ext cx="786780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93640" y="619200"/>
          <a:ext cx="804060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04060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531720"/>
          <a:ext cx="849960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31720"/>
                    <a:ext cx="849960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6520" y="519120"/>
          <a:ext cx="84740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740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593640"/>
          <a:ext cx="8003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03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33440"/>
          <a:ext cx="851076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33440"/>
                    <a:ext cx="851076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433440"/>
          <a:ext cx="849960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33440"/>
                    <a:ext cx="849960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7280" y="519120"/>
          <a:ext cx="81388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19120"/>
                    <a:ext cx="81388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33440"/>
          <a:ext cx="8399160" cy="72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399160" cy="72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68440" y="506520"/>
          <a:ext cx="83628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3628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3:29:15Z</dcterms:created>
  <dc:creator>jalvarez</dc:creator>
  <dc:description/>
  <dc:language>en-US</dc:language>
  <cp:lastModifiedBy>jalvarez</cp:lastModifiedBy>
  <cp:lastPrinted>2005-10-25T21:27:16Z</cp:lastPrinted>
  <dcterms:modified xsi:type="dcterms:W3CDTF">2005-10-26T12:36:10Z</dcterms:modified>
  <cp:revision>14</cp:revision>
  <dc:subject/>
  <dc:title>Sin título de diapositiva</dc:title>
</cp:coreProperties>
</file>