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8D5-4358-46BE-8E94-489575EB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6A9-101C-4D87-AEDE-E47A9629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A2A4-3BE1-42ED-84BE-EADB2B75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380-489F-4874-803B-0490FF43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6E17-7C80-46A6-A52A-4463D655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874D-878B-405B-B0E5-A23588AE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0E89-82BA-49E7-89AD-BC30531A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BC12-3273-4D9B-8B26-72E3913B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EAD3-A616-4F7D-B1B3-56FA3804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8C33-DC1E-4078-91E6-511BD1D7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982E-27CD-4563-8FDF-54FB8982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405-2EF5-4317-927B-0D964B3C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60EA-430D-42AC-95B6-FA70C337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4BC4-4A3D-40B4-A3F5-1E863E01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2596-3066-4B55-B951-74CBE21B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7E90-5131-4EF1-BC3F-B5A963BB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DE4D-305A-48EA-859C-B1C8CC23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9CB-E78D-4DB9-9BF5-3FF86466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B7D-FF11-409D-B912-A02DC84E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68EC-C716-46B6-83E9-61049448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81A-A640-46FA-B3FA-3F68257A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CBE0-2D15-4100-B02C-72A7CCD3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36D-BF03-422B-9874-8F5E7637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FB9-C8DF-4AAE-918E-6CBA33CD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5d8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6B97-A4F2-4E81-8DF1-CF456A38CFE2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385E-8CC6-42CD-BE99-52D9C071183C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005d8c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guzman@ing.uchile.cl" TargetMode="External"/><Relationship Id="rId2" Type="http://schemas.openxmlformats.org/officeDocument/2006/relationships/hyperlink" Target="mailto:sebagusi@hotmail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area #1 IN34A Otoño 200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8f8f8"/>
                </a:solidFill>
                <a:latin typeface="Arial"/>
              </a:rPr>
              <a:t>Sebastián Guzmán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guzman@ing.uchile.c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ebagusi@hotmail.co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emanda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200 puertas simp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120 ventanas dob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Ventanas simples y puertas dobles tienen mercado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isponibilidad de recurso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Cantidad de madera 1000m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de sierra 5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hombre de barnizado 7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49320" y="1981080"/>
          <a:ext cx="7660800" cy="4114440"/>
        </p:xfrm>
        <a:graphic>
          <a:graphicData uri="http://schemas.openxmlformats.org/drawingml/2006/table">
            <a:tbl>
              <a:tblPr/>
              <a:tblGrid>
                <a:gridCol w="1301400"/>
                <a:gridCol w="1767600"/>
                <a:gridCol w="1964160"/>
                <a:gridCol w="262764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Madera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m</a:t>
                      </a:r>
                      <a:r>
                        <a:rPr b="1" lang="en-US" sz="12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rte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maq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Barnizad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hombre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429000"/>
            <a:ext cx="7632720" cy="1584360"/>
          </a:xfrm>
          <a:prstGeom prst="rect">
            <a:avLst/>
          </a:prstGeom>
          <a:solidFill>
            <a:srgbClr val="00cc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1989000"/>
          <a:ext cx="7661160" cy="3753000"/>
        </p:xfrm>
        <a:graphic>
          <a:graphicData uri="http://schemas.openxmlformats.org/drawingml/2006/table">
            <a:tbl>
              <a:tblPr/>
              <a:tblGrid>
                <a:gridCol w="1981080"/>
                <a:gridCol w="2691000"/>
                <a:gridCol w="2989080"/>
              </a:tblGrid>
              <a:tr h="72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ecio venta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sto unitari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Variables de Decisión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X(p): cantidad de producto p a produci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p 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Є</a:t>
            </a: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 {p. doble, p. simple, v. doble, v. simple}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Función Objetiv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Restriccione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Satisfacer demanda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Disponibilidad de recurso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0" y="3645000"/>
                <a:ext cx="388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cio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st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651640" y="5661000"/>
                <a:ext cx="3024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o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651640" y="4869000"/>
                <a:ext cx="17539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d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Hoja de Cálcu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400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6:18:06Z</dcterms:created>
  <dc:creator> </dc:creator>
  <dc:description/>
  <dc:language>en-US</dc:language>
  <cp:lastModifiedBy>Familia</cp:lastModifiedBy>
  <dcterms:modified xsi:type="dcterms:W3CDTF">2005-03-31T00:56:55Z</dcterms:modified>
  <cp:revision>15</cp:revision>
  <dc:subject/>
  <dc:title>Tarea #1 In34a</dc:title>
</cp:coreProperties>
</file>