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B720-105D-4ACA-9A4E-7CD740CB2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9E3B-B3B0-442C-BAB0-34E87C0C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BA6C-0109-46B3-A5C6-574DF77A4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E151-0751-4116-AB59-B0F43644F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5751-8719-4FC3-AAA7-DD0F29C34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2EBB2-DE35-4816-9FFD-18AC7D98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682C-E23E-4397-811A-FE963EAD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CF23-906B-4D22-9BAF-BBAEF210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C310-4040-43A5-8D48-A17602FC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C110-0C84-40E8-9AB6-F304305D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4BCD-010E-4D17-8BEC-B39287D1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9AB6-83C3-4F24-AC57-5DECCEA2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8EBFB-CF42-4FA9-80C2-EE4D8745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A0C2-4605-4A49-914B-1F06599D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66F1-5CBA-49DD-A24C-D812177B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C4E7-BD84-4340-88EE-37CDE38C6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D697-01FA-4DCE-AA2F-86E77F0E8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BDF4-D96E-4D3D-BEA0-567FE216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0CB2-257E-454B-B3EA-041E8ED5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C19E-9F0A-4987-84B6-85311104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8BE0-12E8-481A-942A-97529386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49A1-58A3-4CA4-B3BA-F5A7536A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892E-B839-415F-BB77-1C53CB9C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F6B5-25C1-4A10-90B2-AA2BD5B4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005d8c"/>
              </a:gs>
              <a:gs pos="100000">
                <a:srgbClr val="00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F5FA-1F59-4AF8-899C-54626ECFB86D}" type="slidenum"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B3EF-52E2-4269-BA27-91D3B9950DFC}" type="slidenum"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005d8c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guzman@ing.uchile.cl" TargetMode="External"/><Relationship Id="rId2" Type="http://schemas.openxmlformats.org/officeDocument/2006/relationships/hyperlink" Target="mailto:sebagusi@hotmail.com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Tarea #1 IN34A Otoño 200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8f8f8"/>
                </a:solidFill>
                <a:latin typeface="Arial"/>
              </a:rPr>
              <a:t>Sebastián Guzmán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sguzman@ing.uchile.c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sebagusi@hotmail.com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62864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Demanda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200 puertas simple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120 ventanas doble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Ventanas simples y puertas dobles tienen mercado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Disponibilidad de recursos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Cantidad de madera 1000m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Horas de sierra 500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Horas hombre de barnizado 700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949320" y="1981080"/>
          <a:ext cx="7660800" cy="4114440"/>
        </p:xfrm>
        <a:graphic>
          <a:graphicData uri="http://schemas.openxmlformats.org/drawingml/2006/table">
            <a:tbl>
              <a:tblPr/>
              <a:tblGrid>
                <a:gridCol w="1301400"/>
                <a:gridCol w="1767600"/>
                <a:gridCol w="1964160"/>
                <a:gridCol w="2627640"/>
              </a:tblGrid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roducto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Madera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[m</a:t>
                      </a:r>
                      <a:r>
                        <a:rPr b="1" lang="en-US" sz="12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]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Corte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[hr/maq]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Barnizado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[hr/hombre]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4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5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.5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2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3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2.0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5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.8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0.8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71640" y="3429000"/>
            <a:ext cx="7632720" cy="1584360"/>
          </a:xfrm>
          <a:prstGeom prst="rect">
            <a:avLst/>
          </a:prstGeom>
          <a:solidFill>
            <a:srgbClr val="00cc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71640" y="1989000"/>
          <a:ext cx="7661160" cy="3753000"/>
        </p:xfrm>
        <a:graphic>
          <a:graphicData uri="http://schemas.openxmlformats.org/drawingml/2006/table">
            <a:tbl>
              <a:tblPr/>
              <a:tblGrid>
                <a:gridCol w="1981080"/>
                <a:gridCol w="2691000"/>
                <a:gridCol w="2989080"/>
              </a:tblGrid>
              <a:tr h="727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roducto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recio venta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Costo unitario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Puert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Dob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Ventana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Simples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8f8f8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5103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Variables de Decisión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X(p): cantidad de producto p a producir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p </a:t>
            </a:r>
            <a:r>
              <a:rPr b="0" lang="ru-RU" sz="2400" spc="-1" strike="noStrike">
                <a:solidFill>
                  <a:srgbClr val="f8f8f8"/>
                </a:solidFill>
                <a:latin typeface="Arial"/>
                <a:ea typeface="Arial"/>
              </a:rPr>
              <a:t>Є</a:t>
            </a: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 {p. doble, p. simple, v. doble, v. simple}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Función Objetivo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8f8f8"/>
                </a:solidFill>
                <a:latin typeface="Arial"/>
              </a:rPr>
              <a:t>Restricciones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Satisfacer demanda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8f8f8"/>
                </a:solidFill>
                <a:latin typeface="Arial"/>
              </a:rPr>
              <a:t>Disponibilidad de recurso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572000" y="3645000"/>
                <a:ext cx="3887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rod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ecio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sto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651640" y="5661000"/>
                <a:ext cx="30240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so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rec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651640" y="4869000"/>
                <a:ext cx="175392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da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Hoja de Cálcu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763640" y="1773360"/>
            <a:ext cx="540072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5T16:18:06Z</dcterms:created>
  <dc:creator> </dc:creator>
  <dc:description/>
  <dc:language>en-US</dc:language>
  <cp:lastModifiedBy>Familia</cp:lastModifiedBy>
  <dcterms:modified xsi:type="dcterms:W3CDTF">2005-03-31T00:56:55Z</dcterms:modified>
  <cp:revision>15</cp:revision>
  <dc:subject/>
  <dc:title>Tarea #1 In34a</dc:title>
</cp:coreProperties>
</file>