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1C9B3-C039-4621-96C9-106422FC1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01E9F-7428-4D31-8275-03A7D0086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4754C-6BE9-45B7-802D-10065FB82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2C0F9-92D0-495C-8FCB-3C41C6A5A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D6282-34E8-4692-9378-0A7AEE5D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AD29F-98BA-4F30-8050-54D2F2E0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291CD-E65D-4C60-92FE-153E7A984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3995-A4E6-4D49-9E04-A81E532F6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4CBBB-E44D-43BB-9DDD-21F2D406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EC69-E6CA-4002-8712-90E1804AA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0677-C076-41DF-90CA-529D14A1F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F4DAA-1598-4CB1-AC6C-12EB63889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8668-CD72-4424-BF72-42E8D777604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 </cp:lastModifiedBy>
  <dcterms:modified xsi:type="dcterms:W3CDTF">2004-05-24T17:21:17Z</dcterms:modified>
  <cp:revision>25</cp:revision>
  <dc:subject/>
  <dc:title>PRICING</dc:title>
</cp:coreProperties>
</file>