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DA9-D367-4C3E-B926-CC5DFEB6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EC7-6F55-48D7-A8EE-74BAAB84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60A-B050-44F4-AEFC-42DE220F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881-71EC-4EC3-9A9D-81AFF9B0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338A-E09D-44CE-924D-43C5AC84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F453-1A6D-41EE-B682-C7339D1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FE42-CE21-4D43-9902-7E00CCC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FE2-1B76-42D2-B5A7-B3A9A8C2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EC64-BD80-4D95-BA91-8245A028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AF6-B1F5-4489-9EFA-D86F62D5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BE3E-DC97-4C9B-B278-DA60E72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711-8AC0-46D8-B683-3A99E4D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35AE-663C-4FEE-913E-6F8A2EC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0077-F9AC-479E-A29F-33E97C0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5EB7-2BEB-45EF-A080-0EBDB099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7212-4045-4AC5-8E29-F9CC56D8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761-0DFD-4CCC-84DC-A12C7F3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15E-52D9-46A8-A0C3-6C0AD933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11A-50A7-4174-B56D-C9C468EF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369-7D92-400A-95AB-BBAD4940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B1C-04B4-4246-BC4D-7010371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064-6A34-415F-B480-D1E1161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24D-5ED4-4FE5-AA49-75F4EDA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30D-542F-4819-B680-A9C9A6D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400-51AE-464D-9481-88D3A55044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F61-AAB3-45EA-B86A-60E32A03BE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ing.puc.cl" TargetMode="External"/><Relationship Id="rId2" Type="http://schemas.openxmlformats.org/officeDocument/2006/relationships/hyperlink" Target="mailto:acadiz@dcc.uchile.c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31B -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Agosto 200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on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50 % - Controles</a:t>
            </a: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Arial"/>
              </a:rPr>
              <a:t>Podrá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en u-Cursos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r es un síntoma de interés e intelig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 a tiempo .... no dejes todo para el final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rata a los demás como deseas que te trat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cute los problemas con sus compañ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... pero debes ser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 es la piedra angular para el éxito de cualquier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Lunes 01/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van a tomar el curso deben enviar por email al profesor y al auxiliar, un currículum de no más de 1 hoja, que conteng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- Datos Personales (incluir: Nombre completo,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cojan a sus compañeros de equipo, y envíen un correo al auxiliar y al profesor indicando la conformación de cada equip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Ochoa D.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lfredo Cádiz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cadiz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sistente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***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finición de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tenidos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Metodología de Desarrollo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quisitos de Aprob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valu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Familiarizar al alumno con el desarrollo de software de apl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a aplicación como miembro de un equipo de traba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producto que requiere coordinación y negociación con otros grup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1. </a:t>
            </a:r>
            <a:r>
              <a:rPr b="1" lang="es-CL" sz="2800" spc="-1" strike="noStrike">
                <a:solidFill>
                  <a:srgbClr val="40458c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2. Cualidades del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3. El Proceso de Ingenier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4. Especificación de Requerimientos del Software de Apl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5. Diseño de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6. Verificación y Validación de Software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Teóricas (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B211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Mar.-Jue. 14:30-16:00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lumnos (B***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Auxiliares (Vie. 10:15-11:45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alumnos trabajarán en grupos de 2 o 3 personas. Desarrollarán un proyecto (3 tareas) durante el cur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 - Los proyectos serán de tres tipos, y los asignará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º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 finalizar el semestre, cada equipo de trabajo, deberá entregar una versión ejecutable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Para aprobar el curso, se re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la nota del examen también debe ser mayor o igual a 4.0.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5 * PNP + 0.5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50 % - Proyecto</a:t>
            </a: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 corresponde a la nota del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1" i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fes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según la capacidad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mpromiso mostrado en el desarrollo de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11</cp:lastModifiedBy>
  <dcterms:modified xsi:type="dcterms:W3CDTF">2005-07-28T18:48:56Z</dcterms:modified>
  <cp:revision>60</cp:revision>
  <dc:subject/>
  <dc:title>Ingeniería de Software   </dc:title>
</cp:coreProperties>
</file>