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9A40-0F2E-4B17-8F0C-7E838AAD4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A046-3485-48B1-975B-170A9CE7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0B93-47CD-49D9-BD32-9963CD02F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C9E2-3F20-4A94-9EC2-8CA2BCACC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19E1-A171-4C17-9D16-09460818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E1B1-28F3-4EA9-8EB6-6AF686A1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D548-D40F-418E-9389-B5437F22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531D-F8D6-4C08-A488-BE0B1571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D139-F2E7-4E76-845A-4E7D4CF8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1EE5-6D4B-4555-8C3B-D3F692B8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6323-75C4-441A-9ECD-EA175985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F716-AAF7-404B-AF54-2663FB08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64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34520" y="22860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2A66-AF30-4DC7-BADF-DF2F2A7DD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0"/>
            <a:ext cx="304920" cy="6858000"/>
          </a:xfrm>
          <a:prstGeom prst="flowChartProcess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8080" y="0"/>
            <a:ext cx="304920" cy="6858000"/>
          </a:xfrm>
          <a:prstGeom prst="flowChartProcess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95280" y="0"/>
            <a:ext cx="304920" cy="6858000"/>
          </a:xfrm>
          <a:prstGeom prst="flowChartProcess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Administración de Proyectos de software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33cc"/>
                </a:solidFill>
                <a:latin typeface="Tahoma"/>
              </a:rPr>
              <a:t>Agosto 2005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C32F-540C-4C31-893B-384F16FDFC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Tahoma"/>
              </a:rPr>
              <a:t>Control de Tareas (cont...)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33cc"/>
                </a:solidFill>
                <a:latin typeface="Arial"/>
              </a:rPr>
              <a:t>Formas de monitoreo :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Arial"/>
              </a:rPr>
              <a:t>– </a:t>
            </a:r>
            <a:r>
              <a:rPr b="0" lang="es-ES" sz="2200" spc="-1" strike="noStrike">
                <a:solidFill>
                  <a:srgbClr val="3333cc"/>
                </a:solidFill>
                <a:latin typeface="Arial"/>
              </a:rPr>
              <a:t>llevar a cabo reuniones periódicas en las cuales los participantes informan del estado de las tareas, el progreso o los problemas encontrados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Arial"/>
              </a:rPr>
              <a:t>– </a:t>
            </a:r>
            <a:r>
              <a:rPr b="0" lang="es-ES" sz="2200" spc="-1" strike="noStrike">
                <a:solidFill>
                  <a:srgbClr val="3333cc"/>
                </a:solidFill>
                <a:latin typeface="Arial"/>
              </a:rPr>
              <a:t>determinar si las metas están siendo cumplidas de acuerdo a lo programado (checkpoints)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Arial"/>
              </a:rPr>
              <a:t>– </a:t>
            </a:r>
            <a:r>
              <a:rPr b="0" lang="es-ES" sz="2200" spc="-1" strike="noStrike">
                <a:solidFill>
                  <a:srgbClr val="3333cc"/>
                </a:solidFill>
                <a:latin typeface="Arial"/>
              </a:rPr>
              <a:t>comparar tiempos planeados contra tiempos reales, para las distintas tareas. Emitir alertas en caso de ser necesario (por ej. Para disparar un plan de contingencia)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3AA8-7B5A-42ED-B26C-4DD9C32B15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Tahoma"/>
              </a:rPr>
              <a:t>Control de Tareas (cont...)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143000" y="1828800"/>
          <a:ext cx="739152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28800"/>
                    <a:ext cx="739152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0736-DBF5-4DE4-9B02-4CDC4574E0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Tahoma"/>
              </a:rPr>
              <a:t>Control de Tareas (cont...)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23104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Al detectar problemas con la planificación: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Asignar más recursos al área afectada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Readecuar el personal en genera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Cambiar la programación del proyecto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Usar técnicas de “time-box”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Arial"/>
              </a:rPr>
              <a:t>Básicamente, es una estrategia de tipo incremental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Arial"/>
              </a:rPr>
              <a:t>Se define la entrega del primer incremento, y luego se reajustan todas las tareas de acuerdo a este incremento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Arial"/>
              </a:rPr>
              <a:t>Al llegar al límite de tiempo de una tarea para ese incremento, esa tarea se detiene y comienza la siguiente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Arial"/>
              </a:rPr>
              <a:t>Aunque una tarea no esté completa, muchas veces es posible postergar la última parte para el siguiente incremento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89CB-A118-452B-9578-705D0E67DF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Tahoma"/>
              </a:rPr>
              <a:t>Máximas....</a:t>
            </a:r>
            <a:r>
              <a:rPr b="0" lang="es-ES" sz="40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s-ES" sz="2200" spc="-1" strike="noStrike">
                <a:solidFill>
                  <a:srgbClr val="3333cc"/>
                </a:solidFill>
                <a:latin typeface="Tahoma"/>
              </a:rPr>
              <a:t>la mayoría de las veces el administrador del proyecto marca la diferencia entre el éxito o el fracaso de un proyecto”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s-ES" sz="2200" spc="-1" strike="noStrike">
                <a:solidFill>
                  <a:srgbClr val="3333cc"/>
                </a:solidFill>
                <a:latin typeface="Tahoma"/>
              </a:rPr>
              <a:t>la gestión es tan importante como la parte técnica....”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s-ES" sz="2200" spc="-1" strike="noStrike">
                <a:solidFill>
                  <a:srgbClr val="3333cc"/>
                </a:solidFill>
                <a:latin typeface="Tahoma"/>
              </a:rPr>
              <a:t>... es difícil encontrar un buen administrador de proyectos”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s-ES" sz="2200" spc="-1" strike="noStrike">
                <a:solidFill>
                  <a:srgbClr val="3333cc"/>
                </a:solidFill>
                <a:latin typeface="Tahoma"/>
              </a:rPr>
              <a:t>La administración de proyectos es una disciplina que se debe aprender....”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Tahoma"/>
              </a:rPr>
              <a:t>“ </a:t>
            </a:r>
            <a:r>
              <a:rPr b="0" lang="es-ES" sz="2200" spc="-1" strike="noStrike">
                <a:solidFill>
                  <a:srgbClr val="3333cc"/>
                </a:solidFill>
                <a:latin typeface="Tahoma"/>
              </a:rPr>
              <a:t>En un equipo de trabajo, el adm. de proyectos es quien peor la pasa”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C0E8-D26D-4FF9-A55B-22A1E30C0F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Tahoma"/>
              </a:rPr>
              <a:t>¿Cómo Mejorar la Adm. de Proyectos de Software ?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Requiere saber ¿dónde estamos hoy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?. Con exactitud !!!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457200" indent="-45720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Requiere revis</a:t>
            </a: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ar/rediseñar: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28548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l proceso de administración de proyectos actuales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28548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La ingeniería de requisitos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28548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La planificación de proyectos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28548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l seguimiento y control de proyectos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28548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l aseguramiento de la calidad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28548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La administración de la configuración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0D38-F078-4D54-B178-2C63964D05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Malas Noticias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La expansión de los sistemas de software en tamaño, complejidad, distribución e importancia empuja los límites de lo que hasta la fecha sabíamos desarrollar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Tratar de avanzar más allá de los sistemas legados, hacia tecnologías más modernas, trae su propio conjunto de problemas técnicos y organizacionales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La administración de proyectos de software se hace cada vez más difícil..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E2F1-5F15-4A75-844D-BCB2A3682F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Malas Noticias (cont...)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La competencia obliga a las empresas de desarrollo a mejorar su productividad, manteniendo o mejorando la calidad de sus productos, realizando además desarrollos más rápidos y económicos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Adicionalmente, la velocidad de preparación de personal de desarrollo calificado, es menor que la requerida. 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Además, actualmente el personal tiene competencias adicionales a las tradicionales (por ej. diseño gráfico, diseño de procesos de negocio, etc)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1111-50B9-4059-8DC9-B6FFB941AB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Malas Noticias (cont...)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La construcción y mantención de software es una tarea difícil y será aún más difícil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Construir software de una cierta calidad, en forma repetible, es una tarea aún más difícil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Todo esto se refleja en la Administración de Proyectos.... Este es el </a:t>
            </a:r>
            <a:r>
              <a:rPr b="0" i="1" lang="es-ES_tradnl" sz="2200" spc="-1" strike="noStrike">
                <a:solidFill>
                  <a:srgbClr val="3333cc"/>
                </a:solidFill>
                <a:latin typeface="Tahoma"/>
              </a:rPr>
              <a:t>por qué?</a:t>
            </a: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 de las máximas antes mencionadas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938F-A39F-4096-A3AC-9A344434AF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Síntomas Comunes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33cc"/>
                </a:solidFill>
                <a:latin typeface="Tahoma"/>
              </a:rPr>
              <a:t>Imprecisión en el entendimiento de las necesidades del usuario final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33cc"/>
                </a:solidFill>
                <a:latin typeface="Tahoma"/>
              </a:rPr>
              <a:t>Falta de habilidad para manejar requisitos cambiantes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33cc"/>
                </a:solidFill>
                <a:latin typeface="Tahoma"/>
              </a:rPr>
              <a:t>Módulos que no calzan...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33cc"/>
                </a:solidFill>
                <a:latin typeface="Tahoma"/>
              </a:rPr>
              <a:t>Software que es difícil de mantener o extender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4957-37B5-4808-9536-6635B105F5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Síntomas Comunes (cont...)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Descubrimiento tardío de fallas serias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Problemas ajenos, como el Y2K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Miembros del equipo en muchas cosas, o ausentes, haciendo imposible reconstruir historia de cambios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Falta (o problemas) de comunicación entre los miembros del equipo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52E3-AAFB-4DF6-99D6-01EC67AF8D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Estructura de la Presentación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752480"/>
            <a:ext cx="746748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incipi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lanificación de Proy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dministración de Proy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alas Noti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íntomas Comu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ficiencias Comu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clu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A824-1A71-455D-B597-7A134ADA55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Deficiencias Comunes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Administraci</a:t>
            </a:r>
            <a:r>
              <a:rPr b="0" lang="es-CL" sz="2200" spc="-1" strike="noStrike">
                <a:solidFill>
                  <a:srgbClr val="3333cc"/>
                </a:solidFill>
                <a:latin typeface="Tahoma"/>
              </a:rPr>
              <a:t>ón de requisitos ad-hoc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Tahoma"/>
              </a:rPr>
              <a:t>Comunicación ambigua e imprecisa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Tahoma"/>
              </a:rPr>
              <a:t>Responsabilidades y roles difusos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Tahoma"/>
              </a:rPr>
              <a:t>Arquitectura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“escabrosas”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omplejidad muy grande. Falta de segmentación del problema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nconsistencias no detectadas en requisitos, diseño e implementación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esteo insuficiente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053C-5577-4425-848C-87658D30F9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Deficiencias Comunes (cont...)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33cc"/>
                </a:solidFill>
                <a:latin typeface="Tahoma"/>
              </a:rPr>
              <a:t>Evaluación subjetiva del estado del proyecto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33cc"/>
                </a:solidFill>
                <a:latin typeface="Tahoma"/>
              </a:rPr>
              <a:t>Incapacidad de los miembros para trabajar en grupo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33cc"/>
                </a:solidFill>
                <a:latin typeface="Tahoma"/>
              </a:rPr>
              <a:t>Fallas para analizar y atacar los riesgos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33cc"/>
                </a:solidFill>
                <a:latin typeface="Tahoma"/>
              </a:rPr>
              <a:t>Propagación de cambios no controlada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33cc"/>
                </a:solidFill>
                <a:latin typeface="Tahoma"/>
              </a:rPr>
              <a:t>Automatización insuficiente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FB9A-8C85-45AB-82C1-997CA92A0C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Buenas Prácticas de Software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Para construir buen software no basta con ser buen programador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Para ello, hay que conocer, planificar y controlar los procesos y recursos asignados a un proyecto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Existe una nueva ola en ingeniería de software, basada en dichos principios, que permite visualizar el futuro en forma más optimista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906D-97EE-4DBA-AE38-C4C7D71326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Conclusiones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83055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Arial"/>
              </a:rPr>
              <a:t>La planificación del proyecto provee una definición de cada macro-tarea, junto con estimaciones de tiempos y recursos requeridos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Arial"/>
              </a:rPr>
              <a:t>La planificación del proyecto provee además un marco de referencia para monitoreo y control de estas tareas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Arial"/>
              </a:rPr>
              <a:t>La planificación del proyecto se desarrolla al comienzo pero es continuamente refinada a medida que el trabajo progresa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Arial"/>
              </a:rPr>
              <a:t>Salvo raras excepciones, los recursos y tiempos estimados inicialmente, difícilmente son alcanzados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7D1E-7B24-41EE-B5E4-66627FCA60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Conclusiones (cont...)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Arial"/>
              </a:rPr>
              <a:t>Hay que controlar (monitorear) todo... pero el monitoreo es un medio, no un fin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Arial"/>
              </a:rPr>
              <a:t>Si el trabajo no coincide con los tiempos y recursos asignados, debe recortarse la tarea, o aumentarse los tiempos y/o recursos asignados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Cita clásica…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i se incorpora más gente a un proyecto que ya está atrasado, éste se atrasará aún más” (Brooks, 1975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Arial"/>
              </a:rPr>
              <a:t>Es necesario ir comparando las estimaciones iniciales, con las reales, tan pronto como se pueda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Arial"/>
              </a:rPr>
              <a:t>Hay que reaccionar rápido ante los riesgos..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5DBC-ADBF-4FD4-A97D-FEEBB8AAE5D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Conclusiones (cont...)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Arial"/>
              </a:rPr>
              <a:t>Los modelos de estimación de esfuerzo son útiles, pero deben ser usados con cuidado. Modelos no calibrados pueden generar errores de hasta un 500% o más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Arial"/>
              </a:rPr>
              <a:t>No hay modelo que pueda captar las características del producto, del equipo de desarrollo, etc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Arial"/>
              </a:rPr>
              <a:t>Una buena intuición soportada por experiencia documentada (información histórica) generalmente es más precisa que cualquier modelo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8E65-548D-4469-86B3-1EAE3A5B2B7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Principios Básicos de la Adm. de Proyectos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2276640"/>
            <a:ext cx="807732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Cualquier comandante que acepta llevar a cabo un plan que él considera defectuoso es culpable; él debe exponer sus razones, e insistir en los cambios necesarios y finalmente ofrecer su dimisión antes de ser el instrumento de la derrota de su ejército”.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                               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Napoleón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Si no estamos convencidos,.... no podremos administrar nada.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La administración (o gestión) requiere: </a:t>
            </a:r>
            <a:r>
              <a:rPr b="0" i="1" lang="es-ES" sz="2000" spc="-1" strike="noStrike">
                <a:solidFill>
                  <a:srgbClr val="3333cc"/>
                </a:solidFill>
                <a:latin typeface="Arial"/>
              </a:rPr>
              <a:t>planificación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y </a:t>
            </a:r>
            <a:r>
              <a:rPr b="0" i="1" lang="es-ES" sz="2000" spc="-1" strike="noStrike">
                <a:solidFill>
                  <a:srgbClr val="3333cc"/>
                </a:solidFill>
                <a:latin typeface="Arial"/>
              </a:rPr>
              <a:t>control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La </a:t>
            </a:r>
            <a:r>
              <a:rPr b="0" i="1" lang="es-ES" sz="2000" spc="-1" strike="noStrike">
                <a:solidFill>
                  <a:srgbClr val="3333cc"/>
                </a:solidFill>
                <a:latin typeface="Arial"/>
              </a:rPr>
              <a:t>planificación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del proyecto consiste en distribuir la estimación del esfuerzo a lo largo del proyecto asignando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9996-780C-4E57-8549-DAF6F072C9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Principios Básicos de la Adm. de Proyectos (cont...)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469960"/>
            <a:ext cx="8126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La </a:t>
            </a:r>
            <a:r>
              <a:rPr b="0" i="1" lang="es-ES" sz="2000" spc="-1" strike="noStrike">
                <a:solidFill>
                  <a:srgbClr val="3333cc"/>
                </a:solidFill>
                <a:latin typeface="Arial"/>
              </a:rPr>
              <a:t>planificación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consiste en establecer los hitos y las actividades para chequear el avance del proyecto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La </a:t>
            </a:r>
            <a:r>
              <a:rPr b="0" i="1" lang="es-ES" sz="2000" spc="-1" strike="noStrike">
                <a:solidFill>
                  <a:srgbClr val="3333cc"/>
                </a:solidFill>
                <a:latin typeface="Arial"/>
              </a:rPr>
              <a:t>planificación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del proyecto consiste en redefinir la planificación sobre la marcha. Aportando medidas para palear los desfasajes respecto a la planificación inicial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El </a:t>
            </a:r>
            <a:r>
              <a:rPr b="0" i="1" lang="es-ES" sz="2000" spc="-1" strike="noStrike">
                <a:solidFill>
                  <a:srgbClr val="3333cc"/>
                </a:solidFill>
                <a:latin typeface="Arial"/>
              </a:rPr>
              <a:t>control (o seguimiento)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del proyecto consiste en ejecutar las actividades de revisión previstas en la etapa de planificación, y comparar los resultados contra lo planificado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3333cc"/>
                </a:solidFill>
                <a:latin typeface="Arial"/>
              </a:rPr>
              <a:t>Para hacer esto hay que seguir una serie de Principios Básicos..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952C-6C7D-4C99-B2D1-3A337AF491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Principios Básicos de la Adm. de Proyectos (cont...)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2204640"/>
            <a:ext cx="77724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•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Segmentación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- el proyecto debe ser separado en un número manejable de actividades y tareas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•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Interdependencia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– la planificación debe reflejar la segmentación de tareas, y la relaciones entre ellas. Algunas tareas ocurren en secuencia, otras en paralelo, algunas son requisito de otras, etc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•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Asignación de tiempo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- a cada tarea se le debe asignar un cierto número de unidades de trabajo (personas-días, etc) y fechas de inicio y término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•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Validación del esfuerzo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– se debe verificar que la gente afectada a una tarea esté disponible, que la cantidad no esté sobredimensionada, y además que sea suficiente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3046-3931-41DD-8563-EAD3DC5C1D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Principios Básicos de la Adm. de Proyectos (cont...)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2469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Times New Roman"/>
              </a:rPr>
              <a:t>• </a:t>
            </a:r>
            <a:r>
              <a:rPr b="1" lang="es-ES" sz="2200" spc="-1" strike="noStrike">
                <a:solidFill>
                  <a:srgbClr val="3333cc"/>
                </a:solidFill>
                <a:latin typeface="Arial"/>
              </a:rPr>
              <a:t>Definición de responsabilidades </a:t>
            </a:r>
            <a:r>
              <a:rPr b="0" lang="es-ES" sz="2200" spc="-1" strike="noStrike">
                <a:solidFill>
                  <a:srgbClr val="3333cc"/>
                </a:solidFill>
                <a:latin typeface="Arial"/>
              </a:rPr>
              <a:t>- cada tarea debe tener un responsable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Arial"/>
              </a:rPr>
              <a:t>• </a:t>
            </a:r>
            <a:r>
              <a:rPr b="1" lang="es-ES" sz="2200" spc="-1" strike="noStrike">
                <a:solidFill>
                  <a:srgbClr val="3333cc"/>
                </a:solidFill>
                <a:latin typeface="Arial"/>
              </a:rPr>
              <a:t>Salida definida </a:t>
            </a:r>
            <a:r>
              <a:rPr b="0" lang="es-ES" sz="2200" spc="-1" strike="noStrike">
                <a:solidFill>
                  <a:srgbClr val="3333cc"/>
                </a:solidFill>
                <a:latin typeface="Arial"/>
              </a:rPr>
              <a:t>- cada tarea debe tener una salida o producto bien definido. Por ejemplo: diseño de un módulo, plan de pruebas, etc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Arial"/>
              </a:rPr>
              <a:t>• </a:t>
            </a:r>
            <a:r>
              <a:rPr b="1" lang="es-ES" sz="2200" spc="-1" strike="noStrike">
                <a:solidFill>
                  <a:srgbClr val="3333cc"/>
                </a:solidFill>
                <a:latin typeface="Arial"/>
              </a:rPr>
              <a:t>Definición de metas </a:t>
            </a:r>
            <a:r>
              <a:rPr b="0" lang="es-ES" sz="2200" spc="-1" strike="noStrike">
                <a:solidFill>
                  <a:srgbClr val="3333cc"/>
                </a:solidFill>
                <a:latin typeface="Arial"/>
              </a:rPr>
              <a:t>- cada grupo de tareas debe estar asociado con una meta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72B9-BD46-4367-A310-D8CA75A6D2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Planificación de Tareas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000" y="2104560"/>
            <a:ext cx="8126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33cc"/>
                </a:solidFill>
                <a:latin typeface="Arial"/>
              </a:rPr>
              <a:t>Se pueden usar cosas como PERT o CPM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33cc"/>
                </a:solidFill>
                <a:latin typeface="Arial"/>
              </a:rPr>
              <a:t>Cualquiera de estos métodos provee mecanismos para: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determinar la ruta crítica (secuencia de tareas que define la duración del proyecto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establecer estimaciones probables para tareas individual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calcular tiempos límites que definen ventanas de tiempo para las distintas actividad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20492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lo más temprano que una actividad puede empezar si todas las precedentes se completan en el mínimo tiempo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2" marL="120492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lo más tarde que puede comenzar una tarea sin aumentar el tiempo mínimo del proyecto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existen herramientas de software para ello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A6A8-6E1E-4937-9F93-53BDCC2536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Tahoma"/>
              </a:rPr>
              <a:t>Planificación de Tareas (cont...)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066680" y="1752480"/>
          <a:ext cx="6172200" cy="47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617220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EB37-101D-4079-B9D7-3D54E3E50D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Tahoma"/>
              </a:rPr>
              <a:t>Control de Tareas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4114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Hay que contrastar la realidad contra lo planificado, ... y generar planes de contingencia, en caso de ser necesario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461880" indent="-4618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Hay que monitorear (controlar) todo, así me aseguraré de tener “las riendas el proyecto”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461880" indent="-4618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Monitorear es un medio.... No un fin...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62120" y="1676520"/>
          <a:ext cx="7924680" cy="22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924680" cy="22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B4E7-C2B9-48EB-9E05-51959A1C1A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18:04:03Z</dcterms:created>
  <dc:creator>Cecilia Bastarrica</dc:creator>
  <dc:description/>
  <dc:language>en-US</dc:language>
  <cp:lastModifiedBy>Sergio F. Ochoa</cp:lastModifiedBy>
  <cp:lastPrinted>2001-08-20T21:01:48Z</cp:lastPrinted>
  <dcterms:modified xsi:type="dcterms:W3CDTF">2005-08-18T20:36:09Z</dcterms:modified>
  <cp:revision>61</cp:revision>
  <dc:subject/>
  <dc:title>CC31B: Desarrollo de Software de Aplicac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cecilia@dcc.uchile.cl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SoftAplic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