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F56-805A-48D1-8141-99C58E62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2C3-0F6A-41B0-9998-2930AAA1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3FC-ECF1-40D5-9F2A-01EE0BE3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490-1CC0-4833-8294-1BB359FD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44F-43E4-4A27-A0B2-11D337A5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2A7-A4DB-479C-A588-5E22BF59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E64-FA0A-45AE-9F5E-7145B668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2A1-796A-437B-A049-7C5C77C0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7B4-16DD-48B2-BE00-07994896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86A-94B9-4524-B202-7697866E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A9D-AD46-4332-8093-7E886C16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DA7-0596-4109-9954-C13AF645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E6A0-7FB3-41EE-9347-B3406499C452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Funcionales: Casos de Uso</a:t>
            </a:r>
            <a:br>
              <a:rPr sz="4400"/>
            </a:b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(UML)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ptiembre 2004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 de Uso de Alto Nive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1828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Descrip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3200" y="2133720"/>
            <a:ext cx="6019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, Cajer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cobra el importe. Al terminar la operación, el Cliente se marcha con los productos, una boleta que detalla su comp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B5E-B265-4A3F-97BE-0B34DC1B00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 de Uso Expandi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sume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ferencia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 en efec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 (iniciador), Caje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 en efectiv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recibe un pago en efectivo. Al terminar la operación, el Cliente se marcha con los productos, y la boleta que detalla su compr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 y esenci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es: R1.1, R1.2, R1.3, R1.7, R1.9, R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A26-45C3-4E03-8C49-976EC45EE6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. El caso de uso comienza cuando un Cliente llega a la caja con productos que desea comprar.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2. El cajero registra el identificador de cada producto. Si hay varios de cada producto, el Cajero introduce la cantidad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4. Al terminar de introducir el producto, el Cajero indica al sistema que concluyó la captu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6. El Cajero indica el total al Cli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8360" y="1828800"/>
            <a:ext cx="374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3. Determina el precio del producto e incorpora la información a la transacción actu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5. Calcula y presenta el total de la ven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44360" y="137016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8040" y="137016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BC8-0A17-46EA-8063-7E69165218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7. El Cliente paga en efectivo un monto mayor o igual al total de la vent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8. El Cajero registra la cantidad en efectivo recibid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0. El Cajero deposita el efectivo recibido y extrae el cambio. El Cajero da al Cliente el cambio y el recibo impres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2. El Cliente se marcha con los artículos comprado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122560"/>
            <a:ext cx="399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9. Muestra al Cliente la diferencia. Genera un recib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1. Registra la venta concluid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7080" y="14461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6640" y="144612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B56-863B-4645-A016-00F455A0BF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Alterno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Operac. 2: introducción de identificador invalido. Indicar erro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Operac.  7: el cliente no tenía suficiente dinero. Cancelar la trans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0DA-E423-458F-8873-B7DCD0A540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Acto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actores son entidades externas que participan en el caso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timula al sistema con entradas o recibe algo de é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con el papel que desempeñ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 un caso de uso hay un </a:t>
            </a:r>
            <a:r>
              <a:rPr b="1" lang="es-CL" sz="2400" spc="-1" strike="noStrike">
                <a:solidFill>
                  <a:srgbClr val="000066"/>
                </a:solidFill>
                <a:latin typeface="Tahoma"/>
              </a:rPr>
              <a:t>actor iniciador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y posiblemente otros </a:t>
            </a:r>
            <a:r>
              <a:rPr b="1" lang="es-CL" sz="2400" spc="-1" strike="noStrike">
                <a:solidFill>
                  <a:srgbClr val="000066"/>
                </a:solidFill>
                <a:latin typeface="Tahoma"/>
              </a:rPr>
              <a:t>actores participantes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actores pueden ser de varios ti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personas desempeñando distintos pape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sistemas de cómput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aparatos eléctricos o mecánic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91160" y="3809880"/>
            <a:ext cx="914040" cy="1447560"/>
            <a:chOff x="7391160" y="3809880"/>
            <a:chExt cx="914040" cy="1447560"/>
          </a:xfrm>
        </p:grpSpPr>
        <p:sp>
          <p:nvSpPr>
            <p:cNvPr id="90" name=""/>
            <p:cNvSpPr/>
            <p:nvPr/>
          </p:nvSpPr>
          <p:spPr>
            <a:xfrm>
              <a:off x="7492680" y="3809880"/>
              <a:ext cx="609480" cy="5788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97240" y="4388760"/>
              <a:ext cx="0" cy="482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391160" y="4871880"/>
              <a:ext cx="405720" cy="385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97240" y="4871880"/>
              <a:ext cx="507960" cy="289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4485600"/>
              <a:ext cx="81252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391160" y="5334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B3A-D55F-403F-B82F-AB351905E4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Identificación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étodo 1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los actores relacionados con un sistema o empre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Para cada actor, se identifican los procesos que él inicia o en los que particip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étodo 2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los eventos externos a los que un sistema ha de responde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relacionan los eventos con los actores y con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69F-4538-4F58-8059-A0B85DE657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s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xplican gráficamente un conjunto de casos de uso de un sistema, los actores y la relación entre éstos y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casos de uso se muestran como óvalos, los actores como figuras estilizadas, y los flujos de información o estímulos como líne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Identifican los agentes externos de un sistema y la forma en que lo utiliz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445-AFBA-4298-A268-56AA1DB357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 de Punto de Ven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238880" y="3200400"/>
            <a:ext cx="685800" cy="1143000"/>
            <a:chOff x="7238880" y="3200400"/>
            <a:chExt cx="685800" cy="1143000"/>
          </a:xfrm>
        </p:grpSpPr>
        <p:sp>
          <p:nvSpPr>
            <p:cNvPr id="103" name=""/>
            <p:cNvSpPr/>
            <p:nvPr/>
          </p:nvSpPr>
          <p:spPr>
            <a:xfrm>
              <a:off x="7314840" y="3200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43440" y="365760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238880" y="403884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43440" y="403884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38880" y="373392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23880" y="3124080"/>
            <a:ext cx="685800" cy="1143000"/>
            <a:chOff x="1523880" y="3124080"/>
            <a:chExt cx="685800" cy="1143000"/>
          </a:xfrm>
        </p:grpSpPr>
        <p:sp>
          <p:nvSpPr>
            <p:cNvPr id="109" name=""/>
            <p:cNvSpPr/>
            <p:nvPr/>
          </p:nvSpPr>
          <p:spPr>
            <a:xfrm>
              <a:off x="1599840" y="312408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440" y="358128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3880" y="396252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440" y="396252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365760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657600" y="1752480"/>
            <a:ext cx="243828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514600"/>
            <a:ext cx="213372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505320"/>
            <a:ext cx="213372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a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495680"/>
            <a:ext cx="213372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94400" y="171756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6120" y="4384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ajer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240" y="44956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3" idx="0"/>
            <a:endCxn id="115" idx="2"/>
          </p:cNvCxnSpPr>
          <p:nvPr/>
        </p:nvCxnSpPr>
        <p:spPr>
          <a:xfrm flipV="1">
            <a:off x="2133720" y="2894760"/>
            <a:ext cx="1676880" cy="778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2" name=""/>
          <p:cNvCxnSpPr>
            <a:stCxn id="113" idx="1"/>
            <a:endCxn id="116" idx="2"/>
          </p:cNvCxnSpPr>
          <p:nvPr/>
        </p:nvCxnSpPr>
        <p:spPr>
          <a:xfrm>
            <a:off x="2133720" y="3673080"/>
            <a:ext cx="1676880" cy="213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3" name=""/>
          <p:cNvCxnSpPr>
            <a:stCxn id="113" idx="1"/>
            <a:endCxn id="117" idx="2"/>
          </p:cNvCxnSpPr>
          <p:nvPr/>
        </p:nvCxnSpPr>
        <p:spPr>
          <a:xfrm>
            <a:off x="2133720" y="3673080"/>
            <a:ext cx="1676880" cy="1204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4" name=""/>
          <p:cNvCxnSpPr>
            <a:stCxn id="107" idx="0"/>
            <a:endCxn id="115" idx="6"/>
          </p:cNvCxnSpPr>
          <p:nvPr/>
        </p:nvCxnSpPr>
        <p:spPr>
          <a:xfrm flipH="1" flipV="1">
            <a:off x="5943240" y="2894760"/>
            <a:ext cx="1296000" cy="824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5" name=""/>
          <p:cNvCxnSpPr>
            <a:stCxn id="107" idx="0"/>
            <a:endCxn id="117" idx="6"/>
          </p:cNvCxnSpPr>
          <p:nvPr/>
        </p:nvCxnSpPr>
        <p:spPr>
          <a:xfrm flipH="1">
            <a:off x="5943240" y="3719160"/>
            <a:ext cx="1296000" cy="1157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DCA-26B5-41F4-BAAD-12E7EB6DB3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ormatos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ormato de Alto Ni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un proceso muy brevemente. Es conveniente durante el estado inicial de los requerimientos para establecer la complejidad y funcionalidad del sistema. Son sucintos y vag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ormato Expandi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más detallado que el formato de alto nivel. Tiene una sección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urso normal de eventos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 Este formato se usa durante la especificación de requerimientos para los requerimientos más importantes o de mayor influ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C7F-B9F9-4AE5-810A-A7E93DBC8E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 de Estudio: Punto de Ven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punto de venta es el terminal de un sistema computarizado donde se registran ventas y se realizan pag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hardware lo componen un computador y una lectora de código de barr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pide desarrollar el software para el punto de ven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2614680" cy="18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AF8-8363-4134-97FB-BF593CE976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ronteras del Sistem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caso de uso describe la interacción con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fronteras del sistema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frontera hardware/soft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l departamento de una organiz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organización enter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frontera determina qué es interno y externo al sistema, así como las responsabilidades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ambiente externo está representado solamente por los a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53280" y="3505320"/>
            <a:ext cx="533160" cy="761400"/>
            <a:chOff x="8153280" y="3505320"/>
            <a:chExt cx="533160" cy="761400"/>
          </a:xfrm>
        </p:grpSpPr>
        <p:sp>
          <p:nvSpPr>
            <p:cNvPr id="132" name=""/>
            <p:cNvSpPr/>
            <p:nvPr/>
          </p:nvSpPr>
          <p:spPr>
            <a:xfrm>
              <a:off x="8212320" y="3505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90160" y="3809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153280" y="4064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90160" y="4064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3860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781680" y="2133720"/>
            <a:ext cx="1981440" cy="1218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467080"/>
            <a:ext cx="1733400" cy="581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aso de U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0"/>
            <a:endCxn id="138" idx="4"/>
          </p:cNvCxnSpPr>
          <p:nvPr/>
        </p:nvCxnSpPr>
        <p:spPr>
          <a:xfrm flipH="1" flipV="1">
            <a:off x="7743240" y="3047760"/>
            <a:ext cx="410040" cy="79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8097840" y="4295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560" y="12193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fronte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2"/>
            <a:endCxn id="137" idx="0"/>
          </p:cNvCxnSpPr>
          <p:nvPr/>
        </p:nvCxnSpPr>
        <p:spPr>
          <a:xfrm>
            <a:off x="7737120" y="1676520"/>
            <a:ext cx="35640" cy="4579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2B6-9A9B-4FE1-9101-4CBE66D717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pciones de Fronter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elegimos la tienda entera como la frontera del sistema, el Cajero es un recurso más, y el único actor es el Cl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20120" y="4191120"/>
            <a:ext cx="685800" cy="1143000"/>
            <a:chOff x="7620120" y="4191120"/>
            <a:chExt cx="685800" cy="1143000"/>
          </a:xfrm>
        </p:grpSpPr>
        <p:sp>
          <p:nvSpPr>
            <p:cNvPr id="146" name=""/>
            <p:cNvSpPr/>
            <p:nvPr/>
          </p:nvSpPr>
          <p:spPr>
            <a:xfrm>
              <a:off x="7696080" y="419112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24680" y="464832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620120" y="502956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24680" y="502956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472464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038480" y="2971800"/>
            <a:ext cx="2438640" cy="304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733920"/>
            <a:ext cx="213336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5105520"/>
            <a:ext cx="213336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480" y="30481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0" idx="0"/>
            <a:endCxn id="152" idx="6"/>
          </p:cNvCxnSpPr>
          <p:nvPr/>
        </p:nvCxnSpPr>
        <p:spPr>
          <a:xfrm flipH="1" flipV="1">
            <a:off x="6323760" y="4114440"/>
            <a:ext cx="1296360" cy="596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6" name=""/>
          <p:cNvCxnSpPr>
            <a:stCxn id="150" idx="0"/>
            <a:endCxn id="153" idx="6"/>
          </p:cNvCxnSpPr>
          <p:nvPr/>
        </p:nvCxnSpPr>
        <p:spPr>
          <a:xfrm flipH="1">
            <a:off x="6323760" y="4710240"/>
            <a:ext cx="1296360" cy="776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7468200" y="541008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ent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8CA-1BA6-4286-A64B-E7BCA3E4F7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s Esenciales y Casos Re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Esenciales de Us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expandidos que se expresan en forma teórica y con pocos detalles de implement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el proceso a partir de sus actividades y motivos esenci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nviene usarlos al comenzar a investigar los requerimi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ienen más vida úti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2880" y="2590560"/>
            <a:ext cx="3810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Reales de Us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concretamente el proceso a partir de su diseño concreto actual, con sus tecnologí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usan principalmente durante el diseñ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600200"/>
            <a:ext cx="6096240" cy="609480"/>
          </a:xfrm>
          <a:prstGeom prst="leftRightArrow">
            <a:avLst>
              <a:gd name="adj1" fmla="val 50519"/>
              <a:gd name="adj2" fmla="val 166706"/>
            </a:avLst>
          </a:prstGeom>
          <a:gradFill rotWithShape="0">
            <a:gsLst>
              <a:gs pos="0">
                <a:srgbClr val="a50021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8360" y="1641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bstra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1676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oncre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7D3-DF1F-4085-AA3D-D5502131BA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mpra de Produ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1. El Cajero registra el identificador y el número de cada producto.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3. Y así sucesivamente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67080" y="2057040"/>
            <a:ext cx="3810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2. Determina el precio del producto y agrega su información a la transacción actual. Aparece el precio y la descripción del producto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4. Y así sucesivamente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962520"/>
            <a:ext cx="3809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1. En cada producto, el Cajero teclea el código universal del producto (CUP) y el número de cada producto en los campos correspondientes en la ventana 1. Oprime el botón “Introducir Producto” con el ratón o la tecla &lt;Enter&gt;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3. etcéter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962520"/>
            <a:ext cx="3810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2. Muestra el precio del producto y agrega la información sobre él a la transacción de venta. El precio y la descripción del producto actual se muestran en el cuadro de texto 2 de la ventana 1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4. etcéter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39400" y="137160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cción de los Ac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7040" y="137160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Respuesta del 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981080"/>
            <a:ext cx="792468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886200"/>
            <a:ext cx="7924680" cy="2209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7582680" y="254916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aso Esenc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820280" y="467460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aso Re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7E7-F947-45F0-B290-997438031C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oceso de Desarrollo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istar las funciones del sistema. Identificar la frontera, los actores y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los casos de uso en formato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ibujar el diagrama de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en formato esencial expandido los casos de uso más importantes, influyentes y riesgosos, para comprender y estimar mejor la naturaleza y las dimensiones del probl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 veces es necesario incluir casos re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2E0-4B3E-453C-804A-CB52BB3D3D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finición de Acto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jer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li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Ger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dministrador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l Siste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62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os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trega el cambi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ga los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i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ierr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corpora nuevos usuari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939-D2D6-4290-A866-AE24AD8416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s de Uso de Alto Nive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Descripció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Inicio de Operacion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Ger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 en efectiv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gerente activa el punto de venta a fin de prepararla para que la usen los Cajeros. El Gerente comprueba que la fecha y hora sean correctos; hecho esto, el sistema está listo para que lo utilice el Cajer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CE0-382A-4505-BBED-F23029F4CA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38880" y="2362320"/>
            <a:ext cx="533160" cy="761400"/>
            <a:chOff x="7238880" y="2362320"/>
            <a:chExt cx="533160" cy="761400"/>
          </a:xfrm>
        </p:grpSpPr>
        <p:sp>
          <p:nvSpPr>
            <p:cNvPr id="185" name=""/>
            <p:cNvSpPr/>
            <p:nvPr/>
          </p:nvSpPr>
          <p:spPr>
            <a:xfrm>
              <a:off x="7297920" y="2362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75760" y="2666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238880" y="2921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75760" y="2921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2717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28800" y="2362320"/>
            <a:ext cx="533160" cy="761400"/>
            <a:chOff x="1828800" y="2362320"/>
            <a:chExt cx="533160" cy="761400"/>
          </a:xfrm>
        </p:grpSpPr>
        <p:sp>
          <p:nvSpPr>
            <p:cNvPr id="191" name=""/>
            <p:cNvSpPr/>
            <p:nvPr/>
          </p:nvSpPr>
          <p:spPr>
            <a:xfrm>
              <a:off x="1887840" y="2362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5680" y="2666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828800" y="2921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5680" y="2921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800" y="2717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657600" y="1447920"/>
            <a:ext cx="2438280" cy="4800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5909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Registra Da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32767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0240" y="14479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240" y="3147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aj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640" y="314784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5" idx="0"/>
            <a:endCxn id="197" idx="2"/>
          </p:cNvCxnSpPr>
          <p:nvPr/>
        </p:nvCxnSpPr>
        <p:spPr>
          <a:xfrm flipV="1">
            <a:off x="2303640" y="2158200"/>
            <a:ext cx="1659600" cy="575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4" name=""/>
          <p:cNvCxnSpPr>
            <a:stCxn id="195" idx="1"/>
            <a:endCxn id="198" idx="2"/>
          </p:cNvCxnSpPr>
          <p:nvPr/>
        </p:nvCxnSpPr>
        <p:spPr>
          <a:xfrm>
            <a:off x="2303640" y="2733840"/>
            <a:ext cx="1659600" cy="111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5" name=""/>
          <p:cNvCxnSpPr>
            <a:stCxn id="195" idx="1"/>
            <a:endCxn id="199" idx="2"/>
          </p:cNvCxnSpPr>
          <p:nvPr/>
        </p:nvCxnSpPr>
        <p:spPr>
          <a:xfrm>
            <a:off x="2303640" y="2733480"/>
            <a:ext cx="1659600" cy="797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6" name=""/>
          <p:cNvCxnSpPr>
            <a:stCxn id="189" idx="0"/>
            <a:endCxn id="197" idx="6"/>
          </p:cNvCxnSpPr>
          <p:nvPr/>
        </p:nvCxnSpPr>
        <p:spPr>
          <a:xfrm flipH="1" flipV="1">
            <a:off x="5622120" y="2158200"/>
            <a:ext cx="1616760" cy="545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7" name=""/>
          <p:cNvCxnSpPr>
            <a:stCxn id="189" idx="0"/>
            <a:endCxn id="199" idx="6"/>
          </p:cNvCxnSpPr>
          <p:nvPr/>
        </p:nvCxnSpPr>
        <p:spPr>
          <a:xfrm flipH="1">
            <a:off x="5622120" y="2703240"/>
            <a:ext cx="161676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962520" y="403848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Inici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80060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Administ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los usuari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5627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etcéte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57400" y="4751280"/>
            <a:ext cx="533160" cy="762120"/>
            <a:chOff x="2057400" y="4751280"/>
            <a:chExt cx="533160" cy="762120"/>
          </a:xfrm>
        </p:grpSpPr>
        <p:sp>
          <p:nvSpPr>
            <p:cNvPr id="212" name=""/>
            <p:cNvSpPr/>
            <p:nvPr/>
          </p:nvSpPr>
          <p:spPr>
            <a:xfrm>
              <a:off x="2116440" y="475128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94280" y="5055840"/>
              <a:ext cx="0" cy="254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7400" y="5310360"/>
              <a:ext cx="236880" cy="203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94280" y="531036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510696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601280" y="548640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Administrad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del sis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315200" y="4218120"/>
            <a:ext cx="533160" cy="761400"/>
            <a:chOff x="7315200" y="4218120"/>
            <a:chExt cx="533160" cy="761400"/>
          </a:xfrm>
        </p:grpSpPr>
        <p:sp>
          <p:nvSpPr>
            <p:cNvPr id="219" name=""/>
            <p:cNvSpPr/>
            <p:nvPr/>
          </p:nvSpPr>
          <p:spPr>
            <a:xfrm>
              <a:off x="7374240" y="42181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52080" y="45226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315200" y="47768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52080" y="47768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45734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087320" y="49766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Ger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6" idx="0"/>
            <a:endCxn id="209" idx="2"/>
          </p:cNvCxnSpPr>
          <p:nvPr/>
        </p:nvCxnSpPr>
        <p:spPr>
          <a:xfrm flipV="1">
            <a:off x="2531880" y="5054040"/>
            <a:ext cx="1430640" cy="68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26" name=""/>
          <p:cNvCxnSpPr>
            <a:stCxn id="223" idx="0"/>
            <a:endCxn id="208" idx="6"/>
          </p:cNvCxnSpPr>
          <p:nvPr/>
        </p:nvCxnSpPr>
        <p:spPr>
          <a:xfrm flipH="1" flipV="1">
            <a:off x="5622120" y="4292280"/>
            <a:ext cx="1693080" cy="26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8A5-B0C6-42F4-96FA-0CC5BB0D06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gunos Casos Esenciales Expandid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sume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ferencia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 (iniciador), Caje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recibe el pago. Al terminar la operación, el Cliente se marcha con los producto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 y esenci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es: R1.1, R1.2, R1.3, R1.7, R1.9, R2.1, R2.2, R2.3, R2.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CFF-3417-4B0B-94E6-8364BE7FB4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828800"/>
            <a:ext cx="4114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. El Cliente colunica su información de crédito para pagar con tarjeta.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3. El Servicio de autorización de crédito autoriza el pag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1828800"/>
            <a:ext cx="5105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2. Genera una solicitud de pago con tarjeta de crédito y la envía a un servicio externo de autorización de crédit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4. Recibe una respuesta aprobatoria de crédito del Servicio de autoriz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5. El sistema de cuentas por cobrar registra la información del pago y la aprob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6. Muestra el mensaje aprobatorio de autoriz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9840" y="13716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3000" y="13716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5181480"/>
            <a:ext cx="80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rso alternativo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ínea 4: solicitud negada por el Servicio de autorización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poner otra forma de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C6C-B9AE-4021-921F-7A78E4C2C0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mentos de la Espec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resentación Genera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sistema de terminal para el punto de ven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lien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bjectStore, Inc., detallista multinacional de obje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et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ago rápido de los client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nálisis rápido y exacto de las vent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trol automático de inventari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unciones del siste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F63-535A-470A-A21E-4DA0C3D7B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tegorías de Fun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Categoría de la Fun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uperflu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11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Significa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alizarse y el usuario debería saber que se ha realiz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alizarse, aunque no es visible para los usuari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pcionales; su inclusión no repercute significativamente en el costo ni en otras fun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CB5-6C83-4C54-BFDF-5D79661FF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unciones Bás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1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2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3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4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5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905120" y="15238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a venta en curso: los productos compra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lcula el total de la venta actual; se incluye el impues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ptura la información sobre el objeto por su código de barras o manual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duce las cantidades del inventario cuando se realiza una ven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registran las ventas efectua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cajero debe introducir identificación y contraseña para usar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52388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A69-F89C-4AD6-ADEF-D62835AF11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Funciones Bás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182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4382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frece un mecanismo de almacenamiento persistent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frece mecanismos de comunicación entre los procesos y entre los sistema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uestra la descripción y el precio del producto registrad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43828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756-23B6-4C37-AF68-6B6B37A891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unciones de Pag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447920"/>
            <a:ext cx="182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371600"/>
            <a:ext cx="5791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en efectivo, capturando la cantidad ofrecida y calculando el vuelt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a crédito, capturando la información de tarjetas de crédito y solicitando autorización externa a través de una conexión por mod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con cheque, capturando el RUN manualmente y solicitando autorización externa a través de una conexión por mod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os pagos en el sistema de cuentas por cobrar, pues el servicio de autorización de crédito debe a la tienda el monto del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137160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2E5-9CFC-4885-8913-9D32A5BF0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Requerimientos No Funcion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523880"/>
            <a:ext cx="5791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p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se registre un producto vendido, la descrip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 y el precio aparecerán en 2 segundos de tiempo máxim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ventanas y cuadros de diálogo; maximizan la navega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 fácil a través del teclado y no con apuntador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gistrar los pagos a crédito autorizados a las cuentas por cobrar en un plazo de 24 horas, aún cuando se produzcan fallas de energía o de equip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icrosoft Windows 98, NT y Linux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2976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querimien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iempo de respues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etáfora de interfa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olerancia a fall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lataforma del sistema opera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EAC-6368-404A-9C54-78FB14C560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l caso de uso es un documento narrativo que describe la secuencia de eventos de un actor (agente externo) que utiliza un sistema para realizar un proce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Historias o casos de utilización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No son los requisitos funcionales, sino que ejemplifican e incluyen tácitamente los requisitos en las historias que narr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5029200"/>
            <a:ext cx="2971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558-493C-4A17-86C9-8BEC522728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1-08-20T21:23:42Z</cp:lastPrinted>
  <dcterms:modified xsi:type="dcterms:W3CDTF">2004-09-03T16:43:20Z</dcterms:modified>
  <cp:revision>61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