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DBF-DFAB-4C8F-90C6-655A6791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D70-5837-4EBF-AE8D-34879E15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97F-1BB5-4AFD-A94C-A48BCF6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D1A-6F1D-4AB3-B04E-DCF26D15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09C-D295-4BC9-A659-8A5617F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401-4BCF-4DAE-8ABD-0C971BCE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615-1046-4920-A400-E9EA278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0B2-FC8E-4588-B899-DFE63B7D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C32-8731-48DA-BA44-C79B8E86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107-4E76-4C5D-8BE5-A524618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BEB-3F4E-4978-8D64-F2E7241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C07-1ABF-4B28-A433-BC6B74A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85F-D803-4D53-B120-5F9C38F9DA1C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Software Orientado a Obje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usuario puede interactuar con el ACII para planear los menúes de cada dí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1A5-357A-4292-B596-91711B1EF3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dentificar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o de software complejo se inicia identificando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racterísticas de una componente (en el diseño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ener un conjunto pequeño y bien definido de responsabilidad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actuar mínimamente con otra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EAD-1820-406C-8E30-E799A31F3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arjetas CR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tarjeta contien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mbre de la compone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sta de responsabilidad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as componentes con las que interactú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267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miembro del equipo de desarrollo tiene una o más tarjeta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257800" y="4114800"/>
            <a:ext cx="3024720" cy="1981080"/>
            <a:chOff x="5257800" y="4114800"/>
            <a:chExt cx="3024720" cy="1981080"/>
          </a:xfrm>
        </p:grpSpPr>
        <p:sp>
          <p:nvSpPr>
            <p:cNvPr id="91" name=""/>
            <p:cNvSpPr/>
            <p:nvPr/>
          </p:nvSpPr>
          <p:spPr>
            <a:xfrm>
              <a:off x="5257800" y="4114800"/>
              <a:ext cx="28954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10440" y="4114800"/>
              <a:ext cx="0" cy="1981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1040" y="418320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9960" y="459252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47800" y="418320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4572000"/>
              <a:ext cx="198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EC7-881F-425A-AEE8-EF177299E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iclo “Qué - Quién”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da actividad, tarea o funcionalidad identificada debe ser asignada a una componente como parte de sus responsabilidad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ún el análisis se hace a nivel del sistema comple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decisiones de diseño están frescas en la mente de los desarrollador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B75-F73A-44A3-ABDE-4D29F3141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onentes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orrer las recetas exist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gregar una nueva receta a la base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odificar una receta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ver un plan de comidas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actividades pueden clasificarse en dos gru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a base de datos de rece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os planes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F1D-872B-4BD8-AD72-64C3C833DD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ienveni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13560" y="20685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8360" y="2900520"/>
            <a:ext cx="283824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mensaje inici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Ofrecer las opciones de 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asar el control a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133720"/>
            <a:ext cx="18288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BE3-2D95-4E08-A51F-9A744D7707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ase de Datos de 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142-4164-4E6C-8D06-D7A2EF94E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Cambio es Inevitabl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centrar los cambios probables en una o dos compone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faces, formatos de comunicación y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las dependencias del hardware (portabilidad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el acoplamiento entr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3F3-39FF-4E77-9629-31C2AA27EB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sponer Deci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D5E-74AD-40B8-A400-F0A2356FCC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ceta será también una compon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contener una cierta informa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gredientes necesar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sos a segui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actividades que debe realizar una receta so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plegar la receta en pantall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ermitir modificar ingredientes y/o pas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19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es un modelo de formato para cada una de las rece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a Base de Datos ofrece incluir una nueva rec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crea una nueva componente de Receta en blanc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signan los valores de la información con los datos proporcionados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362-500B-452D-AE2B-70FBC6226F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¿Qué es Orientación a Objetos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clases y her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saje de mensaj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étodos estáticos y virtu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 lenguaje orientado a objetos no es condición necesaria ni suficiente para hacer un programa orientado a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EA5-9604-4D45-90B3-CFCD90FB46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Rec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82880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8000" y="182880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67984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0160" y="1916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Rece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5880" y="2747880"/>
            <a:ext cx="2914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la receta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ingredien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pasos a seguir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9810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 de Comid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C17-9004-40E0-9024-4A46F78BEE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a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lan de Comidas permite (responsabilidad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 y modificar un plan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un plan de comi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alcular la lista de compras necesari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nuevo plan tiene una Fechas asociadas. Cada Fecha es también una compone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sultar la comida de una Fecha particular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 del dí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C5F-CF0B-46A6-9C93-F80075CDF6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úmero de comensa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plegar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/modificar recetas de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E3B-BB61-465B-8BFA-3D17D969B3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unicación en ACI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lane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ech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ce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1" name=""/>
          <p:cNvCxnSpPr>
            <a:stCxn id="134" idx="2"/>
            <a:endCxn id="136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2" name=""/>
          <p:cNvCxnSpPr>
            <a:stCxn id="135" idx="2"/>
            <a:endCxn id="137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4" name=""/>
          <p:cNvCxnSpPr>
            <a:stCxn id="136" idx="2"/>
            <a:endCxn id="139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5" name=""/>
          <p:cNvCxnSpPr>
            <a:stCxn id="138" idx="3"/>
            <a:endCxn id="139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6" name=""/>
          <p:cNvCxnSpPr>
            <a:stCxn id="137" idx="3"/>
            <a:endCxn id="138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410-9DD8-4E86-80C7-43393D6BE7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Interacción o Secu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96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70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1320" y="18129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18129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97440" y="1812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18129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Planes de 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7120" y="2514600"/>
            <a:ext cx="1752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2240" y="3124080"/>
            <a:ext cx="19047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84520" y="3657600"/>
            <a:ext cx="1905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9040" y="4343400"/>
            <a:ext cx="17528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7120" y="4952880"/>
            <a:ext cx="5867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7040" y="250344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9640" y="28195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7360" y="33526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39800" y="40384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4320" y="464832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236232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9600" y="243828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7000" y="2971800"/>
            <a:ext cx="3049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4400" y="487692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362320"/>
            <a:ext cx="304560" cy="3504960"/>
          </a:xfrm>
          <a:prstGeom prst="downArrow">
            <a:avLst>
              <a:gd name="adj1" fmla="val 40620"/>
              <a:gd name="adj2" fmla="val 198038"/>
            </a:avLst>
          </a:prstGeom>
          <a:gradFill rotWithShape="0">
            <a:gsLst>
              <a:gs pos="0">
                <a:srgbClr val="ffcc00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198720" y="36252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5EC-CE19-4083-A36E-8C8E644A96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tado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mportamient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el conjunto de acciones que puede realiz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onjunto de todas las acciones posibles de una componente se llama 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tocol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la compon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la información contenida dentro de e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no es estático sino que puede cambiar co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5736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60A-2373-4914-A3E4-3498FF2DBC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s y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Recetas en la Base de Da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ablemente tienen distintos ingredientes y distintos pasos a seguir (estado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ero todas tendrán las mismas responsabilidades (comportamiento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iciando la especificación de un sistema, nos concentramos en el comportamiento común de las Rece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lase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es un conjunto de objetos con el mismo comporta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individuo de una Clase es 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Instancia;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acteriza su est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CD3-3770-41DB-9A6E-04B9C9DBC8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ir el comportamiento de una componente permite que otro programador pued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usarl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in conocer su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se llam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ocultamiento de la información (information hiding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cimos que la component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ncapsula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u comportamiento y muestra sólo los detalles necesarios para usar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lo que la componente puede hacer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hacia otros program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cómo la componente realiza sus tare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que ve el programador trabajando en e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D54-845F-4E49-9674-C47BB442F1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factor crítico aquí es la comunic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componentes se desarrollan en forma independient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1EF-4FAB-4728-94A9-97C78F25BD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incipios de Parn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será provisto de toda la información necer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ff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Varias implementaciones pueden probarse para la mism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227-A03B-4EAF-9E96-359BB77C48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Diseñ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El diseño del software consiste en crear un </a:t>
            </a:r>
            <a:r>
              <a:rPr b="1" lang="es-UY" sz="2400" spc="-1" strike="noStrike">
                <a:solidFill>
                  <a:srgbClr val="000066"/>
                </a:solidFill>
                <a:latin typeface="Tahoma"/>
              </a:rPr>
              <a:t>modelo</a:t>
            </a: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 del software deseado de modo que satisfaga los requerimientos de buena for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1560" y="39625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440" y="39625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533412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qué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440" y="533412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cómo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6F6-CE60-4554-863D-F6D4D88C9D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guiendo el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 general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sin estado interno, pueden implementarse como una fun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con estado y varias responsabilidades pueden implementarse como clas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sponsabilidad será un méto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odos los datos necesarios deben identificars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arámetros de los métodos se identifican con su nombre y su orige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atos internos se identifica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206-85D3-4849-BB1F-23D6D64F33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cción de Nomb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uías para elección de nombres [Keller, 1990]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nombres fácilmente pronunci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mayúsculas o guiones para unir palab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r cuidadoso con las abreviatu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nombres con diferentes interpret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los números como parte de un nomb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funciones o variables con valores lógicos, deben tener nombres que sugieran este tipo, e.g., estaLis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1C4-80F4-4408-A874-533D189B6B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Fech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752480"/>
            <a:ext cx="6175440" cy="426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64320" y="1752480"/>
            <a:ext cx="27000" cy="4267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6035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91800" y="18399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6719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Fecha (año, mes, dia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9051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6D9-40A7-4D42-9E1B-672C157C05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Detall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el diseño detallad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eligen las estructuras de datos intern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implementan los métodos definidos en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84F-76A8-4A22-A505-D5C90C10F9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Principi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Cualida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3047760" cy="1676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048120"/>
            <a:ext cx="533520" cy="1295280"/>
          </a:xfrm>
          <a:prstGeom prst="downArrow">
            <a:avLst>
              <a:gd name="adj1" fmla="val 50000"/>
              <a:gd name="adj2" fmla="val 60695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295280"/>
            <a:ext cx="304776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988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75E-189E-4DCB-BB29-82DCEEACC9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Métodos Estructurados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Estructurado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Yourd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Análisis Estructurado de Sistema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Gane &amp; Sars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esarrollo de Sistemas Jackso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Jackson, 198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Orientado a Objeto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Robinson, 1992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Boock, 199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UML, 1997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8440" y="3733920"/>
            <a:ext cx="31158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Más que métodos, s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notaciones y guías par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el diseño de softwa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creatividad y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disciplina siguen sien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esencia del diseñ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A70-68E1-4E71-AF83-36F409C723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por Responsabil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ar a alguien (algo) una responsabilidad impl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espera un cierto comportamien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le dará independencia para hacer su tar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rincipi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deleg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o interferenci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on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miento y modularidad como un ar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Base para la reutil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7320" y="336384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imperati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0" y="53942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orientada a obje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EFE-E7BC-4B5B-84EA-98899B124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stemas Chicos y Gran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chic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ódigo desarrollado por uno o unos pocos programador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ersona entiende todas las facetas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gran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chas personas participan en la program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adie abarca todo el conocimiento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B8C-94FB-4626-981E-AB4061A81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ar el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seño Dirigido por l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148-4912-4DC5-901A-4A52F3483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Ayudante de Cocin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oducto a desarroll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yudante d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cina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ractivo 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ligente (ACII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D62-5C4C-43FB-89A3-714D96ECA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9-24T14:57:33Z</cp:lastPrinted>
  <dcterms:modified xsi:type="dcterms:W3CDTF">2004-10-07T20:51:36Z</dcterms:modified>
  <cp:revision>106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