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51B-2FFB-44BE-B492-DBC83233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181-04FF-40B8-B47A-A4E2AA7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94B-A97D-4337-957E-7DC14D53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0DA-B082-46AB-9EAA-1EB0F011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93-DF1B-4610-8DE7-7DA054C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08E-38BF-4B8E-8D31-32AB8B11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775-6195-4493-9E4C-FA15D6D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E1C-5597-48A9-A5C3-22B4DBB3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506-29AC-44C5-95C7-FA40CD3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7BA-48B0-496E-862E-DF68EE4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00C-CC1D-4608-8D93-1A9C3B0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A51-A138-4D04-9681-54EF256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913-DAE0-4B8A-98E5-FA437476573A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56500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ahoma"/>
              </a:rPr>
              <a:t>Discusión Final del Cur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esta disciplina no se puede descansar... Lamentablemente!!!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 una Universidad con respecto a los Profesiona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l curso con respecto a usted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4D1-4ECB-4C52-85AC-ED08DF810A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usted que puede trabajar un Ingeniero en Computación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que va a trabajar usted durante los próximos 5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en los próximos 30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577-F8E5-42A1-8567-9ED81F57E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mercado laboral chilen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ambiente laboral en una típica empresa chilen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3C4-AF62-493A-B6C5-93FD792FD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o cuáles deberían s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Siente que está preparado para montar una empresa en este momen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ndo es un buen momento para hac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BCC-C683-4C1C-8BC4-2F051066F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formar una empresa desarrolladora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recursos prevé para comenzar a trabajar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contratar el desarrollo de un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 la empresa desarrolladora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l software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13E-5072-466C-90CF-0FB9F7C0E5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es ”éxito” en un desarrollo de softwar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pel juega la gestión de proyectos, dentro de una empresa desarrollado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la parte técnica? ¿cuál es más importa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156-ED00-4521-B553-ED77C80CFB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estimar tiempo y costos de desarroll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es la fase más importante para los desarrollador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para el cli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0C4-1F5C-47A6-B656-594145A0A7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posible mantenerse actualiz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necesario planificar mi empresa a largo plaz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sa con el organigrama de mi empresa? ¿Cuándo se defin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on qué estructu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D0F-1CF7-4BB7-AB32-1C34CF5377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será el personal de mi empresa? ¿especialistas o hombres-orquest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Mi empresa debe hacer todo, o puedo terceriza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arketing y Diseño Gráfico..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A41-9D98-4C21-A49C-02EB42312E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5-11-15T11:19:08Z</dcterms:modified>
  <cp:revision>93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