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2B6-DE51-4781-8183-C0C82838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8E8-80FD-4B71-8B10-D569DEC6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E9C-DB91-421D-92C4-188F2DAD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27E-B870-4CD4-915D-D61A5044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35DF-D5CE-4BD9-AD79-25A3C511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053C-A4D2-4313-8495-315B0E83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C9EF-D159-4F9E-BA35-9318F4A4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1469-83A3-406F-B56E-A9B791BF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4640-3272-46E8-9A0B-463B5EF1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CABE-9C22-4580-9405-6D346D1D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DD2F-2E21-4228-8ACD-5672C070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099-6B75-4222-8FD3-5AF0675E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E10B-89C5-48B4-B0B2-D5907DD5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9549-4FFE-4646-88ED-7B879AD7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A872-0018-44DE-A0A4-3E1BF2D9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D06F-39DA-4DE6-8DC9-1876CDC4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74F6-F058-4A01-8C76-91E16D07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413-A591-4EF2-8CEE-984C8B77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AA8-AC74-4A5A-9863-C4CD1C04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512-F3C6-4BF3-A206-94D69473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E35-E9A5-4E00-B03D-3E63A868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0FA-9079-45F8-8023-94EC2B18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7D4-48FA-4488-A78E-F0983E2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004-3263-4374-8E16-DCA98F0A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EB45-553F-45F6-9866-D806D38A2B3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9954-6B97-40AD-AB9F-9295EE2663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Modelos de Desarroll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3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14400" y="1676520"/>
          <a:ext cx="52578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52578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85800" y="519120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El modelo de cascada aunque algo desprestigiado continúa siendo usado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523880"/>
            <a:ext cx="8153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l modelo de cascada puro no hay realimentación entre las distintas etap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bién se usa el modelo con feedback hacia atrá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pendiendo de la versión, posee entre 5 y 10 actividades fundament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tilidad mayor es la identificación de las actividades fundamentales (que aparecen en cualquier proceso) y la definición de los documentos de entrega (deliverab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Los problemas más importantes de este modelo son: (a) que no maneja los riesgos y (b) que obtiene un producto demasiado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52480" y="1571760"/>
            <a:ext cx="516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38080" y="1828800"/>
          <a:ext cx="769644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69644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838080" y="495288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La idea es combinar los elementos del tradicional modelo 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cascada con la filosofía de prototipos (usada principalme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en la etapa de definición de requisi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75248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uencias lineales en forma escalon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da secuencia genera un incremento del softwa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: Word Process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imer incremento: edición y formateo bás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gundo incremento: párrafos y docu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rcer incremento: spelling y gramá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arto incremento: layout avanzado, 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752480"/>
            <a:ext cx="792504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da incremento representa una versión reducida del producto fi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uede ser validada de inmediato por el usuar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una buena preparación para la vida evolutiva del produc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obtener una buena segmentación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incorporar cambios (respecto a lo que se pretende obtener), una vez que el proyecto está en march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9480" y="534816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puede ser visto como un “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etamodelo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ues cualquier modelo de proceso puede ser enmarcado en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anejo del 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se basa en la identificación y eliminación de problemas de alto riesgo a través de un proceso de diseño cuidado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íclico y no line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radio del espiral marca el costo acumulado en el proceso, mientas que la dimensión angular representa el progreso dentro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-  Carencias del personal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Staff calificado, equip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trenamient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- Cronogramas y presupuestos    -  Estimación de cronogra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realistas.                               y costos detallados, reuso d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experiencia previ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- Desarrollo de fun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organizad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prototip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- Desarrollo de interfas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Prototipos, escenari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caracterización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- “Gold plating”..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costo-benefi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- Continuos cambios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Ocultamiento de informació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quisito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desarroll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36560"/>
            <a:ext cx="7721640" cy="50691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247176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676520"/>
            <a:ext cx="0" cy="51814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Objetivo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ostrar diferentes formas de organizar el desarrollo de software según el avance de la informá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alizar los “ciclos de vida” más representat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structura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ón y Objetivos de los Modelo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ción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7- Carencias en componentes       -  Análisis de compatibilidad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ernos (soft, hard, etc).          benchmarks, insp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- Carencias en tarea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-  Control de referenci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arrolladas en forma              contratos cuidadosos,   externa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selección de subcontrat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9- Carencias de performanc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Simulación, prototip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tiempo real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benchmar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0- Forzar la computación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técnico, prototipos y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honest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636560"/>
            <a:ext cx="7721640" cy="476424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52900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1676520"/>
            <a:ext cx="0" cy="474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57800" cy="2536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96960" y="4286160"/>
            <a:ext cx="77612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1676520"/>
            <a:ext cx="7848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basado en componentes contempla la construcción de sistemas, a través del ensamble de módulos predefinidos (component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os módulos son genéricos (sirven para más de un sistema), configurables, y pueden ser desarrollados por cualquier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que esto sea factible, los módulos deben adherir a una especificación de componentes de software como: JavaBeans, ActiveX, EJB, COM, DCOM, 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basado en componente tiene un sin número de ventajas, en lo relacionado con el tiempo y costo de desarrollo, y también en lo que respecta a la calidad del producto fi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que incorpora las recomendaciones (buenas prácticas) de la ingeniería de softwa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mucho respaldo, pero es un tanto complejo (se requiere entrenamiento par usarlo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á muy atado a UML (Unified Modeling Language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asta el momento, sólo ha demostrado ser uno má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 diferencia del resto, RUP considera la arquitectura como una pieza clave del desarro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No es demasiado fuerte para apoyar el desarrollo de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3" name="pressman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aplicable a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el primer modelo diseñado específicamente para desarrollar proyectos W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ay otros como RMM, y OOHDM que proponen alternativas a WebE, pero que vienen del lado de los sistemas hipermedi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aún no ha sido probado lo suficiente, y por ahora es sólo una buena propuest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de software debe ser guiado por un modelo, como forma de disciplinar, organizar y gerenciar l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definido por la organización y adaptado a cada proyecto en particul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s actividades que deben cumplirse en el proceso de desarrollo son básicamente las que establece el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lo suficientemente flexible como para incorporar el principio de ANTICIPACION AL CAMB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o posible debe utilizarse un desarrollo incremental, con entregas parciales al usuario (modelo evolutivo, incremental 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los productos que así lo ameriten, realizar análisis de riesgo (modelo espira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Proceso de producción de softwa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Ciclo de Vid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modelos estructurad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software muestran más claramente lo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iclos de vida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l software…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ciclo de vida </a:t>
            </a: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describe los estad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or los que pasa un producto de software, desde su concepción hasta su muer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Objetivos de un modelo de proceso estructurado (o modelo de desarrollo de software estructurado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meta de un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odelo estructurado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proceso es determinar el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orden de las etapa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componen el desarrollo y la evolución de un software, estableciendo los “criterios de transición” para progresar de una etapa a la siguien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Qué debemos hacer a continuación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(B.Bohem 1988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Beneficios de los model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Proveen de guía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 los ingenieros de software, a cerca del orden en el cual deben ser llevadas a cabo las variadas actividades técn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Dan un marc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o estructura para gerenciar, desarrollar y mantener un desarrollo, lo cual nos permite: estimar recursos, definir hitos intermedios y monitorear los progres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Anticipan y controlan el proces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para alcanzar las cualidades deseadas d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Sistematizan el proces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con el uso de estándares, metodologías y herramient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ermiten la producción de software </a:t>
            </a: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confiable, predecible y e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ción de Model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odelos de Desarrol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de &amp; Fix Model (~196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aterfall Model (~197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tionary Model (~198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ormation Model (~197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piral Model (~198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mponent Model (~199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UP (~1997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(~199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055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No basta con seleccionar un modelo genérico de desarrollo de software y tratar de adaptarse a él. Se requiere una definición más precisa de cómo se llevan a cabo las distin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odelos de Desarrollo Genér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odelos de Desarrollo Genér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ermiten un entendimiento de tipo general del proceso pero no es fácil llevarlos a un nivel de detalle más fino, lo cual es necesario para guiar el trabajo de los profesio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representan en forma precisa lo que realmente se h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odelos de Desarrollo Específ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arecen las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ctividades mayore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volucradas en el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rindan una especificación precisa del orden entre ell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blecen relaciones entre las diversas tareas, los artefactos producidos en ellas, las personas que las realizan y las herramientas utiliz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an formalismos gráficos (por ejemplo Redes de Petr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sta de 2 etapas: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odificar, eliminar errores en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ente de dificultades y deficienci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uego de una secuencia de cambios, el código era tan enredado, que eliminar errores era una tarea pesada y muy difícil de realiz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uando el desarrollo de sistemas dejó de ser una actividad personal y artesanal,  el  modelo no podía manejar la complejidad de los  sistemas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acepta la rotación de personal en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habitual en el desarrollo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7:31:38Z</dcterms:created>
  <dc:creator>Sergio Ochoa</dc:creator>
  <dc:description/>
  <dc:language>en-US</dc:language>
  <cp:lastModifiedBy>Sergio F. Ochoa</cp:lastModifiedBy>
  <cp:lastPrinted>2001-08-08T05:55:09Z</cp:lastPrinted>
  <dcterms:modified xsi:type="dcterms:W3CDTF">2005-08-04T15:33:28Z</dcterms:modified>
  <cp:revision>33</cp:revision>
  <dc:subject/>
  <dc:title>Ingeniería de Software   </dc:title>
</cp:coreProperties>
</file>