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C41-49C1-46AB-BCD1-638ACEDF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B7D-BA0B-4F59-A646-D5260D7C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0E6-DE8A-45B6-B2F5-43597B22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1F6-DFCD-40C4-BA40-B5C12319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2484-CE02-4B72-BED7-670BFB4D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84B5-0F49-42F6-A7C3-8361EA9B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553F-8CA2-4D43-B6FA-AADF66D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E80F-5168-4A63-B641-799D69D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7F88-0DCA-4AB5-86FD-7A3CAD0E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643-6101-4FA0-BCBA-4A407FF9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C51-BF87-4CEE-A3E7-0FE6EC9B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C65-314F-410F-9FDC-3FE4AD4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D091-5211-4CED-A503-728F5A9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93CD-A4D3-48F3-BD5F-CA0842E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409-D9B0-4D2E-B4B7-03F3D4EE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809-B37A-4D4A-838D-D01D0307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2964-2A26-4707-96E3-C8BEFF79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565-B4AD-4D54-BE0A-CD57BAF0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883-82D7-4D82-BA75-9E6E202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606-4E1E-452B-BAA8-514F636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26C-397A-425B-B836-16848ABD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2E7-F43A-42C2-852A-489AE649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E7F-0BAF-4458-AA01-08E5AFC0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DDF-B657-432D-BE14-6302FB8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F327-738E-46B3-A7BF-B0DCB62DB58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3D25-01CC-499D-BCE8-9463644F9C4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 - Versió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FAA1-3A3A-4C3E-845F-32FA0E2FB7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n esta etapa varía según la familiaridad de los usuarios con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s hecha por los usuarios, los ingenieros de software y hardware, el téster y el administrador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7C1-5B5F-42D3-AD88-9EC22DE6E9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arte vital de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scripción del 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especifica lo que debe hacer el software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presentar prototipos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0AA-DCF7-4784-94D7-F378ED3B85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do por los usuarios, los ingenieros de software y hard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A6B-557A-4435-9278-0F688878AA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revisar el Plan de Administración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ejores esfuerzos para tener estimaciones con errores no mayores al 3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742-50AC-4DE8-8F0A-F293E2D6EC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el de definir la estructura del software. El modelo construido en la fase SR es el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modelo es transformado en diseño arquitectónico asignando funciones a componentes de software y definiendo el control y flujo de datos 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601-9445-451E-BCCE-8EFFE1A40E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varias iteraciones 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dificultades técnicas o partes crít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confirmar las suposiciones 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A69-EC82-457D-A5D5-44D71FBFC5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AD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producido para cada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formalmente revisado por los ingenieros de hardware y de software, por los usuarios, y por el administrador del proyecto, durante el proceso de Revisión del Diseño Arquitectónic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8D0-87A3-482E-B225-6130F58C48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Plan de Administración de Proyecto de Software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estimación del costo del proyecto, apuntando a un margen de error no mayor al 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planes detallados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5AD-FCE4-4623-AFAB-10DBE48841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el de detallar el diseño del software, codificarlo, documentarlo y testea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DDD) y el Manual de Software de Usuario (SU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, se añaden sub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691-7273-4E35-AC10-EBC3D461F0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documentos están completos y, junto con el código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 realizarse las actividades de testeo unitario, de integración y de sistema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verificarse la calidad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4D3-57F9-4D7E-B987-52655A40EE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7AE-4229-4F3E-8A62-16DC365E1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3 entregables (código, DDD y SUM), deben ser revisados formalmente por los ingenieros de software y el administrador, durante el proceso de Revisión del Diseño Detallado (D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testeo de aceptación provis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819-2CE0-4C9C-A6B8-405C217F68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l de establecer que el software cumple con los requisitos 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instalando el software y realizando tests de acep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l software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4FE-5EB0-48EF-8E58-753E0845EB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STD), que documente el proceso de transferencia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FC7-B15D-44ED-82D2-5598AD6FB8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monitoreado cuidadosamente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disponibilidad, puede tomar algún tiempo validarlos. Cuando el software ha pasado todos los tests 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CA9-5498-477C-8CF4-BA832C8EC6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PHD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re-hecho al final del ciclo de vida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8E7-448B-4DB3-95ED-0C291D18FE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, o porque aparecen nuevos requisitos. A esto se le denomina mantenimien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mantener la documentación al dí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Información sobre fallas y caídas debe ser registrada para establecer datos para el establecimiento de métricas de calidad de software para proyectos sigu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D2E-062E-4A7F-9125-4C4D8B9BA3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604800" y="1752480"/>
            <a:ext cx="7912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F2C-2D78-4125-A904-0A0E14D9D29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42D-66CF-4781-A86A-CA59CFBF474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317-86D2-4962-88A1-2135CA8CFE2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1924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C07-2F31-47F2-A381-E6FCB9B5A3F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yec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softwa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 parte del ciclo de vida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 las 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roles involucrados, y los productos intermedios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AD2-E4E6-42FE-A332-7F8A64F6F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91D-E920-4D99-8E39-D1BEC1DA3CC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7D0-7E8B-4090-BAAC-5400CE39B4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1FB-6E9A-4597-9745-22CEDE2DB9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las actividad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un proyecto en fases, y define las actividades y los objetivos de cada fas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03D-86FD-4FDD-B5F3-2B5A45AE95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53B-DF0F-4993-BBCB-0B8A072C0E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CC8-C08C-46E5-9FBC-CD5F7361B2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DAA-49AE-437A-8982-392F08DBB1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itos principales de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para el testeo de aceptación provisional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384-A916-473D-8352-FD8781FA9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definición del probl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requisitos del usuario deben ser “capturad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usan entrevistas, encuestas, demos de prototipos y se recolectan formul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(UR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hacer en forma rápida y preci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fácil demorarse aquí innecesari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337-C225-4013-8FA1-346669D3D9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5-08-11T15:33:41Z</dcterms:modified>
  <cp:revision>499</cp:revision>
  <dc:subject/>
  <dc:title>CC51A</dc:title>
</cp:coreProperties>
</file>