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7488-0ACF-40E7-A113-003BAE76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721-6EA2-417C-A330-079E70BD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D16-3AB6-4BDA-86F9-BD8BE077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472-0273-489D-9F51-9E5C3F98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28E5-95E8-46A1-BEE8-CF1E9C75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7BCE-A7BD-48F8-A91B-0957FFBD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0BCB-4B39-4271-80CF-DF1D641A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2B3A-E7CE-4BCC-B1ED-8B674074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8E0D-91AA-4653-AD79-64CCCC8F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4DC4-E29D-4FCE-B7AF-33015F64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31E3-23CB-4294-8E27-42C951D0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E03-62DF-4E5A-8DCE-ED5BFE2C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A7D4-A359-4B38-8AE1-DB14D859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9C89-662B-4F97-A609-7DFFAEFE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3AA6-3493-417D-8496-2D03F4E0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D28B-EBF3-4184-8422-11DCABBF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4BB2-B843-4C1D-8435-7C7C1A8F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F0F-D220-4C37-8894-9BEA20AC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25DB-982A-4F32-BF95-266F1CE3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5E61-2CA7-4A4C-AB09-52B61C9F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7CA8-81F9-4321-AE1F-D11DF22D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C46-F698-4249-B1C3-9553F240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2E2-A956-42BB-A529-079960F1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521F-832B-41A8-A5B1-F2408CF4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F1C5-FF7E-4754-A724-28BE0758F247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F5FF-DA28-47D2-A09F-2F3999C14B36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124080"/>
            <a:ext cx="7035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Revisión del Capítulo 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Y Coordinación de Proyecto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es son los problemas de la 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se podría atacarl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2520" indent="-542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n los modelos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Para qué sirven..?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elegir el modelo de desarrollo de software para mi empr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 el estándar de la 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ndo usted aplicaría un estándar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limitaciones tienen los estánda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 es el mejor estánd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21:16:43Z</dcterms:created>
  <dc:creator>Mercedario</dc:creator>
  <dc:description/>
  <dc:language>en-US</dc:language>
  <cp:lastModifiedBy>adminsochoa</cp:lastModifiedBy>
  <dcterms:modified xsi:type="dcterms:W3CDTF">2004-08-19T13:09:39Z</dcterms:modified>
  <cp:revision>13</cp:revision>
  <dc:subject/>
  <dc:title>CC51A – Ingeniería de Software</dc:title>
</cp:coreProperties>
</file>