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D9C3-0D3C-42B7-984E-32261841DD2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8011-D73E-44B3-960B-81DCF2B2A0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AD6D-8A62-4A76-A430-F329CCDEF8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8DEB-5089-44B0-BDE2-959DAEA6489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5E2D-6492-421D-BEFE-50588267DD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E3D5-667E-428E-9DA5-BBF08ED647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F31E-D083-41E6-8E6B-BE5F678A6A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B928-288A-455E-981B-03A222DB47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98C3-5BD1-4C25-99D6-719D9580F75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15A8-2E12-4D11-BDBA-BE6083638C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A4B0-887E-43D7-A241-986198AA0E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0878-6808-4342-8C41-B5829E159C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B761-D77B-40BA-AEE3-6EB11E3BE84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6869-0A8F-4BFA-BE0B-B49B5CF4461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68DB-1EB1-4EE8-AB13-CBB109E319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B2A2-100B-4AEC-9FF8-9C3DCB1C3D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D495-FBCB-4076-BB63-1AB49492BA2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7FAF-F7C5-437C-B0DC-AFF5369B77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10FE-11C1-4FD5-A393-84BF8A9980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7359-4BFA-49E5-A65B-45A11C34DB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5808-7633-47C6-A867-F5C1B0EE2C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4933-BE88-4AD6-AFE4-13231F7FDFF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F489-33E2-4A70-987F-7B045E1705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C873-67AB-4DDA-8849-EFE62005B5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B02D-229D-4D09-ACEF-E46A2B0FEFC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754C-97D6-42EF-8A07-342EBAFDE3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5DFB-A66C-4C14-97BE-89C1EACA67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F820-7A75-4A55-9A73-8A1CF40CFE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625D-B9ED-4811-AE85-470B9203A03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B294-E4DD-4A71-A4BC-666780F2FA4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9F14-DD8E-499D-A184-2D197D048A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C013-5D78-404D-9799-14898057968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2C14-AA14-47D1-B475-C660038AC0A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26A7-57C7-439A-ACD5-E26AF14B1A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B903-7B01-43A2-9ABB-0A6FDDEA96D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233E-EF07-4500-BDC3-AFFB6A88C31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FE75-9952-4507-85A9-3B70DE1E51D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FD16-913C-4E9E-A5E0-E1FDEF0506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BBA5-4424-4440-B627-1A8A2CABD11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7419-2EE4-497B-88CB-2DDC1E0DE1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2F3C-4D6C-44C8-99BF-17F192F5ED5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3827-F9C5-4B0D-A5FC-A8B7DBC946B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58A4-5964-460B-827F-ADC65A577D0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ABFE-76DB-45D0-BE5D-F12B182A700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0120-1549-4AFA-9AAF-9ED24B8D36B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2188-F0B1-48AA-94D1-E0226470EEC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EA84-4BCB-4A07-BCA5-63B62A640EE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1AA-2339-464A-B062-1D66354B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AD1-7A5E-4D3E-8135-E611DD08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C02-7539-483F-962D-9EBF59E8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746-3144-409B-BC5E-DBE181EB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741A-0407-4A74-ACD4-C059EE7B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5CA3-3DDB-44BF-88F7-09199573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2517-EA1E-48C9-80DA-58E0AE6A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5CD0-C2D4-4F33-AAD7-84826CE9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3254-98AE-40B5-A3D9-DDA9CEC5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AFAD-A31E-4E91-9CED-300637BB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EC7E-FE2B-4B7F-ACFF-F805098B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A445-62F3-4A6F-A6CD-F23F4853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307A-6C89-4F94-8D1D-03686D3F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F62D-F2A2-4909-8AEA-63C187CA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C237-02F6-40C6-A83F-732B56BB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A435-C60C-458F-8F19-F22C010C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FF12-6AD2-4602-9C98-813AC6F8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83F-99F8-473B-A8D6-227A0B01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FAB-A516-49FD-B477-5ACBBD20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E24-F900-4723-B4A7-90821699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6312-D734-4662-BB40-E963E14E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8C4-A1AC-47AB-BDE0-F3CF8CB4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292-4575-41C5-8B6C-4B55A128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F1F-A840-4110-AB82-5AC8157D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A3B8-C2D8-46D9-8A23-37A8481B2D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C409-881E-451A-BF33-59FB145A27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useit.com/alertbox/" TargetMode="External"/><Relationship Id="rId2" Type="http://schemas.openxmlformats.org/officeDocument/2006/relationships/hyperlink" Target="http://www.useit.com/alertbox/" TargetMode="External"/><Relationship Id="rId3" Type="http://schemas.openxmlformats.org/officeDocument/2006/relationships/hyperlink" Target="http://www.useit.com/alertbox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useit.com/alertbox/9605.html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webpagesthatsuck.com/" TargetMode="External"/><Relationship Id="rId5" Type="http://schemas.openxmlformats.org/officeDocument/2006/relationships/hyperlink" Target="http://www.webpagesthatsuck.com/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dsiegel.com/tips/" TargetMode="External"/><Relationship Id="rId8" Type="http://schemas.openxmlformats.org/officeDocument/2006/relationships/hyperlink" Target="http://www.dsiegel.com/tips/" TargetMode="External"/><Relationship Id="rId9" Type="http://schemas.openxmlformats.org/officeDocument/2006/relationships/hyperlink" Target="http://www.dsiegel.com/tips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Diseñando para la Web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952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0280" y="2156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biern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006560" y="1711440"/>
          <a:ext cx="74008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1711440"/>
                    <a:ext cx="74008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0" y="5778360"/>
            <a:ext cx="914400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tegración de los organismos gubernamentale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ismas ventajas que en una empresa (Intranet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0280" y="27900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un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19160" y="1689120"/>
          <a:ext cx="73785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9160" y="1689120"/>
                    <a:ext cx="73785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5840" y="5181480"/>
            <a:ext cx="9128160" cy="144864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Radio, T.V., PushTechnologies.                   - Acceso a B.D. Históricas de las agencias de noticias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Almacenan y distribuyen la historia del mundo, en forma detallad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Información mundial al Instante (reportes del tiempo, comportamiento de los mercados, etc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86960" y="32976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ten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19440" y="1673280"/>
          <a:ext cx="63226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9440" y="1673280"/>
                    <a:ext cx="63226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15840" y="577836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cceso Instantáneo a un gran pool de Entretenimientos, sin moverse de su ca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os costos de acceso son menores (no hay viajes, varios pueden usar la misma entrada, etc)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s Web Page representan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12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ta de la Información del Usuario, sobre una pantal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dad de Naveg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rección para obtener información a través de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ositorio de Informa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ágina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s la unidad atómica que unifica a estos concep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aumenta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ntas de una Empres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ponibilidad de Productos y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lexibilidad en l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unicación entre las Perso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elocidad de acceso a los Recurs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gración con los sistemas ya exist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mportancia del Diseño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 buen diseño en Web permite 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isminui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irculación de Pape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en Comunica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os de Personal (uso de agente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stricciones de Uso (sólo se necesita un browser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para la Usabilidad de las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ítulo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Tamaño y el Color del Tex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Estructuración de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s Suposiciones hech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la Retroalimentación que brin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visar el Formato y Distribución de las Imáge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er la Coherencia en todas las Pág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654520"/>
            <a:ext cx="8318520" cy="95112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ndo estas variables, mis páginas van a ser las amigable para el usuario, más usables e intuitiv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ítulos en Páginas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98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ítulo debe ser representativ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el usuario, y arañas (search engine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 tener suficient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guíar la navegación del usuario en forma preci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ítulos largos cansan a los usuari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ar información abreviada y representativa, por ej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y Company - Home page” vs. “Welcome to My ...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áginas diferentes -&gt; títulos difere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maño del Texto y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95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la combinación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Azu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Roj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uchas combinaciones “Tamaño / Font” distint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eptable en frases pequeñ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s recomendable en párrafos o unidades de texto mayo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que desorient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sa la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queda claro qué se intenta comunicar con ese contra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507960" y="5654520"/>
            <a:ext cx="83440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porque haya muchos recursos (tamaño, estilo y color) disponibles, debo usar a to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jorar los Preview (Thumbnail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985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umbnails (previews de imáge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estran el preview de una imagen (generalmente grand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chic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o escalar no funcionan bi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993600" y="4014720"/>
            <a:ext cx="6384960" cy="2619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roducción a Interne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ortancia del Diseño en l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istas para mejorar la Usabil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gunas Herramientas: Animaciones, Frames, y Link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10 errores típicos del diseño para Web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9800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altar lo Relevante Reduciendo las Imáge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18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mero recortar y luego escal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j.: para lograr una imagen que es el 10% del original,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rtar el 32% (más relevante) de la imag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uego escalar un 32% (reduci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32 * .32 = .1 del origi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lance entre detalle y contex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036880" y="4894200"/>
            <a:ext cx="4570200" cy="136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 Haga Suposic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880" y="1828800"/>
            <a:ext cx="811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rows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usan diferentes programas como browsers, y también diferentes versiones de ell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scape, Explorer, Lynx, Opera, Mozilla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amaño de las Venta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todos los usuarios usan el tamaño por defecto que tienen de ventanas (por gusto o por restricciones de su monito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ya al grano, con los tex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% más lenta es la lectura en una pantalla de computadora, respecto de un texto impr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palabrerío cansa a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criba pensando en Escanea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escanean la información de las páginas web, y sólo leen lo que les inte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tructure la información con 2 o 3 niveles de títul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encabezados representativos y resalt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critura en la Web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1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hipertexto para estructurar la infor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a la información en módulos coherentes sobre tópicos relacion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el estilo de pirámide invertida (muestre primero las conclusion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s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roalimentación (Feedbac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apunta a un objeto muy grande (imagen, video, o pág. HTML), indique en el link el tamaño del mismo (entre paréntesi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amaño de las pis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nga el tamaño de la imagen en el tag IMG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rar la estructura de la página, antes de que lleguen todas las imáge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La Coherencia en las páginas de un site permi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avegación intuitiv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mostrar al site como un to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ntegrar el contenido y las herramientas. presentad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identificar las páginas de una empresa sin necesidad de leer el contenido (publicidad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ublicitar “un estilo”, al interior de la empresa (en el caso de intranet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1360" y="240840"/>
            <a:ext cx="765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la Gran Ausen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795320" y="1612800"/>
          <a:ext cx="5694480" cy="49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5320" y="1612800"/>
                    <a:ext cx="56944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La </a:t>
            </a:r>
            <a:r>
              <a:rPr b="1" lang="es-ES" sz="4400" spc="-1" strike="noStrike">
                <a:solidFill>
                  <a:srgbClr val="660066"/>
                </a:solidFill>
                <a:latin typeface="Tahoma"/>
              </a:rPr>
              <a:t>Coherencia:</a:t>
            </a: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 Gran Ausente (con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3756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olucion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tyle Sheet (Hojas de Estilo): Disponibles a partir de HTML 3.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….. CSS (Cascading Style Shee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tenciado en XML 1.0….. XSL (eXtensible Stylesheet Languag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77600" y="1828800"/>
            <a:ext cx="821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udio a cerca de la Usabilidad: se estudiaron los 9 mejores web si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luyendo CNN, Disney, HP, Fidelity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 realizaron empresas independ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os obteni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cenas de horas de observa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 tuvo en cuenta la composición de los sites, a la hora de realizar los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18640" y="1697040"/>
            <a:ext cx="7985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ngún site fue muy buen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as mal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home pages dan poca información acerca del contenido total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páginas “legibles” fueron menos efec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no leen, ojea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oraciones bien formadas pueden ocultar información clav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660320"/>
            <a:ext cx="789948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red Internet o super-red, interconecta a la mayor parte del plane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illones de usuarios (y clientes potenciales) acceden diariamente a ell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cada vez se hace más necesaria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Internet plantea un nuevo escenario para el desarrollo de aplicacion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86200" y="4114800"/>
          <a:ext cx="23623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114800"/>
                    <a:ext cx="23623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536400" y="4917960"/>
            <a:ext cx="8293320" cy="144864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mundial a bajo costo                  - Millones de colaboradores, clientes, etc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positorio mundial de información                  - Acceso a servicios en lugares remo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yores capacidades de exportar o importar   - Globalización del mundo ......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828800"/>
            <a:ext cx="819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tiempo de “download” no fue un tema importa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e detectó correlación entre demora y frust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diseño gráfico tuvo poco ef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navegación debe estar integrada al conten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no, el usuario encuentra al site “poco usable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parar el contenido del diseño (estruc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olación del “protocolo de ventas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“humano - humano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da información personal, sólo si compr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tuación estándar basada en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l usuario tiene que dar la información personal primero, si quiere compr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violación de este protocolo, muchas veces auyenta a los posibles client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lgunas Herramient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 diseño de páginas web usables, no pasa por utilizar un cierto editor o herramienta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.. Pasa por hacer un uso adecuado de los recursos disponibles, como por ejemp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áge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tc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i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14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n buenas para llamar la ate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no deben ser continuas (usar estados rotativ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velocidad de animación debe ser baj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rios Fastidi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animaciones hacen más difícil la lectu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ae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tiles para distribui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y usadas en páginas comercia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919160" y="1865160"/>
            <a:ext cx="5327640" cy="38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965240" y="1832040"/>
            <a:ext cx="5276880" cy="445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ultados Empírico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am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son malos, pero..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ntenga el esquema de frames en todas las págin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abuse de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ice la necesidad o no de las barras de scroll, para cada fram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 usuario no le gustan los links cor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If you click on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neyla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will you get a map of the park? Ticket Information, etc?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links largos atraen a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.: “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ow to Read the Pricing and Rating Listing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ric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ow to Read Pricing &amp; Rating Listings)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usar links embebidos en párraf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n más difícil la búsqueda de infor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 una sensación de “información incompleta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ink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dentro de las pági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scroll de las páginas puede ocultar línks útiles para el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ga páginas cortas para evitar lo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links circulares causan confusión al usu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enos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54200" y="1666800"/>
            <a:ext cx="5759280" cy="433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Típicas de Interne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25400" y="1547280"/>
            <a:ext cx="5064120" cy="471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ros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o fundamentalmente: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“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 WEB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en Diseño para Web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28400" y="2919240"/>
            <a:ext cx="6840360" cy="20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 Nielsen: “Heuristic Evaluation”.          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www.useit.com/alertbox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82400" y="240840"/>
            <a:ext cx="848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os 10 Errores Típicos del Diseño par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0. Grandes Tiempos de Descarga (downlo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9. Información Desactualiz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Colores y Consist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Navegación Inadecuada (no hay diseño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Páginas Demasiado Gran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Páginas Huérfa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URLs Complej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Abuso de Anim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Mecanismos para Atracción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Uso Inapropiado de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0. Grandes Tiempos de Descarga (downlo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regla de los 10 segun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empo máximo de espera antes de que el usuario comience a perder interés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 un factor humano muy estudiad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sta 15 segundos son aceptables en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s personas se acostumbran a soportar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sólo en páginas importa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redes han mejorado su velocidad, pero también la cantidad de usuarios se ha increment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peso de las páginas web no se ha reduci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9. Información Desactualiza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Web es como un gran jardín, dónde usted es el jardiner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y que arrancar la maleza y dejar las flores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mayoría de las personas crean contenidos, pero no los mantienen actualizado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volumen de basura en la Web crece más rápidamente que el de la información úti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un link es aún relevante, manténgal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 otro caso, quíte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8. Link con Colores no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no revisadas están en </a:t>
            </a:r>
            <a:r>
              <a:rPr b="0" lang="en-US" sz="2400" spc="-1" strike="noStrike">
                <a:solidFill>
                  <a:srgbClr val="0066ff"/>
                </a:solidFill>
                <a:latin typeface="Tahoma"/>
              </a:rPr>
              <a:t>Azu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s a páginas revisadas están en </a:t>
            </a:r>
            <a:r>
              <a:rPr b="0" lang="en-US" sz="2400" spc="-1" strike="noStrike">
                <a:solidFill>
                  <a:srgbClr val="cc00ff"/>
                </a:solidFill>
                <a:latin typeface="Tahoma"/>
              </a:rPr>
              <a:t>púrpu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o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cambie estos col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s una de las pocas ayudas para la navegación, que funcionan en casi todos los brows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onsistencia es importante para el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ubraye objetos con rojo/azul/púrpura, pueden confundirse con un lin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3429000"/>
            <a:ext cx="75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muestre cosas que parecen botones, a menos que efectivamente sea un botó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istenc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2944800" y="1841400"/>
            <a:ext cx="3240000" cy="11988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2822400" y="631440"/>
            <a:ext cx="4810320" cy="3386520"/>
            <a:chOff x="2822400" y="631440"/>
            <a:chExt cx="4810320" cy="3386520"/>
          </a:xfrm>
        </p:grpSpPr>
        <p:grpSp>
          <p:nvGrpSpPr>
            <p:cNvPr id="334" name=""/>
            <p:cNvGrpSpPr/>
            <p:nvPr/>
          </p:nvGrpSpPr>
          <p:grpSpPr>
            <a:xfrm>
              <a:off x="2822400" y="631440"/>
              <a:ext cx="3564720" cy="3386520"/>
              <a:chOff x="2822400" y="631440"/>
              <a:chExt cx="3564720" cy="3386520"/>
            </a:xfrm>
          </p:grpSpPr>
          <p:sp>
            <p:nvSpPr>
              <p:cNvPr id="335" name=""/>
              <p:cNvSpPr/>
              <p:nvPr/>
            </p:nvSpPr>
            <p:spPr>
              <a:xfrm>
                <a:off x="2886120" y="1657440"/>
                <a:ext cx="340344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8330400">
                <a:off x="2902680" y="1563480"/>
                <a:ext cx="3403800" cy="1522440"/>
              </a:xfrm>
              <a:custGeom>
                <a:avLst/>
                <a:gdLst/>
                <a:ahLst/>
                <a:rect l="l" t="t" r="r" b="b"/>
                <a:pathLst>
                  <a:path w="1888" h="851">
                    <a:moveTo>
                      <a:pt x="0" y="0"/>
                    </a:moveTo>
                    <a:cubicBezTo>
                      <a:pt x="61" y="102"/>
                      <a:pt x="251" y="123"/>
                      <a:pt x="345" y="153"/>
                    </a:cubicBezTo>
                    <a:cubicBezTo>
                      <a:pt x="531" y="211"/>
                      <a:pt x="721" y="260"/>
                      <a:pt x="909" y="313"/>
                    </a:cubicBezTo>
                    <a:cubicBezTo>
                      <a:pt x="973" y="331"/>
                      <a:pt x="1042" y="334"/>
                      <a:pt x="1101" y="364"/>
                    </a:cubicBezTo>
                    <a:cubicBezTo>
                      <a:pt x="1186" y="408"/>
                      <a:pt x="1263" y="427"/>
                      <a:pt x="1357" y="448"/>
                    </a:cubicBezTo>
                    <a:cubicBezTo>
                      <a:pt x="1413" y="483"/>
                      <a:pt x="1469" y="518"/>
                      <a:pt x="1523" y="556"/>
                    </a:cubicBezTo>
                    <a:cubicBezTo>
                      <a:pt x="1533" y="563"/>
                      <a:pt x="1545" y="568"/>
                      <a:pt x="1555" y="576"/>
                    </a:cubicBezTo>
                    <a:cubicBezTo>
                      <a:pt x="1569" y="587"/>
                      <a:pt x="1593" y="614"/>
                      <a:pt x="1593" y="614"/>
                    </a:cubicBezTo>
                    <a:cubicBezTo>
                      <a:pt x="1626" y="704"/>
                      <a:pt x="1694" y="751"/>
                      <a:pt x="1773" y="800"/>
                    </a:cubicBezTo>
                    <a:cubicBezTo>
                      <a:pt x="1797" y="815"/>
                      <a:pt x="1822" y="830"/>
                      <a:pt x="1849" y="838"/>
                    </a:cubicBezTo>
                    <a:cubicBezTo>
                      <a:pt x="1862" y="842"/>
                      <a:pt x="1888" y="851"/>
                      <a:pt x="1888" y="851"/>
                    </a:cubicBezTo>
                  </a:path>
                </a:pathLst>
              </a:custGeom>
              <a:noFill/>
              <a:ln w="57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391440" y="1847880"/>
              <a:ext cx="1241280" cy="520560"/>
              <a:chOff x="6391440" y="1847880"/>
              <a:chExt cx="1241280" cy="520560"/>
            </a:xfrm>
          </p:grpSpPr>
          <p:sp>
            <p:nvSpPr>
              <p:cNvPr id="338" name=""/>
              <p:cNvSpPr/>
              <p:nvPr/>
            </p:nvSpPr>
            <p:spPr>
              <a:xfrm>
                <a:off x="6708240" y="1847880"/>
                <a:ext cx="924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b2b2b2"/>
                    </a:solidFill>
                    <a:latin typeface="SigLisa"/>
                  </a:rPr>
                  <a:t>Bad!</a:t>
                </a:r>
                <a:endParaRPr b="0" lang="en-US" sz="2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6391440" y="2041560"/>
                <a:ext cx="272880" cy="82440"/>
              </a:xfrm>
              <a:prstGeom prst="line">
                <a:avLst/>
              </a:prstGeom>
              <a:ln w="38160">
                <a:solidFill>
                  <a:srgbClr val="b2b2b2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7. Navegación Inadecuada (no hay diseño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o conoce su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iene dificultad para encontrar inform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hay un camino claro para obtener la información (algún tipo de estruc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r la estructura del Si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un mapa del site (subliminal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usuario sabrá dónde está y a dónde quiere 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veer alguna herramienta de búsque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l mejor soporte para la navegación, nunca será sufic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Ser Peor Que Es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94532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6. Páginas Demasiado Grandes (larg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ólo el 10% de los usuarios usan la barra de scroll para revisar las partes no visibles en la presentación inicial de la págin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s cosas importantes y la estructura de navegación de la página debería estar siempre en la parte más alt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 nodos “hoja” pueden ser un poco más larg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personas interesadas en ellos, los leerá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o, no abuse con e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é Podría Estar Mal Aquí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71720" y="2314440"/>
            <a:ext cx="7419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ciones a partir de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301480" y="1587240"/>
            <a:ext cx="488628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u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ercio Electróni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ión Empresar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bi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un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tretenimien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tc..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. Páginas Huérf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 todas las páginas debería indicarse el Web Site al que percenec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podrían accederlas a través de un link extern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da página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 link al home pag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a indicación del lugar que ocupa, dentro de la estructura del si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. URLs Complej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debe incluir direcciones (IP) de máqui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usuarios tratan de decodificar el URL de la pági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 inferir la estructura del Web S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 pierde el soporte para la navegación y el sentido de la ubicación dentro del si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URLs deberían ser legibles para las person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nombres usados en cada URL deberían ser representar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deben incluir caracteres especiales, ni combinaciones Mayúscula/Minúcul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3. Animaciones Permanen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use movimiento permanente en las animacion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captura de movimiento tiene un poder especial dentro del sistema de percepción humano, úselo adecu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usuario necesita tranquilidad para asimilar la información que ud. pretende entregar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 &lt;BLINK&gt; es simplemente MA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. Mecanismos de Atracción de Usuarios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1840" y="1676520"/>
            <a:ext cx="8282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mienta respecto a lo que ofrece y/o regal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 intente atraer a la muchedumbre, el costo asociado es muy alto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 su sistema se cae mientras consultan, los usuarios nunca regresará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r Advertencias, en caso de ser necesar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r ej.: el software es de prueba, y vencerá su licencia de uso en 30 dí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1. Uso de Inapropiado de Fra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eden confundir a los usuar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mpe el modelo de página Web que tiene el usuar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s acciones del usuario pierden predictibilid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¿quién sabe qué información aparecerá dónde, cu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 usted hace un click en un lin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?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frames deben ser a lo más t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en usarse para reflejar la estructu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 estructura dada, debe respetarse en todas las páginas, en forma consist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o inapropiado de Frames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5960" y="1752120"/>
            <a:ext cx="822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motores de búsqueda tienen problemas con la información en los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unos estudios encontraron que la mayoría de los usuarios prefieren los sites sin fram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dvertenc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diseñadores muy experimentados pueden (algunas veces) usar frames para mejorar el impacto de una página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ero debe usarlos tan económicamente com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 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osibl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2916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532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emos avanzado mucho, la construcción de sistemas para Internet aún está verde..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ndamentalmente en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todologías de apoyo al desarroll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erramientas de Construcción (especialmente dis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adurez de las tecnologías involucradas (representación de datos, seguridad, privacidad, etc.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iseñar para la web no es fácil, pero hay que abordar este desafío lo antes posible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.. con respecto a esto, no hay alternativa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net tal como la conocemos ahora, no durará mucho. Sin e</a:t>
            </a:r>
            <a:r>
              <a:rPr b="0" lang="es-ES_tradnl" sz="2300" spc="-1" strike="noStrike">
                <a:solidFill>
                  <a:srgbClr val="40458c"/>
                </a:solidFill>
                <a:latin typeface="Tahoma"/>
              </a:rPr>
              <a:t>mbrago, es de esperar que los conceptos se mantengan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ielsen’s top 10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useit.com/alertbox/9605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pages that suc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http://www.webpagesthatsuck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 tips for design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http: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www.dsiegel.com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/tips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r Interface Enginee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http://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</a:rPr>
              <a:t>www.uie.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31716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ducación en la Web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1638000"/>
            <a:ext cx="79851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n aparecido muchas herramientas para impartir conocimientos a través de la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893960" y="2644920"/>
          <a:ext cx="5253120" cy="37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3960" y="2644920"/>
                    <a:ext cx="5253120" cy="37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3800" y="5908680"/>
            <a:ext cx="5384880" cy="70776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do del arte en el mercado de Educación a Distanci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ercio Electrón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677960" y="1646280"/>
          <a:ext cx="6031080" cy="48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646280"/>
                    <a:ext cx="603108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55800" y="5527800"/>
            <a:ext cx="7912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24 hs y 365 días al año vendiendo sin empleados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- millones de potenciales clientes.                - Se requiere muy poca infraestructur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gur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70000" y="1692360"/>
          <a:ext cx="72118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92360"/>
                    <a:ext cx="72118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536400" y="5667480"/>
            <a:ext cx="8344080" cy="1078200"/>
          </a:xfrm>
          <a:prstGeom prst="rect">
            <a:avLst/>
          </a:prstGeom>
          <a:solidFill>
            <a:srgbClr val="fcfdc6"/>
          </a:solidFill>
          <a:ln w="1260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cía, Aduana, Ejército, Agencias de Investigaciones, etc.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municación barata, fácil y rápida.      - Capacidades de audio, video, imágenes y text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6960" y="240840"/>
            <a:ext cx="797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stión Empresarial (Intranet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77960" y="1704960"/>
          <a:ext cx="761832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704960"/>
                    <a:ext cx="761832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15840" y="6145200"/>
            <a:ext cx="9128160" cy="1078200"/>
          </a:xfrm>
          <a:prstGeom prst="rect">
            <a:avLst/>
          </a:prstGeom>
          <a:solidFill>
            <a:srgbClr val="fcfdc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hoa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ndependencia del puesto de trabajo, S.O., Aplicación Cliente  - Mejores canales de comun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irculación de documentos electrónicos en vez de papel          - Aumento de la eficienci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8:49Z</dcterms:created>
  <dc:creator>sochoa</dc:creator>
  <dc:description/>
  <dc:language>en-US</dc:language>
  <cp:lastModifiedBy>Sergio F. Ochoa</cp:lastModifiedBy>
  <cp:lastPrinted>2000-04-26T16:56:46Z</cp:lastPrinted>
  <dcterms:modified xsi:type="dcterms:W3CDTF">2005-05-12T15:31:58Z</dcterms:modified>
  <cp:revision>67</cp:revision>
  <dc:subject/>
  <dc:title>Diseñando para la Web (#1)</dc:title>
</cp:coreProperties>
</file>